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872-901B-41EA-B6DD-DD0BDC4D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C75-279A-49AC-B63B-6AA6251D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3C9-A3D5-4C9B-8645-F2B64913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7F4-2D92-49BF-B27A-A75A16B7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092B-6770-4EC1-9179-BC1A7F3A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B3F-B9D8-42F4-9546-D7A034CC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3010-1FCE-47CA-AFEE-D64D0907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13A-3EE3-4475-BA50-A55938A2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FE65-17E5-47AB-BE81-5C36D4CA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8087-EAEF-4080-8F14-FC01038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FAE0-9D04-4B41-804F-9C3330E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C0E-06F3-497F-8E45-04726140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FF13-E43B-4145-B437-D5F7B222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A50F-1EA7-4BFF-9670-B9E2624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1BE2-8A02-4E78-AC03-139FC66D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D055-1DDF-4408-970E-A7B7C511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D237-E8BC-49DD-9E80-848153D1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2F50-EC59-4EC1-866D-5B7D5E7F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A7027-CF7B-4124-A018-F481D5E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1DEB3-7641-4445-9058-33730910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5F2C-A581-4DCB-9F78-304699AA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474E-DD9E-4C1D-8146-89F2C62C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730-476A-4517-8DBA-929A2F9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0EDA-4655-43EF-BA94-D3FFB5CF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318EB-8C58-4CF4-A872-F2AE2E4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BE0FB-22D8-443F-B927-71571AD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031E-AEA7-454F-9617-E61713A9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0D27-0AC4-4AAB-AF96-E0B96595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6222-C6A0-4FDB-9453-435817C7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8736E-BB33-4B30-9328-A0FBEE48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C85-6AD2-4ED9-9918-9EBBD06B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6F6-28D6-41D7-B5C4-15F0D751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DCE-D591-4322-BF34-5BB0F4E1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F9E-35AD-47A3-B722-6CC00AC7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98F-D716-4431-A395-5C545FB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F32-7DC6-4956-BE00-2C860E64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3075-19D2-410C-984D-F8F2AE0585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D8A-8FB8-41CB-BF3B-A6EBC8B632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7f7d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94C-C4B5-4AA9-81EB-1C41511884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Times New Roman"/>
              </a:rPr>
              <a:t>Виды текстов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знаем виды текстов по цели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учимся распозна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dis16"/>
          <p:cNvPicPr/>
          <p:nvPr/>
        </p:nvPicPr>
        <p:blipFill>
          <a:blip r:embed="rId1"/>
          <a:stretch/>
        </p:blipFill>
        <p:spPr>
          <a:xfrm>
            <a:off x="7162920" y="3809880"/>
            <a:ext cx="1523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34360" y="1143000"/>
            <a:ext cx="868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зовите виды текстов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На какие вопросы они отвечают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2209680" y="4343400"/>
            <a:ext cx="4724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4" descr="36_2_47"/>
          <p:cNvPicPr/>
          <p:nvPr/>
        </p:nvPicPr>
        <p:blipFill>
          <a:blip r:embed="rId1"/>
          <a:stretch/>
        </p:blipFill>
        <p:spPr>
          <a:xfrm>
            <a:off x="4038480" y="502920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14400" y="2590920"/>
            <a:ext cx="523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00200" y="114300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320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2000" y="2743200"/>
            <a:ext cx="519120" cy="8251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727360" y="125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95280" y="160020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83400" y="2666880"/>
            <a:ext cx="519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03000" y="1235160"/>
            <a:ext cx="7319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гров.   Почему   такие   силь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b3"/>
          <p:cNvPicPr/>
          <p:nvPr/>
        </p:nvPicPr>
        <p:blipFill>
          <a:blip r:embed="rId1"/>
          <a:stretch/>
        </p:blipFill>
        <p:spPr>
          <a:xfrm>
            <a:off x="2514600" y="27432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514600" y="9828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993300"/>
                </a:solidFill>
                <a:latin typeface="Arial"/>
              </a:rPr>
              <a:t>Х</a:t>
            </a:r>
            <a:r>
              <a:rPr b="1" lang="ru-RU" sz="8000" spc="-1" strike="noStrike">
                <a:solidFill>
                  <a:srgbClr val="993300"/>
                </a:solidFill>
                <a:latin typeface="Arial"/>
              </a:rPr>
              <a:t> Л Е Б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01320" y="304920"/>
            <a:ext cx="617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равните эти текст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7320" y="1192320"/>
            <a:ext cx="71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щего у этих текстов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12920" y="1954080"/>
            <a:ext cx="809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 каком тексте говорится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 признаках этого предмет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мы можем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видеть причины,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рассуждения, доказательств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 каком тексте говорится 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обытиях и действиях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228600" y="914400"/>
            <a:ext cx="397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я был в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Чего   они    только    н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ывали! Сначала вставал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дние лапы, потом прыгал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умбы на тумбу и даже чере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ящие  кольца.  А   в   конц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 положил    все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  в  ряд  и  ходил  по  ним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 ступенькам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0" y="1676520"/>
            <a:ext cx="437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я  был  в   цирке  и  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 Какие    они   красивые   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льные! Шкура  у  них  полосата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ая, глаза горят  зелёным  огнём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пы упругие. А когда тигры рычат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ны белые клы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9640" y="4191120"/>
            <a:ext cx="419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чера   я  был  в  цирке и виде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гров.   Почему   такие   силь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ери слушаются дрессировщик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, потому  что    человек    и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 боится?    Или    потому      ч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сировщик  заботится  о   них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 вы думаете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814760" y="34452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615360" y="11066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177080" y="3621240"/>
            <a:ext cx="34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032800" y="22096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747520" y="49528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08520" y="182880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609480" y="533520"/>
            <a:ext cx="3200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описа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533520" y="2743200"/>
            <a:ext cx="3733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рассуж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33520" y="4952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- сообщ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5029200" y="380880"/>
            <a:ext cx="3733920" cy="914400"/>
          </a:xfrm>
          <a:prstGeom prst="wedgeRoundRectCallout">
            <a:avLst>
              <a:gd name="adj1" fmla="val -80444"/>
              <a:gd name="adj2" fmla="val -171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05520" y="5335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акой предмет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5105520" y="2743200"/>
            <a:ext cx="2895480" cy="1066680"/>
          </a:xfrm>
          <a:prstGeom prst="wedgeRoundRectCallout">
            <a:avLst>
              <a:gd name="adj1" fmla="val -77083"/>
              <a:gd name="adj2" fmla="val -5208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4952880" y="5410080"/>
            <a:ext cx="3810240" cy="990720"/>
          </a:xfrm>
          <a:prstGeom prst="wedgeRoundRectCallout">
            <a:avLst>
              <a:gd name="adj1" fmla="val -73291"/>
              <a:gd name="adj2" fmla="val -56412"/>
              <a:gd name="adj3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627520" y="288432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чему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415480" y="556272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Что произошл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228600" y="1295280"/>
            <a:ext cx="848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 бята,      вес…ло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быстр…,       вдру…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ф…милия, т…варищ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…бочий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14400" y="1295280"/>
            <a:ext cx="5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402600" y="12952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821320" y="22096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164720" y="2209680"/>
            <a:ext cx="49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92520" y="31240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107320" y="312408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916200" y="4038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3" descr="dis16"/>
          <p:cNvPicPr/>
          <p:nvPr/>
        </p:nvPicPr>
        <p:blipFill>
          <a:blip r:embed="rId1"/>
          <a:stretch/>
        </p:blipFill>
        <p:spPr>
          <a:xfrm>
            <a:off x="6019920" y="4419720"/>
            <a:ext cx="1523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7:17:3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