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5E6-D81F-4379-925E-D1776B37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6E1-1CA5-4C2A-BB21-FF2D0DA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F8A-9C4C-42E2-9D02-87AF1BF7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AF3-4E7C-4B47-A16C-05B1B4AB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CE8C-EAEE-402B-9286-C21C7985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85C2-E586-4030-BCC6-FD752C5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B8B6-869B-49C6-9CDB-08AB5954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420-66AC-451E-9E80-E2FBBB53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1552-F42A-48A9-B4B7-C5DDB68F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7CDE-A007-4C0E-A1F2-64DDD17A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1496-623B-42A2-AF3D-136B51D8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ACD-79A3-4E94-89E1-76D10AC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B5FA-7914-4CC1-AAF8-B8332BB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C313-7CC2-43ED-80B3-1E9695B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048E-5392-4512-8474-60D3D3A2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2464-F314-4FEF-8EDC-1E5F494E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DEA7-A4AF-44F8-B816-F6628130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BA3E-3721-456D-B64B-6D2D0EC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8BE7-54F8-416A-AB93-0D43FDA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81B4-E569-4F59-9551-9CA57336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333F-8D8B-469F-AD95-50EBCCF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98B10-2AC5-48AC-95C7-0C545593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728-AC6A-40AF-934E-36BCA39C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BB8A-274F-4C08-BF10-AE4CC833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48E5-AC5D-4372-8767-7D20DBA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B581-D40E-41F9-A43E-010F534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84C3-DEDB-4A0F-AA2C-1A73F9B0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A3CD-BE1F-4B3B-B3A2-434C8F93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62BA8-5745-4C82-AE31-7CE1E3CB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C34C-AE24-4A6F-B827-EAB64F1A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BEB-E07D-4676-ACFB-82170B2D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1ED-3ED5-4D0F-BDEF-D3950ACE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83C-4A31-4799-B978-6AB2EA07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82C-FC0D-4B18-A11F-C98A8DC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F13-3949-4CCA-8A36-2804451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3866-46EE-4F6F-AA9E-21ADB11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6B4C-E6DD-48A9-8767-8F1CB9288F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77D-E0FA-40C1-9283-46A86CA530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2D4-22CB-4703-9A1D-C95E230A8B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Виды текстов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ем виды текстов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учимся распозн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dis16"/>
          <p:cNvPicPr/>
          <p:nvPr/>
        </p:nvPicPr>
        <p:blipFill>
          <a:blip r:embed="rId1"/>
          <a:stretch/>
        </p:blipFill>
        <p:spPr>
          <a:xfrm>
            <a:off x="7162920" y="38098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34360" y="1143000"/>
            <a:ext cx="868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зовите виды текстов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 какие вопросы они отвечаю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209680" y="4343400"/>
            <a:ext cx="472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4" descr="36_2_47"/>
          <p:cNvPicPr/>
          <p:nvPr/>
        </p:nvPicPr>
        <p:blipFill>
          <a:blip r:embed="rId1"/>
          <a:stretch/>
        </p:blipFill>
        <p:spPr>
          <a:xfrm>
            <a:off x="4038480" y="502920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2590920"/>
            <a:ext cx="523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114300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32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2000" y="2743200"/>
            <a:ext cx="519120" cy="825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7273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95280" y="1600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3400" y="266688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03000" y="1235160"/>
            <a:ext cx="731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Почему   такие   силь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b3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514600" y="9828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8000" spc="-1" strike="noStrike">
                <a:solidFill>
                  <a:srgbClr val="993300"/>
                </a:solidFill>
                <a:latin typeface="Arial"/>
              </a:rPr>
              <a:t> Л Е 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01320" y="304920"/>
            <a:ext cx="61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равните эти текст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7320" y="1192320"/>
            <a:ext cx="71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щего у этих текст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12920" y="1954080"/>
            <a:ext cx="809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 каком тексте говоритс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 признаках этого предмет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мы може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видеть причины,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ссуждения, доказательств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говорится 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ытиях и действиях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914400"/>
            <a:ext cx="39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0" y="1676520"/>
            <a:ext cx="43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9640" y="4191120"/>
            <a:ext cx="41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Почему   такие   силь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814760" y="34452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615360" y="11066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177080" y="36212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032800" y="22096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47520" y="49528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08520" y="18288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09480" y="53352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33520" y="2743200"/>
            <a:ext cx="3733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3520" y="4952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5029200" y="380880"/>
            <a:ext cx="3733920" cy="914400"/>
          </a:xfrm>
          <a:prstGeom prst="wedgeRoundRectCallout">
            <a:avLst>
              <a:gd name="adj1" fmla="val -80444"/>
              <a:gd name="adj2" fmla="val -171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05520" y="5335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кой предмет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5105520" y="2743200"/>
            <a:ext cx="2895480" cy="1066680"/>
          </a:xfrm>
          <a:prstGeom prst="wedgeRoundRectCallout">
            <a:avLst>
              <a:gd name="adj1" fmla="val -77083"/>
              <a:gd name="adj2" fmla="val -5208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4952880" y="5410080"/>
            <a:ext cx="3810240" cy="990720"/>
          </a:xfrm>
          <a:prstGeom prst="wedgeRoundRectCallout">
            <a:avLst>
              <a:gd name="adj1" fmla="val -73291"/>
              <a:gd name="adj2" fmla="val -56412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27520" y="288432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ему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415480" y="55627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то произошл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28600" y="1295280"/>
            <a:ext cx="848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 бята,      вес…ло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быстр…,       вдру…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ф…милия, т…варищ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бочий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14400" y="129528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260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21320" y="22096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164720" y="220968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92520" y="3124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107320" y="31240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16200" y="4038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dis16"/>
          <p:cNvPicPr/>
          <p:nvPr/>
        </p:nvPicPr>
        <p:blipFill>
          <a:blip r:embed="rId1"/>
          <a:stretch/>
        </p:blipFill>
        <p:spPr>
          <a:xfrm>
            <a:off x="6019920" y="4419720"/>
            <a:ext cx="1523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17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