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22C-010C-434B-9031-F01EE82F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5BB-EE0C-4B32-9060-D0FE10A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55E-EA06-46CD-9A44-9198DB32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10A-AB52-4756-8379-ABA58F34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3294-25FE-4745-B947-7034CFD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FB4-B00C-49C1-B3C8-5883362C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DF13-6896-4293-81B8-D63729C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714-D44F-4820-99E5-DDFE1994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60EA-7AEE-49E1-BA52-FAF9E7C0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ED1D-E22E-4BC1-8846-17132B4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503-4A33-4428-82BC-DFFED00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0B5-B85A-48B6-B9DB-4103F00F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C91-8A16-4CFC-87F0-05509F5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712-C41A-4C86-9718-DF34E0B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F8ED-32D5-431A-B11E-8E3839F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A105-23CB-4DD8-B3A9-1BD4EBDD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A526-0B5B-40FA-9CC1-6BD78343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631-A525-4873-A9A6-E4B182D6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5FE-1190-4944-981A-77D8629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7D8-4F9D-40CF-841B-7D51DCE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677-1885-43E5-8C62-73F6514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01A-5870-499C-844A-23A6F78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300-F048-4CF3-9452-F9BA29E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040-CA1E-43AB-9DDC-12F66F2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E944-11AD-400B-877E-C6F510A32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03A-905D-4F5C-8315-FF4F27C82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search?hl=ru&amp;sugexp=pchatac&amp;gs_rn=1&amp;gs_ri=hp&amp;cp=36&amp;gs_id=40&amp;xhr=t&amp;q" TargetMode="External"/><Relationship Id="rId2" Type="http://schemas.openxmlformats.org/officeDocument/2006/relationships/hyperlink" Target="http://www.wikikids.ru/ekologiya-rastenii/pervotsvet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авайте познакомимс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(Первоцветы нашего края)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14800" y="3499920"/>
            <a:ext cx="311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вленко Григо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 2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Луговской СО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39"/>
          <p:cNvPicPr/>
          <p:nvPr/>
        </p:nvPicPr>
        <p:blipFill>
          <a:blip r:embed="rId1"/>
          <a:stretch/>
        </p:blipFill>
        <p:spPr>
          <a:xfrm>
            <a:off x="6429240" y="2571840"/>
            <a:ext cx="231480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rt1643_0"/>
          <p:cNvPicPr/>
          <p:nvPr/>
        </p:nvPicPr>
        <p:blipFill>
          <a:blip r:embed="rId2"/>
          <a:stretch/>
        </p:blipFill>
        <p:spPr>
          <a:xfrm>
            <a:off x="324000" y="3789360"/>
            <a:ext cx="1795320" cy="2427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286080" y="5105520"/>
            <a:ext cx="3643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кова О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Луговской С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оцвет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4000" y="1412640"/>
            <a:ext cx="5122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ет в светлых лесах, на полянах, в лугах. Цветет в апреле-мае. Красивые желтые цветки собраны в виде поникшего зонтика на конце безлистного стебля, который выходит из прикорневых листьев – морщинистых, яйцевидной формы, с волнистыми краями. Листья первоцвета богаты витамином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pervocvet"/>
          <p:cNvPicPr/>
          <p:nvPr/>
        </p:nvPicPr>
        <p:blipFill>
          <a:blip r:embed="rId1"/>
          <a:stretch/>
        </p:blipFill>
        <p:spPr>
          <a:xfrm>
            <a:off x="179280" y="1484280"/>
            <a:ext cx="32403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треница дубравная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в лиственных лесах, на опушках, полянах. На верхушке прямого тонкого стебля- нежный цветок с шестью белыми или розоватыми лепестками. В ясный день цветок обращен к солн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86728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ырую погоду и на ночь цветок закрывается и поникает. Под цветком на стебле три рассеченных листа, расположенных розеткой. Высота до 25 см. Название растение получило за то, что его цветок на тонком стебле качается даже от легкого ветер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Anem5"/>
          <p:cNvPicPr/>
          <p:nvPr/>
        </p:nvPicPr>
        <p:blipFill>
          <a:blip r:embed="rId1"/>
          <a:stretch/>
        </p:blipFill>
        <p:spPr>
          <a:xfrm>
            <a:off x="3492360" y="1557360"/>
            <a:ext cx="23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хлатк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т в лесу между кустарниками. Цветки лиловые или фиолетово-розовые, собраны в кисть. У каждого цветка венчик из четырех сросшихся лепестков, верхний со шпорц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0000" y="1599840"/>
            <a:ext cx="27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лубине цветка есть нектар, привлекающий пчел и шмелей. Расположение листьев очередное, а самые листья дважды-триждытройчатые. Растение лекарствен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ena_1776"/>
          <p:cNvPicPr/>
          <p:nvPr/>
        </p:nvPicPr>
        <p:blipFill>
          <a:blip r:embed="rId1"/>
          <a:stretch/>
        </p:blipFill>
        <p:spPr>
          <a:xfrm>
            <a:off x="3168720" y="1557360"/>
            <a:ext cx="2644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54900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0920" y="3789000"/>
            <a:ext cx="3927240" cy="2019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932360" y="189000"/>
            <a:ext cx="3927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 окончательно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ёл, а ива уже цветё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я  пчёлам слад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тар и пыль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и ивы называют кошечк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ами, пуш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здавна любили иву. 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ян она была символ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ого очага, охраняла люд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лых духов и пожар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няла нечистую силу.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ой старины остался обыч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ывать цветущую вербу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ь её друг другу. Из веток и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тут корзинки. Уди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ловные снасти получаю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ивы, канаты, верёвки тож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ют из ивы. Древесина ивы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ие полозья для са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2" descr="CRW_1798"/>
          <p:cNvPicPr/>
          <p:nvPr/>
        </p:nvPicPr>
        <p:blipFill>
          <a:blip r:embed="rId3"/>
          <a:stretch/>
        </p:blipFill>
        <p:spPr>
          <a:xfrm>
            <a:off x="539640" y="333360"/>
            <a:ext cx="4102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на – дерево раннецветущее. Ложки из осины ценились выше берёзовых. А из тонких, мягких, шёлковых стружек осины делали корзины и шляпки. В старину осиновой щепой крыли крышу. Такая крыша служила долго и выглядела привлекательно. Такая крыша служила долго и выглядела привлекательно. Когда отцветёт осина, появляются мелкие плоды – коробочки, наполненные крошечными лёгкими семенами. У каждого семени парашют из тонких волосков, пух. На этих парашютах будущие осинки летят туда, куда их несёт ве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aspen_3"/>
          <p:cNvPicPr/>
          <p:nvPr/>
        </p:nvPicPr>
        <p:blipFill>
          <a:blip r:embed="rId1"/>
          <a:stretch/>
        </p:blipFill>
        <p:spPr>
          <a:xfrm>
            <a:off x="4932360" y="1844640"/>
            <a:ext cx="3927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17960" y="333000"/>
            <a:ext cx="39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ёза – неприхотливое дерево. Цветёт она ранней весной, когда смолистые листья у неё только развернулись. Цветки-малютки собраны в соцветия – длинные желтовато-зелёные серёжки, свисающие с веточек. В них образуется мельчайшая жёлтая пыльца, которая переносится ветром на другие, более короткие соцветия, торчащие вверх, как маленькие зелёные свечи. В Пору цветения берёзовую пыльцу можно увидеть на лужах в виде жёлтого налё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000_068"/>
          <p:cNvPicPr/>
          <p:nvPr/>
        </p:nvPicPr>
        <p:blipFill>
          <a:blip r:embed="rId1"/>
          <a:stretch/>
        </p:blipFill>
        <p:spPr>
          <a:xfrm>
            <a:off x="108000" y="1341360"/>
            <a:ext cx="496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рисуем сами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Изображение 001.jpg"/>
          <p:cNvPicPr/>
          <p:nvPr/>
        </p:nvPicPr>
        <p:blipFill>
          <a:blip r:embed="rId1"/>
          <a:stretch/>
        </p:blipFill>
        <p:spPr>
          <a:xfrm>
            <a:off x="1285920" y="785880"/>
            <a:ext cx="66438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0247"/>
          <p:cNvPicPr/>
          <p:nvPr/>
        </p:nvPicPr>
        <p:blipFill>
          <a:blip r:embed="rId1"/>
          <a:stretch/>
        </p:blipFill>
        <p:spPr>
          <a:xfrm>
            <a:off x="755640" y="3860640"/>
            <a:ext cx="2303640" cy="15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цветами эти растения назвали потому, что они первыми «встречают весну», т.е. цветут перв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снил что не только травянистые растения являются первоцветами, но и деревья(ива, осина, берёз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ния взяты под охрану, т.к. люди срывают первые цветы в букеты, собирают их как лекарственные растения, растений становиться всё меньш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уляя по лесу люди вытаптывают раст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sm77"/>
          <p:cNvPicPr/>
          <p:nvPr/>
        </p:nvPicPr>
        <p:blipFill>
          <a:blip r:embed="rId2"/>
          <a:stretch/>
        </p:blipFill>
        <p:spPr>
          <a:xfrm>
            <a:off x="2987640" y="2492280"/>
            <a:ext cx="1836720" cy="18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0_27416_91521387_L"/>
          <p:cNvPicPr/>
          <p:nvPr/>
        </p:nvPicPr>
        <p:blipFill>
          <a:blip r:embed="rId3"/>
          <a:stretch/>
        </p:blipFill>
        <p:spPr>
          <a:xfrm>
            <a:off x="2771640" y="4724280"/>
            <a:ext cx="2381400" cy="196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lrg_37693_aC052374"/>
          <p:cNvPicPr/>
          <p:nvPr/>
        </p:nvPicPr>
        <p:blipFill>
          <a:blip r:embed="rId4"/>
          <a:stretch/>
        </p:blipFill>
        <p:spPr>
          <a:xfrm>
            <a:off x="826920" y="1628640"/>
            <a:ext cx="223236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м крае есть разные виды первоцветов. Это травянистые растения: подснежник, мать-и-мачеха, медуница, ветреница, перелеска и др. Деревья: осина, ива, берёз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цветы срывать нельзя. Их становится всё меньше. Можно зарисовать, сфотографировать, полюбоваться ими. Можно посадить растения у себя в саду и любоваться их красотой вес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есу, на лугу нужно ходить по тропинкам чтобы не причинять растениям в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регая цветы мы помогаем насекомым, животным, птиц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zoo19"/>
          <p:cNvPicPr/>
          <p:nvPr/>
        </p:nvPicPr>
        <p:blipFill>
          <a:blip r:embed="rId1"/>
          <a:stretch/>
        </p:blipFill>
        <p:spPr>
          <a:xfrm>
            <a:off x="4932360" y="1789200"/>
            <a:ext cx="39607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ле исчезают цве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заметнее э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 радости и крас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яет нам каждое ле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ье цветов лугов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понятно было едва 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заботно топтали мы 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езумно, безжалостно рв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 молчало волшебное «СТОЙ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казалось всё мало и ма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том в толчее город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охапки тащили уста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видели, как из под н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чаливо, дыша еле-е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ечённо глазел василё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надёжно гвоздики гля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046"/>
          <p:cNvPicPr/>
          <p:nvPr/>
        </p:nvPicPr>
        <p:blipFill>
          <a:blip r:embed="rId1"/>
          <a:stretch/>
        </p:blipFill>
        <p:spPr>
          <a:xfrm>
            <a:off x="6156360" y="404640"/>
            <a:ext cx="2843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моей работы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снить почему эти растения называют первоцвет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ли травянистые растения являются первоцвет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у нужны первоцветы в приро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эти растения взяты под охра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1"/>
          <p:cNvPicPr/>
          <p:nvPr/>
        </p:nvPicPr>
        <p:blipFill>
          <a:blip r:embed="rId1"/>
          <a:stretch/>
        </p:blipFill>
        <p:spPr>
          <a:xfrm>
            <a:off x="826920" y="1916280"/>
            <a:ext cx="3957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ользуемая литература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56800" y="20001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нциклопед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ений от А до Я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google.ru/search?hl=ru&amp;sugexp=pchatac&amp;gs_rn=1&amp;gs_ri=hp&amp;cp=36&amp;gs_id=40&amp;xhr=t&amp;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нциклопедия +о + растениях +первоцв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143000" y="257184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fecity.com.ua/?l=knowledge&amp;mod=view&amp;id=7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143000" y="3071880"/>
            <a:ext cx="4572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wikikids.ru/ekologiya-rastenii/pervotsvety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ения в природе: учимся сравнивать и узна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картинок, работа с энциклопедией, с книгами о раст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экологической ситуации  в посёлке Луг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ем сами: что я узнал и чему научи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а и аргументы.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считаю, что первоцветы находятся под охраной из-за неправильных действий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срывает первые цветы в бу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лугу, в лесу человек вытаптывает раст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ие растения использует как лекарств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dmitrieva"/>
          <p:cNvPicPr/>
          <p:nvPr/>
        </p:nvPicPr>
        <p:blipFill>
          <a:blip r:embed="rId1"/>
          <a:stretch/>
        </p:blipFill>
        <p:spPr>
          <a:xfrm>
            <a:off x="1258920" y="4365720"/>
            <a:ext cx="2087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гулка по лесу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00027ycs"/>
          <p:cNvPicPr/>
          <p:nvPr/>
        </p:nvPicPr>
        <p:blipFill>
          <a:blip r:embed="rId1"/>
          <a:stretch/>
        </p:blipFill>
        <p:spPr>
          <a:xfrm>
            <a:off x="826920" y="1844640"/>
            <a:ext cx="4105440" cy="4105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есу все ещё деревья стоят голые, а под деревьями цветут медуница, ветреница. Их цветы радуют глаз человека. Рука так и тянется сорвать этот цв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екоторых деревьях висят серёжки, хоть и нет лист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 тоже есть первоцветы. Сделал зарисовки. Дома поработаю с энциклопедией и узнаю, что это за дере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энциклопедией.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олько кое-где сходит снег, тут же к свету тянутся первые весенние растения, белые, желтые, розовые ,  голубые . Это первоцветы - удивительные растения, которые приспособились цвести тогда, когда в лесу на деревьях еще нет листвы, и каждый теплый солнечный лучик доходит до самой земли. У этих растений в ходе эволюции выработались важные приспособления для ранневесеннего цве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цветы часто являются насекомоопыляемыми  растениями .  Их яркие цветки хорошо заметны, когда нижние ярусы безлиственного леса хорошо освещены. Цветут они обычно уже в апреле (в отдельные теплые годы - с конца марта) до середины мая. Таким образом все они относятся к ранневесенней флоре. Иногда такие растения называют также первоцв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5081223"/>
          <p:cNvPicPr/>
          <p:nvPr/>
        </p:nvPicPr>
        <p:blipFill>
          <a:blip r:embed="rId1"/>
          <a:stretch/>
        </p:blipFill>
        <p:spPr>
          <a:xfrm>
            <a:off x="6732720" y="5300640"/>
            <a:ext cx="1944720" cy="127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mg4"/>
          <p:cNvPicPr/>
          <p:nvPr/>
        </p:nvPicPr>
        <p:blipFill>
          <a:blip r:embed="rId2"/>
          <a:stretch/>
        </p:blipFill>
        <p:spPr>
          <a:xfrm>
            <a:off x="1042920" y="5549760"/>
            <a:ext cx="20574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нежник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20640"/>
            <a:ext cx="5410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убые, как небо, цветочки, маленькие, тихие, нежно пахнущ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вным-давно, когда на Земле только начиналась жизнь и все вокруг было покрыто снегом, одна снежинка рискнула превратиться в цветок, чтобы согреть Землю. Больше некому было это сделать. Подснежник согрел Землю, и на ней появилась жизнь. Подснежники приходят к нам прямо из царства вьюг и сне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3431"/>
          <p:cNvPicPr/>
          <p:nvPr/>
        </p:nvPicPr>
        <p:blipFill>
          <a:blip r:embed="rId1"/>
          <a:stretch/>
        </p:blipFill>
        <p:spPr>
          <a:xfrm>
            <a:off x="5867280" y="1125360"/>
            <a:ext cx="3132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ь-и-мачех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небольшое травянистое растение высотой 10-25 см. Название растение получило благодаря своим листьям, нижняя поверхность которых теплая, бархатистая, и ее сопоставляют с матерью, а верхняя холодная , гладкая,ее сравнивают с мачех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post-6354-1211461289"/>
          <p:cNvPicPr/>
          <p:nvPr/>
        </p:nvPicPr>
        <p:blipFill>
          <a:blip r:embed="rId1"/>
          <a:stretch/>
        </p:blipFill>
        <p:spPr>
          <a:xfrm>
            <a:off x="5148360" y="1916280"/>
            <a:ext cx="36194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дуниц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700360" y="1699920"/>
            <a:ext cx="5842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еще называют цветок-колдунья. Почему? Наверное, потому что от весны до осени он четырежды меняет окраску своих лепестков. Колокольчики у него розовые поначалу. Потом они становятся пурпурными, а рядом, на соседних стебельках, появляются новые-опять розовы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рпурная окраска сменяется фиолетовой. А когда начнут отцветать, они уже синие, поблекш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pulmonaria_molissima"/>
          <p:cNvPicPr/>
          <p:nvPr/>
        </p:nvPicPr>
        <p:blipFill>
          <a:blip r:embed="rId1"/>
          <a:stretch/>
        </p:blipFill>
        <p:spPr>
          <a:xfrm>
            <a:off x="250920" y="1773360"/>
            <a:ext cx="234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58:11Z</dcterms:created>
  <dc:creator>Customer</dc:creator>
  <dc:description/>
  <dc:language>en-US</dc:language>
  <cp:lastModifiedBy>Admin</cp:lastModifiedBy>
  <dcterms:modified xsi:type="dcterms:W3CDTF">2012-12-21T17:16:23Z</dcterms:modified>
  <cp:revision>14</cp:revision>
  <dc:subject/>
  <dc:title>Давайте познакомимся (Первоцветы нашего края)</dc:title>
</cp:coreProperties>
</file>