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E6E-EB72-4CBB-8E14-3C921DB7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369-A4FD-420E-9C10-9ACBA9C8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918-320E-4114-84E8-3656567F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3F6-CA57-4653-87F9-BC08B08E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6B1-AA9C-4D57-BF9C-9A3E3EC4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664-B010-4F23-A178-A6DB3F3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378-79DC-4074-8217-6825D57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CCF-1025-4DAC-A7A6-3C4A2134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BF4-CF0D-493C-B9CF-DE9145B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50C-8831-46CD-8B8B-A035771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00C-EFFC-493D-B00D-9DD0EAFC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6C3-E0FE-45D1-9F12-BA56964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E5D8D7-E96B-4EC9-9204-3FEFD0246E5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3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2643120" y="2928960"/>
            <a:ext cx="3428640" cy="3500280"/>
          </a:xfrm>
          <a:prstGeom prst="rect">
            <a:avLst/>
          </a:prstGeom>
          <a:ln w="9525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990720" y="857160"/>
            <a:ext cx="75452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ость</a:t>
            </a:r>
            <a:r>
              <a:rPr b="1" lang="ru-RU" sz="5400" spc="-1" strike="noStrike" cap="all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5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в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http://ts3.mm.bing.net/images/thumbnail.aspx?q=604681612586&amp;id=280094197245ee974dab383f7ed3db9b&amp;url=http%3a%2f%2fifolderlinks.ru%2ffiles%2fimagecache%2f700x%2fU10321%2f08%2f30%2fZdravstvuy_shkola_2010__a5a677810bead46d27c926f40bf_prev.jpg"/>
          <p:cNvPicPr/>
          <p:nvPr/>
        </p:nvPicPr>
        <p:blipFill>
          <a:blip r:embed="rId3"/>
          <a:stretch/>
        </p:blipFill>
        <p:spPr>
          <a:xfrm>
            <a:off x="6072120" y="2928960"/>
            <a:ext cx="2732040" cy="350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ts2.mm.bing.net/images/thumbnail.aspx?q=524675918269&amp;id=3f93b675ae99d85d73a5a9d6820238b8&amp;url=http%3a%2f%2fabsurdu.net%2fwp-content%2fuploads%2f2009%2f09%2fschool.jpg"/>
          <p:cNvPicPr/>
          <p:nvPr/>
        </p:nvPicPr>
        <p:blipFill>
          <a:blip r:embed="rId4"/>
          <a:stretch/>
        </p:blipFill>
        <p:spPr>
          <a:xfrm>
            <a:off x="357120" y="2928960"/>
            <a:ext cx="2285640" cy="3500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8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1805400" y="571320"/>
            <a:ext cx="50454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ИНЦИПЫ</a:t>
            </a:r>
            <a:r>
              <a:rPr b="1" lang="ru-RU" sz="2400" spc="-1" strike="noStrike" cap="all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347760" y="1285920"/>
            <a:ext cx="879588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ненаси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уважения разли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понимания индивидуальной неповтор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ринцип уважения человеческого достои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шго"/>
          <p:cNvPicPr/>
          <p:nvPr/>
        </p:nvPicPr>
        <p:blipFill>
          <a:blip r:embed="rId2"/>
          <a:stretch/>
        </p:blipFill>
        <p:spPr>
          <a:xfrm>
            <a:off x="357120" y="4000680"/>
            <a:ext cx="2785680" cy="228564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9" descr="http://www.tonnel.ru/calendar/620175725_tonnel.gif"/>
          <p:cNvPicPr/>
          <p:nvPr/>
        </p:nvPicPr>
        <p:blipFill>
          <a:blip r:embed="rId3"/>
          <a:stretch/>
        </p:blipFill>
        <p:spPr>
          <a:xfrm>
            <a:off x="3286080" y="4000680"/>
            <a:ext cx="2785680" cy="22856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2" descr="http://ts4.mm.bing.net/images/thumbnail.aspx?q=561268725731&amp;id=cc548e4c9ef4349c8d1f316a8a709f4f&amp;url=http%3a%2f%2fbsn.irk.ru%2fwp-content%2fuploads%2f1-polish.jpg"/>
          <p:cNvPicPr/>
          <p:nvPr/>
        </p:nvPicPr>
        <p:blipFill>
          <a:blip r:embed="rId4"/>
          <a:stretch/>
        </p:blipFill>
        <p:spPr>
          <a:xfrm>
            <a:off x="6215040" y="4000680"/>
            <a:ext cx="2571480" cy="2285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6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2448000" y="642960"/>
            <a:ext cx="4502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ЗАКОНЫ  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357120" y="1285920"/>
            <a:ext cx="83577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Все работники ОУ в общении с детьми должны проявлять к ним доброжелательность, терпение, ув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Педагоги должны относиться к ученикам с одинаковым уважением, не возвышая одних за счет унижения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ценки должны способствовать развитию ребенка, а не быть кнутом в руках педаг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ts3.explicit.bing.net/images/thumbnail.aspx?q=408970076282&amp;id=589cb2d10cdf3d18225d8a4595f73fd2&amp;url=http%3a%2f%2falnoor.ru%2fuploads%2fposts%2f2010-03%2f1269894300_ig8kypqeczjvbaf.jpeg"/>
          <p:cNvPicPr/>
          <p:nvPr/>
        </p:nvPicPr>
        <p:blipFill>
          <a:blip r:embed="rId2"/>
          <a:stretch/>
        </p:blipFill>
        <p:spPr>
          <a:xfrm>
            <a:off x="3143160" y="5000760"/>
            <a:ext cx="2642760" cy="164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толер"/>
          <p:cNvPicPr/>
          <p:nvPr/>
        </p:nvPicPr>
        <p:blipFill>
          <a:blip r:embed="rId3"/>
          <a:stretch/>
        </p:blipFill>
        <p:spPr>
          <a:xfrm>
            <a:off x="357120" y="5000760"/>
            <a:ext cx="2499840" cy="158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пр"/>
          <p:cNvPicPr/>
          <p:nvPr/>
        </p:nvPicPr>
        <p:blipFill>
          <a:blip r:embed="rId4"/>
          <a:stretch/>
        </p:blipFill>
        <p:spPr>
          <a:xfrm>
            <a:off x="6000840" y="5000760"/>
            <a:ext cx="2785680" cy="163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4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2428920" y="571320"/>
            <a:ext cx="44474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ЫЙ  ПЕДАГО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ДОЛЖЕН  ОБЛАД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9"/>
          <p:cNvSpPr/>
          <p:nvPr/>
        </p:nvSpPr>
        <p:spPr>
          <a:xfrm>
            <a:off x="529200" y="1714320"/>
            <a:ext cx="8235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Тактич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Терпим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Готовностью принимать и поддерживать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Умением предотвращать конфли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ts1.mm.bing.net/images/thumbnail.aspx?q=421810480728&amp;id=4581274c64895aacc4db9fe4cd1f648a&amp;url=http%3a%2f%2fwww.centerhelp.siteedit.ru%2fimages%2fopbn2.jpg"/>
          <p:cNvPicPr/>
          <p:nvPr/>
        </p:nvPicPr>
        <p:blipFill>
          <a:blip r:embed="rId2"/>
          <a:stretch/>
        </p:blipFill>
        <p:spPr>
          <a:xfrm>
            <a:off x="714240" y="3929040"/>
            <a:ext cx="2642760" cy="2356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ts2.mm.bing.net/images/thumbnail.aspx?q=710377550409&amp;id=b6fd201104a133ad4712bc1217b36a8c&amp;url=http%3a%2f%2fobrazovanie-nk.ru%2fuploads%2fposts%2f2010-03%2f1268388597_ych.jpg"/>
          <p:cNvPicPr/>
          <p:nvPr/>
        </p:nvPicPr>
        <p:blipFill>
          <a:blip r:embed="rId3"/>
          <a:stretch/>
        </p:blipFill>
        <p:spPr>
          <a:xfrm>
            <a:off x="6215040" y="3929040"/>
            <a:ext cx="2399760" cy="2356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s2.mm.bing.net/images/thumbnail.aspx?q=668456649917&amp;id=6dafe9b101b3d0d4ad54a85a62805677&amp;url=http%3a%2f%2finventions.ru%2fi%2fphoto%2fmy-inventlecture.JPG"/>
          <p:cNvPicPr/>
          <p:nvPr/>
        </p:nvPicPr>
        <p:blipFill>
          <a:blip r:embed="rId4"/>
          <a:stretch/>
        </p:blipFill>
        <p:spPr>
          <a:xfrm>
            <a:off x="3429000" y="3929040"/>
            <a:ext cx="2642760" cy="2356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32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1143000" y="571320"/>
            <a:ext cx="728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Ые   УЧЕ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113760" y="1285920"/>
            <a:ext cx="870372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Доброжелательн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Уважающие друг друга и всех сотрудников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Умеющие слушать и слыш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Понимающие и поддерживающие друг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://ts4.mm.bing.net/images/thumbnail.aspx?q=411083540871&amp;id=bf098a94cd852fe16e763e5e306c1379&amp;url=http%3a%2f%2fall-pages.com%2fimg%2frepphotos%2frepphoto_5733_5473.jpg"/>
          <p:cNvPicPr/>
          <p:nvPr/>
        </p:nvPicPr>
        <p:blipFill>
          <a:blip r:embed="rId2"/>
          <a:stretch/>
        </p:blipFill>
        <p:spPr>
          <a:xfrm>
            <a:off x="6143760" y="3714840"/>
            <a:ext cx="272376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ttp://ts3.mm.bing.net/images/thumbnail.aspx?q=646284063274&amp;id=777aea69500737e7556efc2e711314e5&amp;url=http%3a%2f%2fwww.yastudent.ru%2fimg%2fphotoreports%2fphotoreport_54_2968.jpg"/>
          <p:cNvPicPr/>
          <p:nvPr/>
        </p:nvPicPr>
        <p:blipFill>
          <a:blip r:embed="rId3"/>
          <a:stretch/>
        </p:blipFill>
        <p:spPr>
          <a:xfrm>
            <a:off x="3071880" y="3714840"/>
            <a:ext cx="2857320" cy="2785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http://ts4.mm.bing.net/images/thumbnail.aspx?q=702170538047&amp;id=bcecded5c9d61b90825246a1290a6b08&amp;url=http%3a%2f%2fi048.radikal.ru%2f0804%2f32%2f91e5a1306c0a.jpg"/>
          <p:cNvPicPr/>
          <p:nvPr/>
        </p:nvPicPr>
        <p:blipFill>
          <a:blip r:embed="rId4"/>
          <a:stretch/>
        </p:blipFill>
        <p:spPr>
          <a:xfrm>
            <a:off x="357120" y="3714840"/>
            <a:ext cx="2571480" cy="2785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40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999360" y="571320"/>
            <a:ext cx="71013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ВОСПИТАТЬ ТОЛЕРАНТ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 </a:t>
            </a: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УЧЕНИКА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 </a:t>
            </a:r>
            <a:r>
              <a:rPr b="1" lang="ru-RU" sz="3200" spc="-1" strike="noStrike" cap="all">
                <a:solidFill>
                  <a:schemeClr val="accent4"/>
                </a:solidFill>
                <a:latin typeface="Times New Roman"/>
              </a:rPr>
              <a:t>ЛИШЬ ТОЛЕРАНТНЫЙ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ts3.mm.bing.net/images/thumbnail.aspx?q=503363939186&amp;id=6e68286e9feb6bd3720502cd9011dd75&amp;url=http%3a%2f%2fschool2.fryazino.net%2fimg%2fteachers2008.jpg"/>
          <p:cNvPicPr/>
          <p:nvPr/>
        </p:nvPicPr>
        <p:blipFill>
          <a:blip r:embed="rId2"/>
          <a:stretch/>
        </p:blipFill>
        <p:spPr>
          <a:xfrm>
            <a:off x="642960" y="3286080"/>
            <a:ext cx="3571560" cy="315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ts3.mm.bing.net/images/thumbnail.aspx?q=406547208758&amp;id=e200d623186ece1b1883e033f1a43fb1&amp;url=http%3a%2f%2fpremjers.isma.lv%2ftypo3temp%2fpics%2fc41824aabb.jpg"/>
          <p:cNvPicPr/>
          <p:nvPr/>
        </p:nvPicPr>
        <p:blipFill>
          <a:blip r:embed="rId3"/>
          <a:stretch/>
        </p:blipFill>
        <p:spPr>
          <a:xfrm>
            <a:off x="6357960" y="3000240"/>
            <a:ext cx="2381040" cy="1785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ts2.mm.bing.net/images/thumbnail.aspx?q=526384301589&amp;id=ee282057370068c9f03bc7a7cf0fef17&amp;url=http%3a%2f%2fwww.mosobldom.ru%2fuser_img%2fs872.jpg"/>
          <p:cNvPicPr/>
          <p:nvPr/>
        </p:nvPicPr>
        <p:blipFill>
          <a:blip r:embed="rId4"/>
          <a:stretch/>
        </p:blipFill>
        <p:spPr>
          <a:xfrm>
            <a:off x="4500720" y="4714920"/>
            <a:ext cx="2571480" cy="1714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47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14200" y="0"/>
            <a:ext cx="9357840" cy="68576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0" y="1071720"/>
            <a:ext cx="870156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Деятельностны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пора на активность, сознательность и самостоятель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риентация не на вербальное воздействие, а на деятельность самого ребен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беспечение субъективной свободы в выборе деятельности и ее компонен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построение воспитания через специально организуемую деятельность и общение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983160" y="357120"/>
            <a:ext cx="7503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одходы к воспитанию толеран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0" y="3643200"/>
            <a:ext cx="8643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Личностно-ориентированны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признание права каждой личности на свободу, самоопределение, индивидуальность и самовыраж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признание и выполнение своих обязанностей перед собой и други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опора при взаимодействии на мотивацию, ценности, опыт, "Я-концепцию" партн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7b34d2"/>
              </a:buClr>
              <a:buFont typeface="Arial"/>
              <a:buChar char="•"/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индивидуальный под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53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428760" y="111600"/>
            <a:ext cx="8214840" cy="649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КИТАЙСКАЯ ПРИТЧА «ЛАДНАЯ СЕМ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ла-была на свете семья. Она была не простая. Более 100 человек насчитывалось в этой семье. И занимала она целое село. Так и жили всей семьей и всем селом. Вы скажете: ну и что, мало ли больших семейств на свете. Но дело в том, что семья была особая – мир и лад царили в той семье и, стало быть, на селе. Ни ссор, ни ругани, ни, Боже упаси, драк и раздоров. Дошел слух об этой семье до самого владыки страны. И он решил проверить, правду ли молвят люди. Прибыл он в село, и душа его возрадовалась: кругом чистота, красота, достаток и мир. Хорошо детям, спокойно старикам. Удивился владыка. Решил узнать, как жители села добились такого лада, пришел к главе семьи; расскажи, мол, как ты добиваешься такого согласия и мира в твоей семье. Тот взял лист бумаги и стал что-то писать писал долго – видно, не очень силен был в грамоте. Затем передал лист владыке. Тот взял бумагу и стал разбирать каракули старика. Разобрал с трудом и удивился. Три слова были начертаны на бумаг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щ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рп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в конце листа: сто раз любовь, сто раз прощение, сто раз терпение. Прочел владыка, почесал, как водится, за ухом и спросил: - И все? - Да, - ответил старик, - это и есть основа жизни всякой хорошей семьи. И, подумав, добавил: - И мира тож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57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14200" y="0"/>
            <a:ext cx="9357840" cy="68576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500040" y="642960"/>
            <a:ext cx="8277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1" lang="ru-RU" sz="3200" spc="-1" strike="noStrike" cap="all">
              <a:solidFill>
                <a:schemeClr val="accent4"/>
              </a:solidFill>
              <a:latin typeface="Calibri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714240" y="3071880"/>
            <a:ext cx="76435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1" lang="ru-RU" sz="6600" spc="-1" strike="noStrike" cap="all">
              <a:solidFill>
                <a:schemeClr val="accent4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785880" y="357120"/>
            <a:ext cx="77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chemeClr val="accent4"/>
                </a:solidFill>
                <a:latin typeface="Times New Roman"/>
              </a:rPr>
              <a:t>любовь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chemeClr val="accent4"/>
                </a:solidFill>
                <a:latin typeface="Times New Roman"/>
              </a:rPr>
              <a:t>Прощени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chemeClr val="accent4"/>
                </a:solidFill>
                <a:latin typeface="Times New Roman"/>
              </a:rPr>
              <a:t>Терпе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2"/>
          <a:stretch/>
        </p:blipFill>
        <p:spPr>
          <a:xfrm>
            <a:off x="714240" y="3857760"/>
            <a:ext cx="36810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http://ts4.mm.bing.net/images/thumbnail.aspx?q=553033601911&amp;id=97fc49dbe37adafd86135fa642420e40&amp;url=http%3a%2f%2faleksandrovkash.narod.ru%2f2010g_098.jpg"/>
          <p:cNvPicPr/>
          <p:nvPr/>
        </p:nvPicPr>
        <p:blipFill>
          <a:blip r:embed="rId3"/>
          <a:stretch/>
        </p:blipFill>
        <p:spPr>
          <a:xfrm>
            <a:off x="4929120" y="3857760"/>
            <a:ext cx="3500280" cy="24285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0"/>
          <p:cNvSpPr/>
          <p:nvPr/>
        </p:nvSpPr>
        <p:spPr>
          <a:xfrm>
            <a:off x="2143080" y="285732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4"/>
                </a:solidFill>
                <a:latin typeface="Times New Roman"/>
              </a:rPr>
              <a:t>ТОЛЕРАНТНОСТЬ – П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4"/>
                </a:solidFill>
                <a:latin typeface="Times New Roman"/>
              </a:rPr>
              <a:t>К МИРУ И СОГЛАСИЮ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50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714240" y="3857760"/>
            <a:ext cx="3681000" cy="2428560"/>
          </a:xfrm>
          <a:prstGeom prst="rect">
            <a:avLst/>
          </a:prstGeom>
          <a:ln w="9525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5019120" y="1500120"/>
            <a:ext cx="3056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М. ганди, ИНДИЙСКИ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ПОЛИТИЧЕСКИЙ  ДЕЯ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880920" y="500040"/>
            <a:ext cx="5755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Мне не нравится слово «толерантность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 </a:t>
            </a: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но лучше этого слов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мире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500040" y="2357280"/>
            <a:ext cx="700056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Терпимость – очень трудная добродетель,- для некоторых труднее героизм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Ж.  Леметр</a:t>
            </a: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ts4.mm.bing.net/images/thumbnail.aspx?q=553033601911&amp;id=97fc49dbe37adafd86135fa642420e40&amp;url=http%3a%2f%2faleksandrovkash.narod.ru%2f2010g_098.jpg"/>
          <p:cNvPicPr/>
          <p:nvPr/>
        </p:nvPicPr>
        <p:blipFill>
          <a:blip r:embed="rId3"/>
          <a:stretch/>
        </p:blipFill>
        <p:spPr>
          <a:xfrm>
            <a:off x="4929120" y="3857760"/>
            <a:ext cx="3500280" cy="2428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58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85840" y="0"/>
            <a:ext cx="9429480" cy="6857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500040" y="1143000"/>
            <a:ext cx="828648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rgbClr val="7b34d2"/>
                </a:solidFill>
                <a:latin typeface="Times New Roman"/>
                <a:ea typeface="Calibri"/>
              </a:rPr>
              <a:t>tolerance 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rgbClr val="7b34d2"/>
                </a:solidFill>
                <a:latin typeface="Times New Roman"/>
                <a:ea typeface="Calibri"/>
              </a:rPr>
              <a:t>tolerance (английский) – готовность быть терпимым, снисходи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rgbClr val="7b34d2"/>
                </a:solidFill>
                <a:latin typeface="Times New Roman"/>
                <a:ea typeface="Calibri"/>
              </a:rPr>
              <a:t>терпимость 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642960" y="714240"/>
            <a:ext cx="792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пределение</a:t>
            </a: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лова</a:t>
            </a: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«толерант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63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428760" y="1000080"/>
            <a:ext cx="8429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Calibri"/>
              </a:rPr>
              <a:t>«…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Calibri"/>
              </a:rPr>
              <a:t>Толерантность - это обязанность способствовать утверждению прав человека,.. демократии и правопорядка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i="1" lang="ru-RU" sz="1600" spc="-1" strike="noStrike" cap="all">
                <a:solidFill>
                  <a:schemeClr val="accent4"/>
                </a:solidFill>
                <a:latin typeface="Times New Roman"/>
                <a:ea typeface="Calibri"/>
              </a:rPr>
              <a:t>(Декларация принципов толерантности, утвержденная резолюцией 5.61 Генеральной конференции ЮНЕСКО от 16 ноября 1995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1654920" y="571320"/>
            <a:ext cx="5844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Calibri"/>
              </a:rPr>
              <a:t>Что  такое толерант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scherbinka.ru/photos/2004/scool4_nach0.jpg"/>
          <p:cNvPicPr/>
          <p:nvPr/>
        </p:nvPicPr>
        <p:blipFill>
          <a:blip r:embed="rId2"/>
          <a:stretch/>
        </p:blipFill>
        <p:spPr>
          <a:xfrm>
            <a:off x="785880" y="4143240"/>
            <a:ext cx="3571560" cy="221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ts2.mm.bing.net/images/thumbnail.aspx?q=424966627345&amp;id=752cde7219fc56e386235acacfd7942f&amp;url=http%3a%2f%2fwww.fotka.by%2fimg--i-263704-w-640.jpg"/>
          <p:cNvPicPr/>
          <p:nvPr/>
        </p:nvPicPr>
        <p:blipFill>
          <a:blip r:embed="rId3"/>
          <a:stretch/>
        </p:blipFill>
        <p:spPr>
          <a:xfrm>
            <a:off x="4786200" y="4143240"/>
            <a:ext cx="3714480" cy="2214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0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14200" y="0"/>
            <a:ext cx="9357840" cy="685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Рисунок1"/>
          <p:cNvPicPr/>
          <p:nvPr/>
        </p:nvPicPr>
        <p:blipFill>
          <a:blip r:embed="rId2"/>
          <a:stretch/>
        </p:blipFill>
        <p:spPr>
          <a:xfrm>
            <a:off x="500040" y="357120"/>
            <a:ext cx="8286480" cy="4071600"/>
          </a:xfrm>
          <a:prstGeom prst="rect">
            <a:avLst/>
          </a:prstGeom>
          <a:ln w="9525">
            <a:noFill/>
          </a:ln>
        </p:spPr>
      </p:pic>
      <p:sp>
        <p:nvSpPr>
          <p:cNvPr id="72" name="Прямоугольник 9"/>
          <p:cNvSpPr/>
          <p:nvPr/>
        </p:nvSpPr>
        <p:spPr>
          <a:xfrm>
            <a:off x="285840" y="4429080"/>
            <a:ext cx="8500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Быть толерантным – означает уважать других, невзирая на различ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Это означает быть внимате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 </a:t>
            </a: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</a:rPr>
              <a:t>к другим и обращать внимание на то, что нас сближ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1857240" y="6000840"/>
            <a:ext cx="5319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</a:rPr>
              <a:t>Все – мы разные, все мы – равны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6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357120" y="357120"/>
            <a:ext cx="857232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Дифференцированное понимание феномена толерантности, в состав которого входя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b34d2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естественная (натуральная) толерантность – открытость, любознательность, доверчивость, – свойственная маленькому ребенку и еще не ассоциирующаяся с качествами его «Я» (толерантность типа «А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b34d2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моральная толерантность – терпение, терпимость, ассоциируемая с личностью или «внешним Я» человека (толерантность типа «Б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b34d2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нравственная толерантность – принятие, доверие, ассоциируемая с сущностью или «внутренним Я» человека (толерантность типа «В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0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714240" y="285840"/>
            <a:ext cx="777492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ru-RU" sz="20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Проявлять толерантность  –  это значит признавать то, что люди различаются по внешнему виду, положению, интересам, поведению и ценностям и обладают правом жить в мире, сохраняя при этом свою индивиду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ts2.mm.bing.net/images/thumbnail.aspx?q=420026976089&amp;id=607423a15b72f1a4b2951be5fc30c1e7&amp;url=http%3a%2f%2fallgraf.net%2fuploads%2fposts%2f2009-11%2fthumbs%2f1258816689_3-grade-school.jpg"/>
          <p:cNvPicPr/>
          <p:nvPr/>
        </p:nvPicPr>
        <p:blipFill>
          <a:blip r:embed="rId2"/>
          <a:stretch/>
        </p:blipFill>
        <p:spPr>
          <a:xfrm>
            <a:off x="285840" y="3214800"/>
            <a:ext cx="135684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ts3.mm.bing.net/images/thumbnail.aspx?q=525496355762&amp;id=cd0d6951551120bcbf527ccc4b1d351e&amp;url=http%3a%2f%2fwww.vashpsixolog.ru%2fimages%2f1258640435_10.jpg"/>
          <p:cNvPicPr/>
          <p:nvPr/>
        </p:nvPicPr>
        <p:blipFill>
          <a:blip r:embed="rId3"/>
          <a:stretch/>
        </p:blipFill>
        <p:spPr>
          <a:xfrm>
            <a:off x="1571760" y="3214800"/>
            <a:ext cx="1785600" cy="285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ttp://ts4.mm.bing.net/images/thumbnail.aspx?q=425831768647&amp;id=a0517e5b392494664cb67e7adbfc2aa7&amp;url=http%3a%2f%2fkonst.org.ua%2fdata%2fpictures%2f253%2f016.jpg"/>
          <p:cNvPicPr/>
          <p:nvPr/>
        </p:nvPicPr>
        <p:blipFill>
          <a:blip r:embed="rId4"/>
          <a:stretch/>
        </p:blipFill>
        <p:spPr>
          <a:xfrm>
            <a:off x="3357720" y="321480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http://ts4.mm.bing.net/images/thumbnail.aspx?q=605969978275&amp;id=6295155855665cc222e49bf7f1061360&amp;url=http%3a%2f%2fi60.beon.ru%2f52%2f1%2f70152%2f71%2f2183771%2favrillav8.jpeg"/>
          <p:cNvPicPr/>
          <p:nvPr/>
        </p:nvPicPr>
        <p:blipFill>
          <a:blip r:embed="rId5"/>
          <a:stretch/>
        </p:blipFill>
        <p:spPr>
          <a:xfrm>
            <a:off x="5072040" y="3214800"/>
            <a:ext cx="178560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http://ts2.mm.bing.net/images/thumbnail.aspx?q=702147855905&amp;id=1b24c18748f08c5b5e68a4c2c5fac45f&amp;url=http%3a%2f%2fwww.belarus.by%2frelimages%2f000624_634261.jpg"/>
          <p:cNvPicPr/>
          <p:nvPr/>
        </p:nvPicPr>
        <p:blipFill>
          <a:blip r:embed="rId6"/>
          <a:stretch/>
        </p:blipFill>
        <p:spPr>
          <a:xfrm>
            <a:off x="6858000" y="3214800"/>
            <a:ext cx="1856880" cy="2857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9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-285840" y="0"/>
            <a:ext cx="9429480" cy="6857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5429160" y="3929040"/>
            <a:ext cx="407448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непонимани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игнорировани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эгоизм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нетерпим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выражение пренебрежения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раздражительн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равнодуши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цинизм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немотивированная агрессив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643040" y="3357720"/>
            <a:ext cx="5143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Интолерантная лич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2662200" y="357120"/>
            <a:ext cx="4426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Толерантная</a:t>
            </a: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личность</a:t>
            </a:r>
            <a:r>
              <a:rPr b="1" lang="ru-RU" sz="18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23760" y="1071720"/>
            <a:ext cx="422100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уважение мнения других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доброжелательн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желание что-либо делать вмест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понимание и принятие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чутк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любознательн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снисходительность</a:t>
            </a:r>
            <a:br>
              <a:rPr sz="1600"/>
            </a:b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довер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 cap="all">
                <a:solidFill>
                  <a:schemeClr val="accent4"/>
                </a:solidFill>
                <a:latin typeface="Times New Roman"/>
                <a:ea typeface="Times New Roman"/>
              </a:rPr>
              <a:t>гуман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ts1.mm.bing.net/images/thumbnail.aspx?q=677858322608&amp;id=c72b81ccced9b1dce786e5745c394da3&amp;url=http%3a%2f%2fwww.kostyor.ru%2f8-07%2fimages8-07%2fpress2.jpg"/>
          <p:cNvPicPr/>
          <p:nvPr/>
        </p:nvPicPr>
        <p:blipFill>
          <a:blip r:embed="rId2"/>
          <a:stretch/>
        </p:blipFill>
        <p:spPr>
          <a:xfrm>
            <a:off x="2000160" y="3929040"/>
            <a:ext cx="1785600" cy="249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ts2.mm.bing.net/images/thumbnail.aspx?q=646145707457&amp;id=bcfa1ed41ffe8f58c564d9eb1cf7d953&amp;url=http%3a%2f%2fimg-2007-05.photosight.ru%2f26%2f2111219.jpg"/>
          <p:cNvPicPr/>
          <p:nvPr/>
        </p:nvPicPr>
        <p:blipFill>
          <a:blip r:embed="rId3"/>
          <a:stretch/>
        </p:blipFill>
        <p:spPr>
          <a:xfrm>
            <a:off x="214200" y="3929040"/>
            <a:ext cx="1895040" cy="249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ts3.explicit.bing.net/images/thumbnail.aspx?q=647467771462&amp;id=9b7377365a6483d807bfbf2aa4ba9a74&amp;url=http%3a%2f%2fairfull.ru%2fuploaded%2fcooperation.jpg"/>
          <p:cNvPicPr/>
          <p:nvPr/>
        </p:nvPicPr>
        <p:blipFill>
          <a:blip r:embed="rId4"/>
          <a:stretch/>
        </p:blipFill>
        <p:spPr>
          <a:xfrm>
            <a:off x="4214880" y="857160"/>
            <a:ext cx="2142720" cy="2356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ts3.mm.bing.net/images/thumbnail.aspx?q=420598324406&amp;id=fcbb86a27d9fbe79e7f6aa238a3a894b&amp;url=http%3a%2f%2fonua.edu.ua%2fodessa%2fImages%2finter%2finter_1.jpg"/>
          <p:cNvPicPr/>
          <p:nvPr/>
        </p:nvPicPr>
        <p:blipFill>
          <a:blip r:embed="rId5"/>
          <a:stretch/>
        </p:blipFill>
        <p:spPr>
          <a:xfrm>
            <a:off x="6357960" y="857160"/>
            <a:ext cx="2571480" cy="228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ts1.mm.bing.net/images/thumbnail.aspx?q=416044560048&amp;id=6aae9c70f375a6aacdc2f7cfe082e3cf&amp;url=http%3a%2f%2fi7.beon.ru%2f70%2f70%2f1647070%2f40%2f52998240%2f1034082_13911009_Kiba__by_lilaichee.jpeg"/>
          <p:cNvPicPr/>
          <p:nvPr/>
        </p:nvPicPr>
        <p:blipFill>
          <a:blip r:embed="rId6"/>
          <a:stretch/>
        </p:blipFill>
        <p:spPr>
          <a:xfrm>
            <a:off x="3786120" y="3929040"/>
            <a:ext cx="1571400" cy="24998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1" name="Picture 2" descr="D:\Shareman\Картинки\Записать\3D картинки\3D-graphics_Yellow_haze_014924_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357120" y="357120"/>
            <a:ext cx="857232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2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олерантный п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1800" spc="-1" strike="noStrike" cap="all">
                <a:solidFill>
                  <a:schemeClr val="accent4"/>
                </a:solidFill>
                <a:latin typeface="Times New Roman"/>
              </a:rPr>
              <a:t>это путь человека, который хорошо знает себя, комфортно чувствует себя в окружающей среде, понимает других людей, всегда готов прийти на помощь, с доброжелательным отношением к иным культурам, взглядам и традиц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ts3.mm.bing.net/images/thumbnail.aspx?q=413406726754&amp;id=56051663ccbc845a31f1c31822a4561e&amp;url=http%3a%2f%2f81.177.31.48%2fimages%2fbig%2f22047797.jpg"/>
          <p:cNvPicPr/>
          <p:nvPr/>
        </p:nvPicPr>
        <p:blipFill>
          <a:blip r:embed="rId2"/>
          <a:stretch/>
        </p:blipFill>
        <p:spPr>
          <a:xfrm>
            <a:off x="3286080" y="3714840"/>
            <a:ext cx="2857320" cy="246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ts4.mm.bing.net/images/thumbnail.aspx?q=545835260579&amp;id=41b1d6fe5cdc81e36c8eb497001e8d09&amp;url=http%3a%2f%2fmusicstatus.ru%2fimage%2fhappiness.jpg"/>
          <p:cNvPicPr/>
          <p:nvPr/>
        </p:nvPicPr>
        <p:blipFill>
          <a:blip r:embed="rId3"/>
          <a:stretch/>
        </p:blipFill>
        <p:spPr>
          <a:xfrm>
            <a:off x="6215040" y="3714840"/>
            <a:ext cx="2642760" cy="246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слайды 003"/>
          <p:cNvPicPr/>
          <p:nvPr/>
        </p:nvPicPr>
        <p:blipFill>
          <a:blip r:embed="rId4"/>
          <a:stretch/>
        </p:blipFill>
        <p:spPr>
          <a:xfrm>
            <a:off x="428760" y="3714840"/>
            <a:ext cx="2734920" cy="2428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  <Words>888</Words>
  <Paragraphs>88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3:23:10Z</dcterms:created>
  <dc:creator>Admin</dc:creator>
  <dc:description/>
  <dc:language>en-US</dc:language>
  <cp:lastModifiedBy>1</cp:lastModifiedBy>
  <dcterms:modified xsi:type="dcterms:W3CDTF">2012-12-21T18:15:02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