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3B9-ADBF-42F9-BD73-6DF78BB5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FF5-3111-4FD2-9FEB-F1EEB1F9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D89-7B1C-42A6-A944-A0F72E74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CDE-C309-4DDA-B9C2-D4F9790A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DE91-D6AD-49AA-B53A-1FA98EE7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8722-8552-41F7-8CEF-B52BA8E1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D6B0-702C-4905-8E71-9DE9164A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3F27-02FF-4489-96F3-6F5F48D3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93AF-8F61-4E1F-97AB-A8426F4F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1E44-8932-4E64-8C1E-2422B320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1F52-300C-4D72-B510-FF250DA5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3CA-5BA9-4B9D-8AF9-319879E4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023E-8744-4339-AE88-F52BFBAF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A0DB-4CCB-47D2-8DE4-5E4AA6EC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FCBA-8712-4658-9781-F18E0ED9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305D-5B3B-4BBA-8B65-513B81C2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3A90-B6D5-4108-A511-0FF667F5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1FD2-EE91-4D15-9B99-A3AFF3DB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3078-788B-49AE-B16D-04B83B19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CE44-2212-43A0-B275-6E52E54D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64124-8D98-493C-B922-CCFBDF72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76B6-97E6-4BB7-AC87-5A961EF2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B9C-353A-4BE8-9563-1F6E0CC5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A1A5-C23F-41F9-86B0-66E2A082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66AC-CB3B-43DF-9392-DA9658BB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429D-10FC-44E7-958C-82ABFE35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D668-79C1-4382-8FF7-11A5CE51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7BD4-DB29-49F0-8E57-5ECFE98D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5085-8056-4C8A-9A1C-4E39ADE5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13ED4-2684-407D-BEBD-42528BED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7BD8E-6A21-4302-A1D4-06770B60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F43F-2BE1-4D01-8E0A-ABA4639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2E09-382A-4766-A23D-DBE4D87D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BBAF-31BA-4E45-8F54-36BC54CA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F999-3462-43A2-B131-E3C9041C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062E-7438-489F-8C3C-91826EB7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7BAF-12C5-489F-8C06-22B5B89C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9BEE0-8468-418E-B62A-18B3B609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3C9B8-E1B0-40A2-83C5-A6DB1DE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D5EF-4F95-4FC0-AD07-D8596564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960B8-CFEB-4C12-BC0D-A997383D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FF6FF-1523-472D-9B4F-4CD2C606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E4DE-DFED-4428-8DB5-A3754CE7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92BF-20DF-459E-99A8-FCAEB02F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A71-D55A-418E-8444-3414796D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7A3A9-A804-46FC-BEBB-2A91B7AA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19EDF-4D1C-40CB-864B-915DE50D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61954-95F6-4B72-9BAF-0D915CC4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654AA-6F1B-4F2C-86D5-999EFD18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C7969-A703-4C9A-B7F6-FE1D6DE3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32A81-81EE-45A6-B789-67F5E2B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036DB-A4D3-4AB8-BC9A-CA259DBB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02385-B718-4123-8D1B-7E648AA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62411-A22D-4F75-BE80-55F88DB7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284FA-9E7B-4801-84F3-26F90777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5BD-D31E-447F-863A-9DFC463B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585E-5E44-474E-815F-7BB25EAF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E5A5B-2A43-41A1-9B70-25A9F11C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108D2-065D-4827-A3C5-805C3705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A55C1-5011-4F91-9C1A-D37A11F0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4A2CA-50F5-4B85-97BA-541DC3C6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E8807-C37B-40CB-B2F3-F75EEB91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EA44-4992-47CC-86E9-AA902839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3C2F2-29F7-435E-A3F0-9BA8B7C7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81F77-0742-4010-B7F3-C8B2F110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D499-3056-46D6-A15F-1EF34E8A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FA7-9CA6-4126-BAC2-E452C2B2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8E0C8-FAE8-4AC8-A13A-6E0CEE2C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272E0-A578-40F8-8B4D-5CC115B8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CAFC0-8C3F-4F51-AC36-6F159A91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156-137E-41DF-BD19-055F27EA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8D3-E8F9-4281-AF4A-D798E9C7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9582-AA74-463F-AAA8-79427A5121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017-E3B9-453D-B6D2-B105779D07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FF4A-5CA9-4726-BDCF-07D244B7A4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A40A-CF43-4C46-9C48-77E726C682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BF7A-0B67-4D8C-B11B-E5A5D21358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042E-9798-43BA-AFA0-3A08546162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682560" y="1633680"/>
            <a:ext cx="7785000" cy="19573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733920" y="57146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Lucida Sans Unicode"/>
              </a:rPr>
              <a:t>Подготовила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Lucida Sans Unicode"/>
              </a:rPr>
              <a:t>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Lucida Sans Unicode"/>
              </a:rPr>
              <a:t>ЦУЦУРА М.М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В отличие от царапин и ссадин порез может сильно кровоточить. Нельзя впадать в панику. Что надо делать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Во-первых, надо промыть рану. Лучше сделать это бледно-розовым раствором марганцовк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Во-вторых, определить, какое это кровотеч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Если кровь слабо сочится, то повреждены только капилляры – самые мелкие кровеносные сосуды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480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промывать их водой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допускать попадание прижигающих веществ (спирта, йода) внутрь раны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удалять застрявшие инородные тела и грязь из глубоких ран (это может делать только врач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засыпать рану порошками, накладывать на неё мазь, прикладывать на поверхность раны вату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удалять прилипшую, пропитавшуюся кровью повязку, необходимо просто поверх неё наложить новую, стерильную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201600" y="353880"/>
            <a:ext cx="84916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105766"/>
                </a:solidFill>
                <a:latin typeface="Lucida Sans Unicode"/>
              </a:rPr>
              <a:t>При венозном кровотечении обязательно </a:t>
            </a:r>
            <a:r>
              <a:rPr b="0" lang="ru-RU" sz="2700" spc="-1" strike="noStrike">
                <a:solidFill>
                  <a:srgbClr val="f22604"/>
                </a:solidFill>
                <a:latin typeface="Lucida Sans Unicode"/>
              </a:rPr>
              <a:t>накладывается тугая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105766"/>
                </a:solidFill>
                <a:latin typeface="Lucida Sans Unicode"/>
              </a:rPr>
              <a:t>(давящая) </a:t>
            </a:r>
            <a:r>
              <a:rPr b="0" lang="ru-RU" sz="2700" spc="-1" strike="noStrike">
                <a:solidFill>
                  <a:srgbClr val="f22604"/>
                </a:solidFill>
                <a:latin typeface="Lucida Sans Unicode"/>
              </a:rPr>
              <a:t>повязк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ru-RU" sz="2700" spc="-1" strike="noStrike">
                <a:solidFill>
                  <a:srgbClr val="105766"/>
                </a:solidFill>
                <a:latin typeface="Lucida Sans Unicode"/>
              </a:rPr>
              <a:t>поверх раны накладывают несколько слоев марли, бинта, плотный комок ваты и туго бинтуют. Через какое-то время кровотечение должно прекратиться. Не откладывая на потом, </a:t>
            </a:r>
            <a:r>
              <a:rPr b="0" lang="ru-RU" sz="2700" spc="-1" strike="noStrike">
                <a:solidFill>
                  <a:srgbClr val="f22604"/>
                </a:solidFill>
                <a:latin typeface="Lucida Sans Unicode"/>
              </a:rPr>
              <a:t>пострадавшего </a:t>
            </a:r>
            <a:r>
              <a:rPr b="0" lang="ru-RU" sz="2700" spc="-1" strike="noStrike">
                <a:solidFill>
                  <a:srgbClr val="105766"/>
                </a:solidFill>
                <a:latin typeface="Lucida Sans Unicode"/>
              </a:rPr>
              <a:t>надо </a:t>
            </a:r>
            <a:r>
              <a:rPr b="0" lang="ru-RU" sz="2700" spc="-1" strike="noStrike">
                <a:solidFill>
                  <a:srgbClr val="f22604"/>
                </a:solidFill>
                <a:latin typeface="Lucida Sans Unicode"/>
              </a:rPr>
              <a:t>показать врачу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400" spc="-1" strike="noStrike">
                <a:solidFill>
                  <a:srgbClr val="105766"/>
                </a:solidFill>
                <a:latin typeface="Lucida Sans Unicode"/>
              </a:rPr>
              <a:t>Особенно важно остановить артериальное кровотечение, потому что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Артериальное кровотечени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105766"/>
                </a:solidFill>
                <a:latin typeface="Lucida Sans Unicode"/>
              </a:rPr>
              <a:t>всегд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очень сильн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ru-RU" sz="2400" spc="-1" strike="noStrike">
                <a:solidFill>
                  <a:srgbClr val="105766"/>
                </a:solidFill>
                <a:latin typeface="Lucida Sans Unicode"/>
              </a:rPr>
              <a:t>Ярко-алая кровь хлещет из раны пульсирующей струей (в такт с ударами сердца). Надо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остановить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ее, не теряя ни секунды</a:t>
            </a:r>
            <a:r>
              <a:rPr b="0" lang="ru-RU" sz="2400" spc="-1" strike="noStrike">
                <a:solidFill>
                  <a:srgbClr val="105766"/>
                </a:solidFill>
                <a:latin typeface="Lucida Sans Unicode"/>
              </a:rPr>
              <a:t>, а затем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сразу же обратиться к врачу</a:t>
            </a:r>
            <a:r>
              <a:rPr b="0" lang="ru-RU" sz="2400" spc="-1" strike="noStrike">
                <a:solidFill>
                  <a:srgbClr val="105766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400" spc="-1" strike="noStrike">
                <a:solidFill>
                  <a:srgbClr val="105766"/>
                </a:solidFill>
                <a:latin typeface="Lucida Sans Unicode"/>
              </a:rPr>
              <a:t>В организме взрослого человека содержится в среднем 5 литров крови. Потеря хотя бы 1 литра может привести к опасному для жизни шоковому состоянию,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потеря 2–2,5 л – смертельна для человека</a:t>
            </a:r>
            <a:r>
              <a:rPr b="0" lang="ru-RU" sz="2400" spc="-1" strike="noStrike">
                <a:solidFill>
                  <a:srgbClr val="105766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3657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05766"/>
                </a:solidFill>
                <a:latin typeface="Lucida Sans Unicode"/>
              </a:rPr>
              <a:t>БУДЬТЕ ЗДОРОВЫ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0" name="Заголовок 2" descr=""/>
          <p:cNvPicPr/>
          <p:nvPr/>
        </p:nvPicPr>
        <p:blipFill>
          <a:blip r:embed="rId1"/>
          <a:stretch/>
        </p:blipFill>
        <p:spPr>
          <a:xfrm>
            <a:off x="378000" y="1652760"/>
            <a:ext cx="82422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105766"/>
                </a:solidFill>
                <a:latin typeface="Lucida Sans Unicode"/>
              </a:rPr>
              <a:t>Наша кожа – замечательное изобретение природы. Это самая удобная одежда, из которой никогда не вырастешь. Она совсем не промокает и не изнашивается. Наоборот, сама восстанавливается. Кожа защищает внутренние органы от грязи и инфекций, помогает нам приспособиться к жаре и холоду. Но есть у кожи один недостаток – она очень тонкая, ее легко поранить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68200" y="40176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Излияние крови из кровеносного сосуда называется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кровотечением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ричины  кровотечений  разнообразны – это  укол, разрез, растяжение и т. д. Даже небольшая потеря крови сразу делает человека слабее. Поэтому, поранившись, надо быстро остановить кровотечение и защитить рану от грязи и инфекци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равильная обработка раны в первые минуты может избавить от многих будущих неприятностей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Различают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артериальное, венозное, капиллярное</a:t>
            </a: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 кровотечения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604"/>
                </a:solidFill>
                <a:latin typeface="Lucida Sans Unicode"/>
              </a:rPr>
              <a:t>Внутриполостное кровотечение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– это кровотечение, при котором кровь изливается наружу или во внутренние полости – череп, грудь, живот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604"/>
                </a:solidFill>
                <a:latin typeface="Lucida Sans Unicode"/>
              </a:rPr>
              <a:t>Артериальное кровотечение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– распознается по наличию напряженной, пульсирующей, а иногда бьющей фонтаном струи алой кров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604"/>
                </a:solidFill>
                <a:latin typeface="Lucida Sans Unicode"/>
              </a:rPr>
              <a:t>Венозное кровотечение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– возникает при ранении вен. Давление крови в венах гораздо меньше, чем в артериях, поэтому кровь из раненой вены вытекает медленнее, ровной струей, имеет темно-вишневую окраск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604"/>
                </a:solidFill>
                <a:latin typeface="Lucida Sans Unicode"/>
              </a:rPr>
              <a:t>Капиллярное кровотечение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– возникает при повреждении мельчайших кровеносных сосудов – капилляров, чаще кожи или слизистой оболочки. При этом кровь некоторое время сочится по всей поверхности раны, но вскоре свертывается, и кровотечение самопроизвольно останавливаетс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800" spc="-1" strike="noStrike">
                <a:solidFill>
                  <a:srgbClr val="f22604"/>
                </a:solidFill>
                <a:latin typeface="Lucida Sans Unicode"/>
              </a:rPr>
              <a:t>Кровь обладает свойством свёртываться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на воздухе. Это свойство крови и является причиной самопроизвольной остановки кровотечений из вен и капилляров, когда кровь вытекает медленно, спокойно, под небольшим давлением и без толчк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2604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f22604"/>
                </a:solidFill>
                <a:latin typeface="Lucida Sans Unicode"/>
              </a:rPr>
              <a:t>	</a:t>
            </a:r>
            <a:r>
              <a:rPr b="0" lang="ru-RU" sz="2800" spc="-1" strike="noStrike">
                <a:solidFill>
                  <a:srgbClr val="f22604"/>
                </a:solidFill>
                <a:latin typeface="Lucida Sans Unicode"/>
              </a:rPr>
              <a:t>Кровотечение из артерий</a:t>
            </a: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, особенно крупных,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f22604"/>
                </a:solidFill>
                <a:latin typeface="Lucida Sans Unicode"/>
              </a:rPr>
              <a:t>наиболее опасно</a:t>
            </a:r>
            <a:r>
              <a:rPr b="0" lang="ru-RU" sz="2800" spc="-1" strike="noStrike">
                <a:solidFill>
                  <a:srgbClr val="105766"/>
                </a:solidFill>
                <a:latin typeface="Lucida Sans Unicode"/>
              </a:rPr>
              <a:t>, так как из-за высокого давления струи и пульсовых толчков образование сгустков крови (тромб), которые закроют просвет кровоточащего сосуда, очень затруднено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Царапина, ссадина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 такой травмой справиться нетрудно. Обычно царапины кровоточат несильно. Как правило, кровь перестает течь сама собой, а на ранке образуется корочк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Если ранка загрязнена, надо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промыть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её теплой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кипяченой водой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с мылом. Для промывания можно использовать и перекись водорода. Потом надо помазать кожу по краям ранки йодом или зеленкой. А после этого </a:t>
            </a:r>
            <a:r>
              <a:rPr b="0" lang="ru-RU" sz="2400" spc="-1" strike="noStrike">
                <a:solidFill>
                  <a:srgbClr val="f22604"/>
                </a:solidFill>
                <a:latin typeface="Lucida Sans Unicode"/>
              </a:rPr>
              <a:t>наклеить бактерицидный пластырь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чтобы не занести инфекцию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  </a:t>
            </a: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1) опасность её инфицирования (заражения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  </a:t>
            </a: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2) начавшееся кровотечени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	</a:t>
            </a:r>
            <a:r>
              <a:rPr b="0" i="1" lang="ru-RU" sz="2700" spc="-1" strike="noStrike">
                <a:solidFill>
                  <a:srgbClr val="105766"/>
                </a:solidFill>
                <a:latin typeface="Lucida Sans Unicode"/>
              </a:rPr>
              <a:t>(оно может быть настолько сильным, что возникает опасность для жизни из-за большой потери крови)</a:t>
            </a:r>
            <a:r>
              <a:rPr b="0" lang="ru-RU" sz="2700" spc="-1" strike="noStrike">
                <a:solidFill>
                  <a:srgbClr val="105766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378000" y="341280"/>
            <a:ext cx="83944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Lucida Sans Unicode"/>
              </a:rPr>
              <a:t>     </a:t>
            </a:r>
            <a:r>
              <a:rPr b="1" lang="ru-RU" sz="2400" spc="-1" strike="noStrike">
                <a:solidFill>
                  <a:srgbClr val="105766"/>
                </a:solidFill>
                <a:latin typeface="Lucida Sans Unicode"/>
              </a:rPr>
              <a:t>Часто при ушибах носа или головы могут возникать кровотечения из носа. Чтобы остановить носовое кровотечение, нужно посадить пострадавшего с запрокинутой головой, запретив ему опускать ее, сморкаться и двигаться. Обязательно расстегнуть ворот его рубашки и положить на переносицу холодный компресс. Полезно на 3–5 минут зажать ему пальцами ноздри, сдавливая таким образом кровеносные сосуд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Lucida Sans Unicode"/>
              </a:rPr>
              <a:t>     </a:t>
            </a:r>
            <a:r>
              <a:rPr b="1" lang="ru-RU" sz="2400" spc="-1" strike="noStrike">
                <a:solidFill>
                  <a:srgbClr val="105766"/>
                </a:solidFill>
                <a:latin typeface="Lucida Sans Unicode"/>
              </a:rPr>
              <a:t>Если в течение 30 минут остановить кровотечение не удается, пострадавшего нужно срочно доставить к врачу, заложив кровоточащую ноздрю ватой или марле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Кровотечение из уха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 (если нет раны наружного уха)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указывает на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 серьезное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повреждение черепа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	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Как бы бодро пострадавший себя ни чувствовал, его следует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уложить, запретив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 всякие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движения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	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На ухо больного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наложить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 стерильную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повязку 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и на носилках или на руках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доставить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 его </a:t>
            </a:r>
            <a:r>
              <a:rPr b="1" i="1" lang="ru-RU" sz="2700" spc="-1" strike="noStrike" u="sng">
                <a:solidFill>
                  <a:srgbClr val="105766"/>
                </a:solidFill>
                <a:uFillTx/>
                <a:latin typeface="Lucida Sans Unicode"/>
              </a:rPr>
              <a:t>к врачу</a:t>
            </a:r>
            <a:r>
              <a:rPr b="1" lang="ru-RU" sz="2700" spc="-1" strike="noStrike">
                <a:solidFill>
                  <a:srgbClr val="105766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0" name="Rectangle 2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8480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15:12Z</dcterms:created>
  <dc:creator>Юля</dc:creator>
  <dc:description/>
  <dc:language>en-US</dc:language>
  <cp:lastModifiedBy>User</cp:lastModifiedBy>
  <dcterms:modified xsi:type="dcterms:W3CDTF">2012-12-21T18:21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