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760-0269-4FB5-B191-55DAC141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21F-4732-4BBB-8804-75827686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FFF-28F8-478E-BF98-D755CF92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DFD-851E-4077-95AC-477302FB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1A1A-6412-40BB-8BB2-73013F37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42DA-D7E5-4926-9F41-31A454E4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6F2A-942E-4E19-9381-C884F4F6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F3D8-ED30-42B0-8F5C-FEBFACB7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3248-F3F7-43A5-9C0B-CAF6EBEE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469F-07DE-4F3F-B764-4EFC6D0B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1E2E-5BEB-4ED8-8E2F-DF679412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12D-3F06-423A-A00D-30BD2D26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DB21-AA79-4C8B-A865-893D618E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263B-1AC6-4B18-AFF3-0A7C60A3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A9AC-82C1-4B75-8C92-8CB89468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8381-08E0-4A3C-BDEC-AA85694C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5283-720E-49D9-BA17-73050462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299D-6440-4DBC-AB15-F469EB4A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71A36-A5D4-44D1-95FB-F0283ADB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967E7-4028-426C-8D2E-834250BF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07CD-68CE-44FD-83CA-5FE130F6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CB44-6FD2-4361-8859-3D7BDE46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E3E-4EA2-43D5-AD07-E5050136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5D1F-5F79-462B-9B6A-55CB7B52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5B6F8-98BC-48C2-8912-00D1A1DA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C414-89E4-4E2A-9345-67C1A1C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F0D2-E04F-42DC-81C2-282E18E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96EA-95BD-4577-AA2E-4FBFD9A0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AF10-19CF-492A-BAA4-EC4192C4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F9EC-1C7F-4CE1-AAAF-BCAC2CF8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4838A-3DF8-40E3-9FC6-DEA6FD35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0B799-E8B8-4765-AA82-59D90503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05F5-1353-4E47-9DF1-CE31C1E5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51E-8BB3-4C86-86A5-163EACDB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090E-AFB1-4D20-A992-79367574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EF8B-EF0B-4BC3-BC17-9909A992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57DA-086A-4048-A40F-09DB3D7B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FD7DB-9CF1-40E8-87BE-6835D44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162C4-7AB1-4A16-98D2-BDD992F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7EEA-C90B-4EC8-BDA6-19ABC3A8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19B55-952A-40F4-BEE1-8BD4C911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9430-4AE1-482F-ACF0-0E97A223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EC62D-80B4-4A70-8050-6F8D079B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0664D-F1CF-42D6-BC82-043C592D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E82-856E-4212-AF89-FA676CD6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2C48D-0F96-4A8A-83A6-8BB4CD50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5263-680E-4D19-9081-D0F6E01E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00F4E-8AD4-458E-ADFA-236E9BA5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E6C89-1B5A-48F2-9B4B-4D3D703E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916F8-5C93-4224-949F-42494EE9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A6B2C-80AB-4CB1-AB6E-F984A040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2386D-0C80-4433-9E51-8B3A26B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04F4-4C05-419F-9512-96539761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F2575-77B2-4952-9605-BEC66C00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1C6AC-7E40-4A37-A500-9326ECFD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B4D-2501-43D4-8B49-F7DC0902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D461-D603-4B2A-B64B-13BA873B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5990A-6748-4B54-A2E1-79061B0D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5CFDF-8B39-44DB-AA7A-DF4F0968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E2F61-741E-460E-BD03-6DF4D7DE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AB4CE-23A3-4D74-91A4-EE073D1E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70223-5E88-4B32-9028-726A71EB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9B0AB-2951-41C2-A7DD-3692895A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3812-ED2E-4731-996F-F5BB14FA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ED627-321A-468A-A9D6-B1182BAB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C5D02-C105-43B0-B28D-F1C5B2B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ADA-5A91-4E2A-B31A-1FDDD727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0000D-3ACB-4CB6-BD23-C93A3F64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E4716-94F2-49FF-9DA5-2BC9CD82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508CF-45BF-4A2D-8847-B184EEBF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CB6-18B0-4EB8-BC72-DB168C12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B99-7DE8-4641-BDBF-E5503D81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05AC-44C5-41C2-9559-DCFF9FBFB7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85DF-7FDA-4360-8CFB-F480D95053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8202-E987-4061-8B93-F266BEF4D0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C802-1011-4C5A-8174-F9DDCB658F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030D-1F1C-4E39-B0F3-5623A2C37C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29DD-C321-47FF-ADEC-873BCEC41A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682560" y="1633680"/>
            <a:ext cx="7785000" cy="19573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733920" y="57146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Lucida Sans Unicode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Lucida Sans Unicode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Lucida Sans Unicode"/>
              </a:rPr>
              <a:t>ЦУЦУРА М.М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В отличие от царапин и ссадин порез может сильно кровоточить. Нельзя впадать в панику. Что надо делать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Во-первых, надо промыть рану. Лучше сделать это бледно-розовым раствором марганцовк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Во-вторых, определить, какое это кровотеч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Если кровь слабо сочится, то повреждены только капилляры – самые мелкие кровеносные сосуды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480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промывать их водой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допускать попадание прижигающих веществ (спирта, йода) внутрь раны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удалять застрявшие инородные тела и грязь из глубоких ран (это может делать только врач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засыпать рану порошками, накладывать на неё мазь, прикладывать на поверхность раны вату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удалять прилипшую, пропитавшуюся кровью повязку, необходимо просто поверх неё наложить новую, стерильную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201600" y="353880"/>
            <a:ext cx="84916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105766"/>
                </a:solidFill>
                <a:latin typeface="Lucida Sans Unicode"/>
              </a:rPr>
              <a:t>При венозном кровотечении обязательно </a:t>
            </a:r>
            <a:r>
              <a:rPr b="0" lang="ru-RU" sz="2700" spc="-1" strike="noStrike">
                <a:solidFill>
                  <a:srgbClr val="f22604"/>
                </a:solidFill>
                <a:latin typeface="Lucida Sans Unicode"/>
              </a:rPr>
              <a:t>накладывается тугая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105766"/>
                </a:solidFill>
                <a:latin typeface="Lucida Sans Unicode"/>
              </a:rPr>
              <a:t>(давящая) </a:t>
            </a:r>
            <a:r>
              <a:rPr b="0" lang="ru-RU" sz="2700" spc="-1" strike="noStrike">
                <a:solidFill>
                  <a:srgbClr val="f22604"/>
                </a:solidFill>
                <a:latin typeface="Lucida Sans Unicode"/>
              </a:rPr>
              <a:t>повязк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ru-RU" sz="2700" spc="-1" strike="noStrike">
                <a:solidFill>
                  <a:srgbClr val="105766"/>
                </a:solidFill>
                <a:latin typeface="Lucida Sans Unicode"/>
              </a:rPr>
              <a:t>поверх раны накладывают несколько слоев марли, бинта, плотный комок ваты и туго бинтуют. Через какое-то время кровотечение должно прекратиться. Не откладывая на потом, </a:t>
            </a:r>
            <a:r>
              <a:rPr b="0" lang="ru-RU" sz="2700" spc="-1" strike="noStrike">
                <a:solidFill>
                  <a:srgbClr val="f22604"/>
                </a:solidFill>
                <a:latin typeface="Lucida Sans Unicode"/>
              </a:rPr>
              <a:t>пострадавшего </a:t>
            </a:r>
            <a:r>
              <a:rPr b="0" lang="ru-RU" sz="2700" spc="-1" strike="noStrike">
                <a:solidFill>
                  <a:srgbClr val="105766"/>
                </a:solidFill>
                <a:latin typeface="Lucida Sans Unicode"/>
              </a:rPr>
              <a:t>надо </a:t>
            </a:r>
            <a:r>
              <a:rPr b="0" lang="ru-RU" sz="2700" spc="-1" strike="noStrike">
                <a:solidFill>
                  <a:srgbClr val="f22604"/>
                </a:solidFill>
                <a:latin typeface="Lucida Sans Unicode"/>
              </a:rPr>
              <a:t>показать врачу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400" spc="-1" strike="noStrike">
                <a:solidFill>
                  <a:srgbClr val="105766"/>
                </a:solidFill>
                <a:latin typeface="Lucida Sans Unicode"/>
              </a:rPr>
              <a:t>Особенно важно остановить артериальное кровотечение, потому что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Артериальное кровотечени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всегд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очень сильн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Ярко-алая кровь хлещет из раны пульсирующей струей (в такт с ударами сердца). Надо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остановить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ее, не теряя ни секунды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, а затем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сразу же обратиться к врачу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В организме взрослого человека содержится в среднем 5 литров крови. Потеря хотя бы 1 литра может привести к опасному для жизни шоковому состоянию,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потеря 2–2,5 л – смертельна для человека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3657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05766"/>
                </a:solidFill>
                <a:latin typeface="Lucida Sans Unicode"/>
              </a:rPr>
              <a:t>БУДЬТЕ ЗДОРОВЫ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0" name="Заголовок 2" descr=""/>
          <p:cNvPicPr/>
          <p:nvPr/>
        </p:nvPicPr>
        <p:blipFill>
          <a:blip r:embed="rId1"/>
          <a:stretch/>
        </p:blipFill>
        <p:spPr>
          <a:xfrm>
            <a:off x="378000" y="1652760"/>
            <a:ext cx="82422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Наша кожа – замечательное изобретение природы. Это самая удобная одежда, из которой никогда не вырастешь. Она совсем не промокает и не изнашивается. Наоборот, сама восстанавливается. Кожа защищает внутренние органы от грязи и инфекций, помогает нам приспособиться к жаре и холоду. Но есть у кожи один недостаток – она очень тонкая, ее легко поранить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68200" y="40176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Излияние крови из кровеносного сосуда называется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кровотечением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ричины  кровотечений  разнообразны – это  укол, разрез, растяжение и т. д. Даже небольшая потеря крови сразу делает человека слабее. Поэтому, поранившись, надо быстро остановить кровотечение и защитить рану от грязи и инфекци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равильная обработка раны в первые минуты может избавить от многих будущих неприятносте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азличают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артериальное, венозное, капиллярное</a:t>
            </a: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 кровотечения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604"/>
                </a:solidFill>
                <a:latin typeface="Lucida Sans Unicode"/>
              </a:rPr>
              <a:t>Внутриполостное кровотечение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 это кровотечение, при котором кровь изливается наружу или во внутренние полости – череп, грудь, живот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604"/>
                </a:solidFill>
                <a:latin typeface="Lucida Sans Unicode"/>
              </a:rPr>
              <a:t>Артериальное кровотечение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 распознается по наличию напряженной, пульсирующей, а иногда бьющей фонтаном струи алой кров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604"/>
                </a:solidFill>
                <a:latin typeface="Lucida Sans Unicode"/>
              </a:rPr>
              <a:t>Венозное кровотечение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 возникает при ранении вен. Давление крови в венах гораздо меньше, чем в артериях, поэтому кровь из раненой вены вытекает медленнее, ровной струей, имеет темно-вишневую окраск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604"/>
                </a:solidFill>
                <a:latin typeface="Lucida Sans Unicode"/>
              </a:rPr>
              <a:t>Капиллярное кровотечение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 возникает при повреждении мельчайших кровеносных сосудов – капилляров, чаще кожи или слизистой оболочки. При этом кровь некоторое время сочится по всей поверхности раны, но вскоре свертывается, и кровотечение самопроизвольно останавливаетс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800" spc="-1" strike="noStrike">
                <a:solidFill>
                  <a:srgbClr val="f22604"/>
                </a:solidFill>
                <a:latin typeface="Lucida Sans Unicode"/>
              </a:rPr>
              <a:t>Кровь обладает свойством свёртываться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на воздухе. Это свойство крови и является причиной самопроизвольной остановки кровотечений из вен и капилляров, когда кровь вытекает медленно, спокойно, под небольшим давлением и без толчк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2604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f22604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f22604"/>
                </a:solidFill>
                <a:latin typeface="Lucida Sans Unicode"/>
              </a:rPr>
              <a:t>Кровотечение из артерий</a:t>
            </a: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, особенно крупных,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f22604"/>
                </a:solidFill>
                <a:latin typeface="Lucida Sans Unicode"/>
              </a:rPr>
              <a:t>наиболее опасно</a:t>
            </a: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, так как из-за высокого давления струи и пульсовых толчков образование сгустков крови (тромб), которые закроют просвет кровоточащего сосуда, очень затруднено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Царапина, ссадина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 такой травмой справиться нетрудно. Обычно царапины кровоточат несильно. Как правило, кровь перестает течь сама собой, а на ранке образуется корочк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Если ранка загрязнена, надо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промыть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её теплой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кипяченой водой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с мылом. Для промывания можно использовать и перекись водорода. Потом надо помазать кожу по краям ранки йодом или зеленкой. А после этого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наклеить бактерицидный пластырь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чтобы не занести инфекцию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  </a:t>
            </a: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1) опасность её инфицирования (заражения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  </a:t>
            </a: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2) начавшееся кровотечени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	</a:t>
            </a: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(оно может быть настолько сильным, что возникает опасность для жизни из-за большой потери крови)</a:t>
            </a:r>
            <a:r>
              <a:rPr b="0" lang="ru-RU" sz="2700" spc="-1" strike="noStrike">
                <a:solidFill>
                  <a:srgbClr val="105766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378000" y="341280"/>
            <a:ext cx="83944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r>
              <a:rPr b="1" lang="ru-RU" sz="2400" spc="-1" strike="noStrike">
                <a:solidFill>
                  <a:srgbClr val="105766"/>
                </a:solidFill>
                <a:latin typeface="Lucida Sans Unicode"/>
              </a:rPr>
              <a:t>Часто при ушибах носа или головы могут возникать кровотечения из носа. Чтобы остановить носовое кровотечение, нужно посадить пострадавшего с запрокинутой головой, запретив ему опускать ее, сморкаться и двигаться. Обязательно расстегнуть ворот его рубашки и положить на переносицу холодный компресс. Полезно на 3–5 минут зажать ему пальцами ноздри, сдавливая таким образом кровеносные сосуд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r>
              <a:rPr b="1" lang="ru-RU" sz="2400" spc="-1" strike="noStrike">
                <a:solidFill>
                  <a:srgbClr val="105766"/>
                </a:solidFill>
                <a:latin typeface="Lucida Sans Unicode"/>
              </a:rPr>
              <a:t>Если в течение 30 минут остановить кровотечение не удается, пострадавшего нужно срочно доставить к врачу, заложив кровоточащую ноздрю ватой или марле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Кровотечение из уха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 (если нет раны наружного уха)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указывает на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 серьезное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повреждение черепа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	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Как бы бодро пострадавший себя ни чувствовал, его следует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уложить, запретив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 всякие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движения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	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На ухо больного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наложить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 стерильную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повязку 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и на носилках или на руках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доставить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 его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к врачу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8480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15:12Z</dcterms:created>
  <dc:creator>Юля</dc:creator>
  <dc:description/>
  <dc:language>en-US</dc:language>
  <cp:lastModifiedBy>User</cp:lastModifiedBy>
  <dcterms:modified xsi:type="dcterms:W3CDTF">2012-12-21T18:21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