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1B84-64D5-47AE-AFC4-0B1C840633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9CF0-16FF-4FC8-BEEF-94A2DA5C77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2313-B09B-4411-8A57-57690F7700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02D-B746-4951-A5C9-4BADC3D3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6E6B-0BE0-4A7A-826F-3BEDE56A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E464-56E8-424F-AA97-0E5B7D30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403-8A84-4090-821B-4834F78E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20F-3304-4CA2-9D62-E5A20268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608A-1CA6-4A83-9559-2DCCF113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FF0-9745-4786-958E-8D0726D3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2145-DE52-423E-AD58-83579C7F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CE8-9567-474F-9A48-6852AC38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03B-FC02-4FAF-9FBC-D2264E06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29B-89E5-45B4-B220-DF140413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5AE-F2BB-4422-A566-DF340D44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8774-CB52-4E46-AAC6-0070158166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11"/>
          <p:cNvSpPr txBox="1"/>
          <p:nvPr/>
        </p:nvSpPr>
        <p:spPr>
          <a:xfrm>
            <a:off x="1219320" y="2133720"/>
            <a:ext cx="7543800" cy="392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ыргай хайванн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Табышм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срамый да умарт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лны бик-бик ярат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ышын сөя йокын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згача тормый ят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ю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10" descr=""/>
          <p:cNvPicPr/>
          <p:nvPr/>
        </p:nvPicPr>
        <p:blipFill>
          <a:blip r:embed="rId2"/>
          <a:stretch/>
        </p:blipFill>
        <p:spPr>
          <a:xfrm>
            <a:off x="165240" y="1085760"/>
            <a:ext cx="2571480" cy="3559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297F-825B-47CD-B9CC-FFD9E4396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image002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2"/>
          <p:cNvPicPr/>
          <p:nvPr/>
        </p:nvPicPr>
        <p:blipFill>
          <a:blip r:embed="rId3"/>
          <a:stretch/>
        </p:blipFill>
        <p:spPr>
          <a:xfrm>
            <a:off x="30492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228600" y="380880"/>
            <a:ext cx="609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33cc"/>
              </a:solidFill>
              <a:latin typeface="Times New Roman"/>
              <a:ea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80880" y="182880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0" descr=""/>
          <p:cNvPicPr/>
          <p:nvPr/>
        </p:nvPicPr>
        <p:blipFill>
          <a:blip r:embed="rId4"/>
          <a:stretch/>
        </p:blipFill>
        <p:spPr>
          <a:xfrm>
            <a:off x="1457280" y="1773360"/>
            <a:ext cx="2529000" cy="3249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0" y="66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Т</a:t>
            </a:r>
            <a:r>
              <a:rPr b="0" lang="tt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өл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2"/>
          <p:cNvSpPr/>
          <p:nvPr/>
        </p:nvSpPr>
        <p:spPr>
          <a:xfrm>
            <a:off x="4800600" y="1905120"/>
            <a:ext cx="3124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маннан чыгар, корсак асты чуар;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йрыгы сырлы, хәйләсе күптөрл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өлке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60F4-BE46-4C7F-92CC-14303D841B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8" descr=""/>
          <p:cNvPicPr/>
          <p:nvPr/>
        </p:nvPicPr>
        <p:blipFill>
          <a:blip r:embed="rId4"/>
          <a:stretch/>
        </p:blipFill>
        <p:spPr>
          <a:xfrm>
            <a:off x="1609560" y="1773360"/>
            <a:ext cx="1981440" cy="40179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0" y="828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Куя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0"/>
          <p:cNvSpPr/>
          <p:nvPr/>
        </p:nvSpPr>
        <p:spPr>
          <a:xfrm>
            <a:off x="3962520" y="182880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йтим бер йомак: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Җәен соры, кышын ак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өймә койрык, шеш колак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уян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F5AD-7A0E-4EAF-81D3-FFF649D872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"/>
          <p:cNvPicPr/>
          <p:nvPr/>
        </p:nvPicPr>
        <p:blipFill>
          <a:blip r:embed="rId3"/>
          <a:stretch/>
        </p:blipFill>
        <p:spPr>
          <a:xfrm>
            <a:off x="1609560" y="1163520"/>
            <a:ext cx="2041560" cy="37134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0" y="341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Бү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3886200" y="1523880"/>
            <a:ext cx="2971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ыдыр төсе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ткендер теше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манда йөри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ыклар эзли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үре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liya</dc:creator>
  <dc:description/>
  <dc:language>en-US</dc:language>
  <cp:lastModifiedBy>пк</cp:lastModifiedBy>
  <cp:lastPrinted>2012-11-21T15:24:08Z</cp:lastPrinted>
  <dcterms:modified xsi:type="dcterms:W3CDTF">2012-12-21T18:24:26Z</dcterms:modified>
  <cp:revision>1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