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click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D59-F97B-47E9-B973-06611E93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638-F284-431E-A4F6-780E3B1F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5DE-1F0C-4F0F-B89E-64E30AA4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A23-A864-45B1-8332-5A8A76FA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ED7-E744-46B9-8B56-80A04A57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708-B0D5-41E3-B02E-A5D6BFC2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831-F542-4144-B3B4-A1AF6F36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081-3E40-4B48-ABBE-41F8701C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C36-37E6-46C3-919E-F39B4C70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2C2-6549-420A-9CBB-0F3E14D6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994-D012-401E-8983-76A95B75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FED3-2714-4F43-80EB-162B4558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4819-9DE4-4DF6-8DBF-1539B5548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oreask=1&amp;lr=11457&amp;ed=1&amp;text=&#1076;&#1077;&#1082;&#1091;&#1087;&#1072;&#1078;&amp;p=0&amp;img_url=kita.com.ua/uploads/tiny_mce/loadimg/th_65686de6b37bb67ce42b42d03f99cc58.jpeg?hash=647&amp;rpt=simage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администрации Амурского муниципального райо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 3 г. Амурс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урского муниципального района Хабаровского кр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785600"/>
            <a:ext cx="70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ВОРЧЕСКИЙ ПРОЕК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НОВОГОДНИЙ СУВЕНИ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ученица 7  «Б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 МОУ СОШ №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Амурска Бобыльских Ольг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Ю.В. Малько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технолог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Амурс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– бутыл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й П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иловый л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иловые кра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иловый конту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ласная л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техники безопас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авила техники безопасности при работе с ножниц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ножницы следует строго по назнач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адении ножниц не надо пытаться их поймать, во избежание травм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ножницы, нужно держать их острыми концами от себ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махивать руками, если там находятся нож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 класть кольцами к с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влять ножницы раскрыт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кончания работы класть ножницы в футля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ледовательность изготовления издел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стить поверхность бутылки от всех наклеек и этикет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жирить поверхность бутылки средством для мытья стеко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ть поверхность бутылки белой акриловой краской с помощью губки, дать краске высохну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ить от старых открыток верхний слой, отмочить его в воде, смазать клеем, приложить к бутылке, покрыть клеем всю поверхность изображений, дать хорошо высохну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ть свободные от изображений места синей краской, горлышко – желтой, дать высохну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нтуру изображений нанести акриловый контур, хорошо просуш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сколько слоев нанести акриловый лак, просуш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рлышко завязать атласную лен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ЗУЛЬТАТ МОЕ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edge/>
    <p:sndAc>
      <p:stSnd>
        <p:snd r:embed="rId2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кономическая оцен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это стоит? Первичные затраты невелики: можно обойтись клеем и салфетками. Можно войти во вкус, докупить краски, маркеры, лаки и д.т. Дело вкуса, фантазии и кошель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чет затрат на материалы не вошла стоимость клея ПВА, бутылки, открыток, кисти, акриловых красок и контура, очистителя окон, так как эти материалы и предметы нашлись у меня д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аты на электроэнергию также не учитываем, т.к. работы проводились в дневное врем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, что на работу я потратила 5 рублей, именно столько обошлась мне атласная лента. А акриловый лак я попросила у моего учителя техно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кологическая оцен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декупажа не оказывает отрицательного воздействия на окружающую среду. При изготовлении изделия были использованы экологически чистые материа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выполнения декупажа не оказывает отрицательного влияния на здоровье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декупажа не представляет особой сложности в выполнении, но требует внимательности и аккурат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упаж – это увлекательный, творческий труд, который развивает фантазию и делает из скучных старых вещей новые и красивые изде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ценка проек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ение бутылки  доставило мне огромное удовольствие. Она получилась очень красив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работа дает возможность выразить себя, проявить творческую фантазию. В ходе работы над изделием серьезных трудностей не испытывае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ная ваза оригинальна, радует гл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я начинала работу, мне казалось, что она займет много времени и будет очень кропотлива. Но все трудности в изготовлении были сразу забыты, когда я увидела, что  у меня получилос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в выполненную работу, я сделала вывод, что вещь, сделанная своими руками, дороже, чем купленная в магазине, потому что в нее вложена моя любовь и умения. Теперь мне будет приятно подарить эту ваз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творчества не существует границ! Пара часов работы, и вот перед вами вместо бутылки – симпатичная вазочка для цветов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купаж. Лучшая книга о декорировании /С.Ю. Ращупкина. – М.:РИПОЛ классик, 2011. – 256 с.: ил. – (Школа рукодел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club.passion.ru/viewtopic.php?t=1154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http://prodecoupage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cc"/>
                </a:solidFill>
                <a:latin typeface="Arial Black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cc"/>
                </a:solidFill>
                <a:latin typeface="Arial Black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00080" y="1143000"/>
            <a:ext cx="7686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ение потреб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раткая формулировка зада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з истории декупа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ехника декупаж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екоративные при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бор первоначальных ид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ыбор лучшей иде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Материалы и инструме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равила техники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Последовательность изготовления издел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Экономические затр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Экологическая оц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Оценка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Рекл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Список используемой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еделение потреб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42960" y="157176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наше время невероятно развилась мода на вещи «ручной работы», на уникальные подарки, элементы интерьера и одежд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ниматься творчеством сегодня интересно и модно. Я долго думала над темой моего проекта и остановилась на технике декупаж. Как-то, просматривая в интернете сайт по рукоделию, я натолкнулась на очень красиво оформленные изделия. Для меня эта техника показалась очень занимательной. Она требует внимания и терп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аткая формулировка задач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полнения проекта мне необходим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ть вид издел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и изучить информацию о технике декупаж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материалы для изготовления издел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технологическую последовательность изготовления издел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ить издел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истории декупаж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ки декупажа восходят к раннему Средневековью. Слово decoupage французского происхождения, обозначает «вырезать». Следовательно, техника декупажа - техника украшения, декорирования, оформления с помощью вырезанных бумажных мотив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техника украшения была изобретена китайскими крестьянами в XII веке, именно они сделали тонкую красочную бумагу и стали украшать с ее помощью различные предме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ид искусства он первый раз упоминается в конце XV века в Германии, где вырезанные картинки стали использоваться для украшения мебе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хника декупаж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упаж – это аппликация, но аппликация особенная – покрытая лаком, она выглядит как роспись. Все гораздо проще, чем кажется! Наверное, это самый легкий способ добиться потрясающего результата, создавая уникальные, эффектные предметы своими ру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коративные прием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вышеописанных действий в декупаже существуют также различные декоративные приемы, например, нанесение теней, объемных рисунков и т. д. Но наиболее распространен прием «состаривания» поверхности, так называемый эффект кракле (от французского craquelure – трещинки красочного слоя), то есть создание сеточки мелких трещин. Для этого применяют специальный лак, который бывает однокомпонентным или двухкомпонентны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бор первоначальных ид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ttp://im4-tub-ru.yandex.net/i?id=390933650-64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143000"/>
            <a:ext cx="140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i-main-pic" descr="Картинка 7 из 106069"/>
          <p:cNvPicPr/>
          <p:nvPr/>
        </p:nvPicPr>
        <p:blipFill>
          <a:blip r:embed="rId3"/>
          <a:stretch/>
        </p:blipFill>
        <p:spPr>
          <a:xfrm>
            <a:off x="1000080" y="3714840"/>
            <a:ext cx="1905120" cy="254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i-main-pic" descr="Картинка 27 из 106069"/>
          <p:cNvPicPr/>
          <p:nvPr/>
        </p:nvPicPr>
        <p:blipFill>
          <a:blip r:embed="rId4"/>
          <a:stretch/>
        </p:blipFill>
        <p:spPr>
          <a:xfrm>
            <a:off x="2928960" y="1071720"/>
            <a:ext cx="1743120" cy="232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i-main-pic" descr="Картинка 36 из 106069"/>
          <p:cNvPicPr/>
          <p:nvPr/>
        </p:nvPicPr>
        <p:blipFill>
          <a:blip r:embed="rId5"/>
          <a:stretch/>
        </p:blipFill>
        <p:spPr>
          <a:xfrm>
            <a:off x="3357720" y="3857760"/>
            <a:ext cx="1757160" cy="234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i-main-pic" descr="Картинка 31 из 106069"/>
          <p:cNvPicPr/>
          <p:nvPr/>
        </p:nvPicPr>
        <p:blipFill>
          <a:blip r:embed="rId6"/>
          <a:stretch/>
        </p:blipFill>
        <p:spPr>
          <a:xfrm>
            <a:off x="5929200" y="928800"/>
            <a:ext cx="2367000" cy="17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i-main-pic" descr="Картинка 45 из 106069"/>
          <p:cNvPicPr/>
          <p:nvPr/>
        </p:nvPicPr>
        <p:blipFill>
          <a:blip r:embed="rId7"/>
          <a:stretch/>
        </p:blipFill>
        <p:spPr>
          <a:xfrm>
            <a:off x="6143760" y="5000760"/>
            <a:ext cx="2538360" cy="133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i-main-pic" descr="Картинка 61 из 106069"/>
          <p:cNvPicPr/>
          <p:nvPr/>
        </p:nvPicPr>
        <p:blipFill>
          <a:blip r:embed="rId8"/>
          <a:stretch/>
        </p:blipFill>
        <p:spPr>
          <a:xfrm>
            <a:off x="5357880" y="2928960"/>
            <a:ext cx="2620800" cy="196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wedge/>
    <p:sndAc>
      <p:stSnd>
        <p:snd r:embed="rId9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бор лучшей иде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этой технике, похоже, можно выполнить что угодно. Но мастер я начинающий, поэтому возьму для начала самое простое. Объект для работы – стеклянная бутылка. А мотивы будут, конечно, Новогодние! Как раз к приближающемуся праздник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  <p:sndAc>
      <p:stSnd>
        <p:snd r:embed="rId1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33:07Z</dcterms:created>
  <dc:creator>_</dc:creator>
  <dc:description/>
  <dc:language>en-US</dc:language>
  <cp:lastModifiedBy>_</cp:lastModifiedBy>
  <dcterms:modified xsi:type="dcterms:W3CDTF">2011-12-12T20:52:59Z</dcterms:modified>
  <cp:revision>6</cp:revision>
  <dc:subject/>
  <dc:title>Слайд 1</dc:title>
</cp:coreProperties>
</file>