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609F-8E8E-409D-A734-8F4A025D8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5E8-C0BA-41DE-918D-9750295175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FF8-C3F0-4927-A3E5-569A5FD479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926-949A-429A-BECB-E8F36854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8DE-D6C6-4F7B-B58B-3C5B9797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257-812D-492B-AFDB-947B13FA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532-8FBD-434B-B8AE-3443BD89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5BEA-2D1B-4559-BC65-A63738B0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ADC8-ED36-4261-8AE2-A9F79BA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610B-40EE-4697-A605-4D404A6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B4B9-66DD-4E26-AED5-B8AAC393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34A1-6911-4AEE-8FA5-E2F67D6A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DCB-30D7-4B9F-B9BF-DDC82DF4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40B6-B812-4529-98D5-A323634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1B9-3B29-43B4-BA47-A1A15677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A81-0128-4C68-AD58-B716741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8C28-E76B-4FDC-959C-6755DC59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88B3-30BC-49FE-9820-ABD86F6B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1962-7370-482C-B49A-3AE95947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35FE-1788-48A6-9EDA-9734C55F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8AE-2D11-4624-BB6A-AC4C6247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E95-F974-4A6F-BCAC-F0A4AA17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B6B-E5DB-4592-8ABF-DBF56D6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113-95F6-4AF3-9BF0-0CDE389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4A6-1DEC-4342-A58E-0940EA6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8BA-5BC9-4249-99D6-DB96B9C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6F7-6AFD-4AD6-AF3F-0991F25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DE9-1331-4072-8F6B-B5174901EB1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A4A-91C7-4B81-9F9F-D0DFA1203D8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44-07"/>
          <p:cNvPicPr/>
          <p:nvPr/>
        </p:nvPicPr>
        <p:blipFill>
          <a:blip r:embed="rId2"/>
          <a:stretch/>
        </p:blipFill>
        <p:spPr>
          <a:xfrm>
            <a:off x="6775560" y="393372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0" y="3733920"/>
            <a:ext cx="7010280" cy="260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доровый дух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371600" y="1523880"/>
            <a:ext cx="6553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здоровом теле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12" descr="C03-36"/>
          <p:cNvPicPr/>
          <p:nvPr/>
        </p:nvPicPr>
        <p:blipFill>
          <a:blip r:embed="rId3"/>
          <a:stretch/>
        </p:blipFill>
        <p:spPr>
          <a:xfrm>
            <a:off x="0" y="0"/>
            <a:ext cx="169236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43000" y="0"/>
            <a:ext cx="65484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7" descr=""/>
          <p:cNvPicPr/>
          <p:nvPr/>
        </p:nvPicPr>
        <p:blipFill>
          <a:blip r:embed="rId2"/>
          <a:stretch/>
        </p:blipFill>
        <p:spPr>
          <a:xfrm>
            <a:off x="682560" y="1444680"/>
            <a:ext cx="77850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Копия rezhim_dnya"/>
          <p:cNvPicPr/>
          <p:nvPr/>
        </p:nvPicPr>
        <p:blipFill>
          <a:blip r:embed="rId1"/>
          <a:stretch/>
        </p:blipFill>
        <p:spPr>
          <a:xfrm>
            <a:off x="0" y="0"/>
            <a:ext cx="175248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Копия (2) rezhim_dnya"/>
          <p:cNvPicPr/>
          <p:nvPr/>
        </p:nvPicPr>
        <p:blipFill>
          <a:blip r:embed="rId2"/>
          <a:stretch/>
        </p:blipFill>
        <p:spPr>
          <a:xfrm>
            <a:off x="4114800" y="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Копия (3) rezhim_dnya"/>
          <p:cNvPicPr/>
          <p:nvPr/>
        </p:nvPicPr>
        <p:blipFill>
          <a:blip r:embed="rId3"/>
          <a:stretch/>
        </p:blipFill>
        <p:spPr>
          <a:xfrm>
            <a:off x="6524640" y="0"/>
            <a:ext cx="2314440" cy="175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rezhim_dnya"/>
          <p:cNvPicPr/>
          <p:nvPr/>
        </p:nvPicPr>
        <p:blipFill>
          <a:blip r:embed="rId4"/>
          <a:stretch/>
        </p:blipFill>
        <p:spPr>
          <a:xfrm>
            <a:off x="2133720" y="0"/>
            <a:ext cx="1981080" cy="1693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опия (6) rezhim_dnya"/>
          <p:cNvPicPr/>
          <p:nvPr/>
        </p:nvPicPr>
        <p:blipFill>
          <a:blip r:embed="rId5"/>
          <a:stretch/>
        </p:blipFill>
        <p:spPr>
          <a:xfrm>
            <a:off x="0" y="220968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Копия (4) rezhim_dnya"/>
          <p:cNvPicPr/>
          <p:nvPr/>
        </p:nvPicPr>
        <p:blipFill>
          <a:blip r:embed="rId6"/>
          <a:stretch/>
        </p:blipFill>
        <p:spPr>
          <a:xfrm>
            <a:off x="0" y="4114800"/>
            <a:ext cx="1828800" cy="170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Копия (5) rezhim_dnya"/>
          <p:cNvPicPr/>
          <p:nvPr/>
        </p:nvPicPr>
        <p:blipFill>
          <a:blip r:embed="rId7"/>
          <a:stretch/>
        </p:blipFill>
        <p:spPr>
          <a:xfrm>
            <a:off x="1981080" y="4724280"/>
            <a:ext cx="2210040" cy="163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Копия (8) rezhim_dnya"/>
          <p:cNvPicPr/>
          <p:nvPr/>
        </p:nvPicPr>
        <p:blipFill>
          <a:blip r:embed="rId8"/>
          <a:stretch/>
        </p:blipFill>
        <p:spPr>
          <a:xfrm>
            <a:off x="6705720" y="4572000"/>
            <a:ext cx="2286000" cy="170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опия (10) rezhim_dnya"/>
          <p:cNvPicPr/>
          <p:nvPr/>
        </p:nvPicPr>
        <p:blipFill>
          <a:blip r:embed="rId9"/>
          <a:stretch/>
        </p:blipFill>
        <p:spPr>
          <a:xfrm>
            <a:off x="4343400" y="4343400"/>
            <a:ext cx="2438280" cy="198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Копия (7) rezhim_dnya"/>
          <p:cNvPicPr/>
          <p:nvPr/>
        </p:nvPicPr>
        <p:blipFill>
          <a:blip r:embed="rId10"/>
          <a:stretch/>
        </p:blipFill>
        <p:spPr>
          <a:xfrm>
            <a:off x="2743200" y="2057400"/>
            <a:ext cx="1905120" cy="1776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post-214038-1300870371"/>
          <p:cNvPicPr/>
          <p:nvPr/>
        </p:nvPicPr>
        <p:blipFill>
          <a:blip r:embed="rId11"/>
          <a:stretch/>
        </p:blipFill>
        <p:spPr>
          <a:xfrm>
            <a:off x="4876920" y="2133720"/>
            <a:ext cx="1981080" cy="14634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1"/>
          <p:cNvSpPr/>
          <p:nvPr/>
        </p:nvSpPr>
        <p:spPr>
          <a:xfrm>
            <a:off x="1066680" y="25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1981080" y="1371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30-6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181480" y="304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45-7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6400800" y="304920"/>
            <a:ext cx="9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00-7.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533520" y="34290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3046320" y="3657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00-14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4952880" y="3505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9" descr="rezhim_dnya (1)"/>
          <p:cNvPicPr/>
          <p:nvPr/>
        </p:nvPicPr>
        <p:blipFill>
          <a:blip r:embed="rId12"/>
          <a:stretch/>
        </p:blipFill>
        <p:spPr>
          <a:xfrm>
            <a:off x="7010280" y="2057400"/>
            <a:ext cx="169416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0"/>
          <p:cNvSpPr/>
          <p:nvPr/>
        </p:nvSpPr>
        <p:spPr>
          <a:xfrm>
            <a:off x="7454880" y="3860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4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15200" y="58420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5.00-16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2"/>
          <p:cNvSpPr/>
          <p:nvPr/>
        </p:nvSpPr>
        <p:spPr>
          <a:xfrm>
            <a:off x="1887120" y="62992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6.30-18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4036320" y="48006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8.30-19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4"/>
          <p:cNvSpPr/>
          <p:nvPr/>
        </p:nvSpPr>
        <p:spPr>
          <a:xfrm>
            <a:off x="8516880" y="54100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2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857160" y="457200"/>
            <a:ext cx="74296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Verdana"/>
                <a:ea typeface="Arial"/>
              </a:rPr>
              <a:t>Скажи себе:</a:t>
            </a:r>
            <a:r>
              <a:rPr b="1" lang="ru-RU" sz="3600" spc="-1" strike="noStrike">
                <a:solidFill>
                  <a:srgbClr val="003366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  <a:ea typeface="Arial"/>
              </a:rPr>
              <a:t>«Я выбира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  <a:ea typeface="Arial"/>
              </a:rPr>
              <a:t>здоровье, я выбира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  <a:ea typeface="Arial"/>
              </a:rPr>
              <a:t>здоровый образ жизни!»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835200" y="560520"/>
            <a:ext cx="7785000" cy="189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11 клас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исеева Татья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353880" y="426960"/>
            <a:ext cx="82965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3084559_large"/>
          <p:cNvPicPr/>
          <p:nvPr/>
        </p:nvPicPr>
        <p:blipFill>
          <a:blip r:embed="rId3"/>
          <a:stretch/>
        </p:blipFill>
        <p:spPr>
          <a:xfrm>
            <a:off x="3581280" y="1905120"/>
            <a:ext cx="197640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businessman"/>
          <p:cNvPicPr/>
          <p:nvPr/>
        </p:nvPicPr>
        <p:blipFill>
          <a:blip r:embed="rId4"/>
          <a:stretch/>
        </p:blipFill>
        <p:spPr>
          <a:xfrm>
            <a:off x="5867280" y="2057400"/>
            <a:ext cx="2857680" cy="4200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ieta_176_13__2_7533_befgkmsvx7"/>
          <p:cNvPicPr/>
          <p:nvPr/>
        </p:nvPicPr>
        <p:blipFill>
          <a:blip r:embed="rId5"/>
          <a:stretch/>
        </p:blipFill>
        <p:spPr>
          <a:xfrm>
            <a:off x="380880" y="1828800"/>
            <a:ext cx="2895840" cy="240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96560" cy="202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ые занятия физкультурой и спор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ьное пит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каз от ку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нет» наркотикам, пиву и другим алкогольным напитка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мни: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если мало двигаться и долго находиться в одной позе, появятся нарушения осанки, сутулость, искривление позвоночника. Это приводит к снижению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физической и умственной активности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Darwinian"/>
          <p:cNvPicPr/>
          <p:nvPr/>
        </p:nvPicPr>
        <p:blipFill>
          <a:blip r:embed="rId3"/>
          <a:srcRect l="1008" t="2459" r="1169" b="18949"/>
          <a:stretch/>
        </p:blipFill>
        <p:spPr>
          <a:xfrm>
            <a:off x="609480" y="4267080"/>
            <a:ext cx="7467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i-main-pic" descr="Картинка 4 из 14981"/>
          <p:cNvPicPr/>
          <p:nvPr/>
        </p:nvPicPr>
        <p:blipFill>
          <a:blip r:embed="rId2"/>
          <a:stretch/>
        </p:blipFill>
        <p:spPr>
          <a:xfrm>
            <a:off x="4772160" y="27432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 пище содержатся основные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итательные ве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которые являю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роительным материалом для организма человек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сточником энерги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крепляют иммунит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Заголовок 1" descr=""/>
          <p:cNvPicPr/>
          <p:nvPr/>
        </p:nvPicPr>
        <p:blipFill>
          <a:blip r:embed="rId3"/>
          <a:stretch/>
        </p:blipFill>
        <p:spPr>
          <a:xfrm>
            <a:off x="1170000" y="189000"/>
            <a:ext cx="68040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143000" y="152388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457200" y="304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480060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181480" y="1600200"/>
            <a:ext cx="2632320" cy="2136600"/>
          </a:xfrm>
          <a:prstGeom prst="rect">
            <a:avLst/>
          </a:prstGeom>
          <a:ln w="0">
            <a:noFill/>
          </a:ln>
        </p:spPr>
      </p:pic>
      <p:pic>
        <p:nvPicPr>
          <p:cNvPr id="11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838080" y="4876920"/>
            <a:ext cx="2971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Как вы считаете, что должен делать человек, чтобы сохранить и укрепить свое здоровье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1905120"/>
            <a:ext cx="8076960" cy="47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Соблюдать режим дн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Утро начинать с зарядк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Закалять свой организм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Правильно и регулярно питаться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Заниматься спортом, больше двигатьс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Следить за своей осанко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Не курит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Высыпатьс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Всё вмест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66816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ый образ жизн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68160" y="1828800"/>
            <a:ext cx="7925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урение, употребление пива и других алкогольных напитков, а также наркотиков – это вредные и опасные привыч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42960" y="3643200"/>
            <a:ext cx="6095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ороки злые поб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ы вправе сами выбир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 здоровье долго жить счастл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ли в болезнях умир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-main-pic" descr="Картинка 19 из 247"/>
          <p:cNvPicPr/>
          <p:nvPr/>
        </p:nvPicPr>
        <p:blipFill>
          <a:blip r:embed="rId2"/>
          <a:stretch/>
        </p:blipFill>
        <p:spPr>
          <a:xfrm>
            <a:off x="6429240" y="3071880"/>
            <a:ext cx="230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45-1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785880" y="100008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 Курение – вредная привычка, мерзкая для обоняния, вредная для мозга и опасная для лег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85880" y="257184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. Помни: алкоголь убивает рано или поздно… ВСЕГД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714240" y="371484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. Никотиновая зависимость у подростков возникает через пять месяцев после начала ку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858600" y="21420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мн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357200" y="5214960"/>
            <a:ext cx="6572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ркотикам, пиву и другим алкогольным напиткам –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21T15:26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