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2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5A9-2692-4312-9063-1EFB6E62E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38D-6074-403F-9ED7-F18F723C1C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7F0-100F-402F-83F5-1E1F03999B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0DB-D51E-444B-9822-462709A6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892-60BC-4445-BFD6-75D87055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520-5ABC-4650-BE99-F7B35ECE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238-8F3D-421D-B1F6-65FEE69A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DD9F-0F4B-40A8-AD89-248CEA01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611-D6B9-43B2-B47E-A37670BA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2D1-057D-4AE5-86F7-BDA776E9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0D9-C1F1-4E4B-B12D-DBC2BE92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E8E2-017E-432B-9EA1-5A03D09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7D2B-6E3F-4A14-8E80-DFFB743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9572-FC78-48FE-872A-E0E4641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264-609D-41C4-B5F1-C5243B54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67A-E29A-45B1-88A2-F90E596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4822-56C6-422B-83C4-E1408D45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FC8-A93A-4734-AD3B-B38BBC22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8CA2-C8CB-4DFA-B0B5-C77A6F40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A80C-7E78-4BB4-99C0-E9C40FC7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B03-69CC-4324-A75F-83587E32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CAD-417B-4ADC-ABAC-465732E0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138-F072-4A32-A1AE-E2292A7C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E0E-B4CF-4957-9084-147F63FB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10C-63A0-4D9A-AAFB-44D318E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6CE-6F78-4017-8647-F86D8F7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A32-6A75-4A0F-BCF2-5A6875B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0FC6-C926-4FFC-B843-2F93A8FAB13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70E4-8589-4E36-B05C-DFCABC25F19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44-07"/>
          <p:cNvPicPr/>
          <p:nvPr/>
        </p:nvPicPr>
        <p:blipFill>
          <a:blip r:embed="rId2"/>
          <a:stretch/>
        </p:blipFill>
        <p:spPr>
          <a:xfrm>
            <a:off x="6775560" y="393372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0" y="3733920"/>
            <a:ext cx="7010280" cy="260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доровый дух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371600" y="1523880"/>
            <a:ext cx="6553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здоровом теле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12" descr="C03-36"/>
          <p:cNvPicPr/>
          <p:nvPr/>
        </p:nvPicPr>
        <p:blipFill>
          <a:blip r:embed="rId3"/>
          <a:stretch/>
        </p:blipFill>
        <p:spPr>
          <a:xfrm>
            <a:off x="0" y="0"/>
            <a:ext cx="169236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43000" y="0"/>
            <a:ext cx="65484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7" descr=""/>
          <p:cNvPicPr/>
          <p:nvPr/>
        </p:nvPicPr>
        <p:blipFill>
          <a:blip r:embed="rId2"/>
          <a:stretch/>
        </p:blipFill>
        <p:spPr>
          <a:xfrm>
            <a:off x="682560" y="1444680"/>
            <a:ext cx="77850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Копия rezhim_dnya"/>
          <p:cNvPicPr/>
          <p:nvPr/>
        </p:nvPicPr>
        <p:blipFill>
          <a:blip r:embed="rId1"/>
          <a:stretch/>
        </p:blipFill>
        <p:spPr>
          <a:xfrm>
            <a:off x="0" y="0"/>
            <a:ext cx="175248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Копия (2) rezhim_dnya"/>
          <p:cNvPicPr/>
          <p:nvPr/>
        </p:nvPicPr>
        <p:blipFill>
          <a:blip r:embed="rId2"/>
          <a:stretch/>
        </p:blipFill>
        <p:spPr>
          <a:xfrm>
            <a:off x="4114800" y="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Копия (3) rezhim_dnya"/>
          <p:cNvPicPr/>
          <p:nvPr/>
        </p:nvPicPr>
        <p:blipFill>
          <a:blip r:embed="rId3"/>
          <a:stretch/>
        </p:blipFill>
        <p:spPr>
          <a:xfrm>
            <a:off x="6524640" y="0"/>
            <a:ext cx="2314440" cy="175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rezhim_dnya"/>
          <p:cNvPicPr/>
          <p:nvPr/>
        </p:nvPicPr>
        <p:blipFill>
          <a:blip r:embed="rId4"/>
          <a:stretch/>
        </p:blipFill>
        <p:spPr>
          <a:xfrm>
            <a:off x="2133720" y="0"/>
            <a:ext cx="1981080" cy="1693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опия (6) rezhim_dnya"/>
          <p:cNvPicPr/>
          <p:nvPr/>
        </p:nvPicPr>
        <p:blipFill>
          <a:blip r:embed="rId5"/>
          <a:stretch/>
        </p:blipFill>
        <p:spPr>
          <a:xfrm>
            <a:off x="0" y="220968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Копия (4) rezhim_dnya"/>
          <p:cNvPicPr/>
          <p:nvPr/>
        </p:nvPicPr>
        <p:blipFill>
          <a:blip r:embed="rId6"/>
          <a:stretch/>
        </p:blipFill>
        <p:spPr>
          <a:xfrm>
            <a:off x="0" y="4114800"/>
            <a:ext cx="1828800" cy="170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Копия (5) rezhim_dnya"/>
          <p:cNvPicPr/>
          <p:nvPr/>
        </p:nvPicPr>
        <p:blipFill>
          <a:blip r:embed="rId7"/>
          <a:stretch/>
        </p:blipFill>
        <p:spPr>
          <a:xfrm>
            <a:off x="1981080" y="4724280"/>
            <a:ext cx="2210040" cy="163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Копия (8) rezhim_dnya"/>
          <p:cNvPicPr/>
          <p:nvPr/>
        </p:nvPicPr>
        <p:blipFill>
          <a:blip r:embed="rId8"/>
          <a:stretch/>
        </p:blipFill>
        <p:spPr>
          <a:xfrm>
            <a:off x="6705720" y="4572000"/>
            <a:ext cx="2286000" cy="170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опия (10) rezhim_dnya"/>
          <p:cNvPicPr/>
          <p:nvPr/>
        </p:nvPicPr>
        <p:blipFill>
          <a:blip r:embed="rId9"/>
          <a:stretch/>
        </p:blipFill>
        <p:spPr>
          <a:xfrm>
            <a:off x="4343400" y="4343400"/>
            <a:ext cx="2438280" cy="1986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Копия (7) rezhim_dnya"/>
          <p:cNvPicPr/>
          <p:nvPr/>
        </p:nvPicPr>
        <p:blipFill>
          <a:blip r:embed="rId10"/>
          <a:stretch/>
        </p:blipFill>
        <p:spPr>
          <a:xfrm>
            <a:off x="2743200" y="2057400"/>
            <a:ext cx="1905120" cy="1776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post-214038-1300870371"/>
          <p:cNvPicPr/>
          <p:nvPr/>
        </p:nvPicPr>
        <p:blipFill>
          <a:blip r:embed="rId11"/>
          <a:stretch/>
        </p:blipFill>
        <p:spPr>
          <a:xfrm>
            <a:off x="4876920" y="2133720"/>
            <a:ext cx="1981080" cy="14634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1"/>
          <p:cNvSpPr/>
          <p:nvPr/>
        </p:nvSpPr>
        <p:spPr>
          <a:xfrm>
            <a:off x="1066680" y="25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1981080" y="1371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30-6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181480" y="304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45-7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6400800" y="30492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00-7.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533520" y="3429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3046320" y="3657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00-14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4952880" y="3505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9" descr="rezhim_dnya (1)"/>
          <p:cNvPicPr/>
          <p:nvPr/>
        </p:nvPicPr>
        <p:blipFill>
          <a:blip r:embed="rId12"/>
          <a:stretch/>
        </p:blipFill>
        <p:spPr>
          <a:xfrm>
            <a:off x="7010280" y="2057400"/>
            <a:ext cx="169416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0"/>
          <p:cNvSpPr/>
          <p:nvPr/>
        </p:nvSpPr>
        <p:spPr>
          <a:xfrm>
            <a:off x="7454880" y="3860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4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15200" y="58420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5.00-16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2"/>
          <p:cNvSpPr/>
          <p:nvPr/>
        </p:nvSpPr>
        <p:spPr>
          <a:xfrm>
            <a:off x="1887120" y="62992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6.30-18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4036320" y="48006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8.30-19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4"/>
          <p:cNvSpPr/>
          <p:nvPr/>
        </p:nvSpPr>
        <p:spPr>
          <a:xfrm>
            <a:off x="8516880" y="54100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2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857160" y="457200"/>
            <a:ext cx="74296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Verdana"/>
                <a:ea typeface="Arial"/>
              </a:rPr>
              <a:t>Скажи себе:</a:t>
            </a:r>
            <a:r>
              <a:rPr b="1" lang="ru-RU" sz="3600" spc="-1" strike="noStrike">
                <a:solidFill>
                  <a:srgbClr val="003366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  <a:ea typeface="Arial"/>
              </a:rPr>
              <a:t>«Я выбира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  <a:ea typeface="Arial"/>
              </a:rPr>
              <a:t>здоровье, я выбира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  <a:ea typeface="Arial"/>
              </a:rPr>
              <a:t>здоровый образ жизни!»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835200" y="560520"/>
            <a:ext cx="7785000" cy="189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11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исеева Татья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353880" y="426960"/>
            <a:ext cx="82965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3084559_large"/>
          <p:cNvPicPr/>
          <p:nvPr/>
        </p:nvPicPr>
        <p:blipFill>
          <a:blip r:embed="rId3"/>
          <a:stretch/>
        </p:blipFill>
        <p:spPr>
          <a:xfrm>
            <a:off x="3581280" y="1905120"/>
            <a:ext cx="197640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businessman"/>
          <p:cNvPicPr/>
          <p:nvPr/>
        </p:nvPicPr>
        <p:blipFill>
          <a:blip r:embed="rId4"/>
          <a:stretch/>
        </p:blipFill>
        <p:spPr>
          <a:xfrm>
            <a:off x="5867280" y="2057400"/>
            <a:ext cx="2857680" cy="4200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dieta_176_13__2_7533_befgkmsvx7"/>
          <p:cNvPicPr/>
          <p:nvPr/>
        </p:nvPicPr>
        <p:blipFill>
          <a:blip r:embed="rId5"/>
          <a:stretch/>
        </p:blipFill>
        <p:spPr>
          <a:xfrm>
            <a:off x="380880" y="1828800"/>
            <a:ext cx="2895840" cy="240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96560" cy="202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ктивные занятия физкультурой и спор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ьное пит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каз от ку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нет» наркотикам, пиву и другим алкогольным напитка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мни: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если мало двигаться и долго находиться в одной позе, появятся нарушения осанки, сутулость, искривление позвоночника. Это приводит к снижению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физической и умственной активности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Darwinian"/>
          <p:cNvPicPr/>
          <p:nvPr/>
        </p:nvPicPr>
        <p:blipFill>
          <a:blip r:embed="rId3"/>
          <a:srcRect l="1008" t="2459" r="1169" b="18949"/>
          <a:stretch/>
        </p:blipFill>
        <p:spPr>
          <a:xfrm>
            <a:off x="609480" y="4267080"/>
            <a:ext cx="7467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i-main-pic" descr="Картинка 4 из 14981"/>
          <p:cNvPicPr/>
          <p:nvPr/>
        </p:nvPicPr>
        <p:blipFill>
          <a:blip r:embed="rId2"/>
          <a:stretch/>
        </p:blipFill>
        <p:spPr>
          <a:xfrm>
            <a:off x="4772160" y="27432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 пище содержатся основные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итательные ве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которые являю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роительным материалом для организма человек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сточником энерги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крепляют иммунит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Заголовок 1" descr=""/>
          <p:cNvPicPr/>
          <p:nvPr/>
        </p:nvPicPr>
        <p:blipFill>
          <a:blip r:embed="rId3"/>
          <a:stretch/>
        </p:blipFill>
        <p:spPr>
          <a:xfrm>
            <a:off x="1170000" y="189000"/>
            <a:ext cx="68040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143000" y="152388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457200" y="304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480060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181480" y="1600200"/>
            <a:ext cx="2632320" cy="2136600"/>
          </a:xfrm>
          <a:prstGeom prst="rect">
            <a:avLst/>
          </a:prstGeom>
          <a:ln w="0">
            <a:noFill/>
          </a:ln>
        </p:spPr>
      </p:pic>
      <p:pic>
        <p:nvPicPr>
          <p:cNvPr id="11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838080" y="4876920"/>
            <a:ext cx="2971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Как вы считаете, что должен делать человек, чтобы сохранить и укрепить свое здоровье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1905120"/>
            <a:ext cx="8076960" cy="47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Соблюдать режим дн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Утро начинать с зарядк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Закалять свой организм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Правильно и регулярно питаться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Заниматься спортом, больше двигатьс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Следить за своей осанко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Не курит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Высыпатьс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Всё вмест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66816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ый образ жизн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68160" y="1828800"/>
            <a:ext cx="7925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урение, употребление пива и других алкогольных напитков, а также наркотиков – это вредные и опасные привыч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42960" y="3643200"/>
            <a:ext cx="6095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ороки злые поб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ы вправе сами выбир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 здоровье долго жить счастл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ли в болезнях умир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-main-pic" descr="Картинка 19 из 247"/>
          <p:cNvPicPr/>
          <p:nvPr/>
        </p:nvPicPr>
        <p:blipFill>
          <a:blip r:embed="rId2"/>
          <a:stretch/>
        </p:blipFill>
        <p:spPr>
          <a:xfrm>
            <a:off x="6429240" y="3071880"/>
            <a:ext cx="230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785880" y="100008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. Курение – вредная привычка, мерзкая для обоняния, вредная для мозга и опасная для лег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85880" y="257184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. Помни: алкоголь убивает рано или поздно… ВСЕГД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714240" y="371484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. Никотиновая зависимость у подростков возникает через пять месяцев после начала ку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858600" y="214200"/>
            <a:ext cx="19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мн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357200" y="5214960"/>
            <a:ext cx="6572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ркотикам, пиву и другим алкогольным напиткам –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21T15:26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