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A6B-9975-4300-BA03-3763F4A3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249-3FC8-4372-872F-F097D863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BA1-A4A2-40F0-922A-8D87435D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478-3CCF-4905-87E9-BE6CAB62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97C-C663-47BD-A739-13A73BAB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29B-EAD4-4584-AE6E-ADDC43D7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F51-73F9-4143-A4A5-C04CEC18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3802-9F07-4EC9-A98F-6CEE8EFA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063-EDFF-46A4-845A-169F09E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1BD4-3620-41D9-B6C8-5E55C4EA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49EA-7EEC-491D-9EEC-BAB7EB3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BE0-6FE2-4EAD-B0F2-BBB2929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12D8-BEB3-4182-B001-30D328F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2DFD-B88D-41B1-AA22-56821E5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524-49ED-4CE6-B143-B9BFFF1C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854-0915-45ED-8A3D-25499BF5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7D8-B93D-4CA5-92DA-ED05170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72B-24B0-4CB9-80A9-C59CFAB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8CE-CC93-4199-8B97-B6C8BA56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4FA-2C4F-4D3C-83D4-71FF2B58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61-068D-40B7-B687-581693E4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2A4-1C06-4344-A3AD-F20C005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034-F09E-4DB5-AC32-7279BF2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016-4F00-4523-8962-6CDFF6E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A7D-EB40-4C63-AE62-BE3BFA1E8C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2614-5EAF-4E30-B39A-91CAB2659E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23800" y="1255680"/>
            <a:ext cx="8491680" cy="2036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3600" spc="-1" strike="noStrike">
                <a:solidFill>
                  <a:srgbClr val="ff0000"/>
                </a:solidFill>
                <a:latin typeface="Constantia"/>
              </a:rPr>
              <a:t>Кто говорит молч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5572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6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2714760"/>
            <a:ext cx="72151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2" descr="http://t0.gstatic.com/images?q=tbn:ANd9GcQ0SRZEzW4FoB5raPeSs8vWHNgEbyvlM4NiP4jdkXJENKtKzZRU"/>
          <p:cNvPicPr/>
          <p:nvPr/>
        </p:nvPicPr>
        <p:blipFill>
          <a:blip r:embed="rId2"/>
          <a:stretch/>
        </p:blipFill>
        <p:spPr>
          <a:xfrm>
            <a:off x="3071880" y="2857680"/>
            <a:ext cx="46051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Огородник – тот с длинным носом жив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Где носом качнет, там вода потеч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286160" y="2357280"/>
            <a:ext cx="4057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Два конца, два кольца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Посередине гвоздик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http://t2.gstatic.com/images?q=tbn:ANd9GcTRNg_4YfXVx7bfzrEdipLNvZYefwTwXcrvVRq2lsGH_Pla8zEQzQ"/>
          <p:cNvPicPr/>
          <p:nvPr/>
        </p:nvPicPr>
        <p:blipFill>
          <a:blip r:embed="rId1"/>
          <a:stretch/>
        </p:blipFill>
        <p:spPr>
          <a:xfrm>
            <a:off x="4000680" y="2286000"/>
            <a:ext cx="4643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onstantia"/>
              </a:rPr>
              <a:t>Грамоты не знаю, а весь век пишу</a:t>
            </a:r>
            <a:r>
              <a:rPr b="0" i="1" lang="ru-RU" sz="28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6" descr="http://t0.gstatic.com/images?q=tbn:ANd9GcTOjnvYexMGwPStRPHcFUAZ_w0mFstQNUjDwc8jkynHJIho4BXP"/>
          <p:cNvPicPr/>
          <p:nvPr/>
        </p:nvPicPr>
        <p:blipFill>
          <a:blip r:embed="rId1"/>
          <a:stretch/>
        </p:blipFill>
        <p:spPr>
          <a:xfrm>
            <a:off x="2786040" y="1785960"/>
            <a:ext cx="5072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изображение 009.jpg"/>
          <p:cNvPicPr/>
          <p:nvPr/>
        </p:nvPicPr>
        <p:blipFill>
          <a:blip r:embed="rId1"/>
          <a:srcRect l="18082" t="42872" r="55697" b="10375"/>
          <a:stretch/>
        </p:blipFill>
        <p:spPr>
          <a:xfrm>
            <a:off x="1071720" y="714240"/>
            <a:ext cx="72864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onstantia"/>
              </a:rPr>
              <a:t>     </a:t>
            </a:r>
            <a:r>
              <a:rPr b="0" lang="ru-RU" sz="6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04617b"/>
                </a:solidFill>
                <a:latin typeface="Constantia"/>
              </a:rPr>
              <a:t>Задание </a:t>
            </a:r>
            <a:endParaRPr b="0" lang="en-US" sz="6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роиллюстрировать загадк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25:19Z</dcterms:created>
  <dc:creator>000</dc:creator>
  <dc:description/>
  <dc:language>en-US</dc:language>
  <cp:lastModifiedBy>000</cp:lastModifiedBy>
  <dcterms:modified xsi:type="dcterms:W3CDTF">2011-11-03T18:31:25Z</dcterms:modified>
  <cp:revision>7</cp:revision>
  <dc:subject/>
  <dc:title>Рисуем отгадки к народным загадкам</dc:title>
</cp:coreProperties>
</file>