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8F8-94C6-4B33-A8D5-0E949D6C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287-7F39-45C8-8A1D-8648BBF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879-A4A5-4A8D-87C4-A7926367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390-02DF-485C-A8EC-0B0E22FF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BE17-1FB4-4A26-A762-B88AC534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063B-D49D-4B75-8F1E-10ACC827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8E97-208A-4C96-BD48-E73F92D5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8587-F7D2-4E29-A23D-E25336AD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3B55-7EEA-470E-8729-6A79A22F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DE46-83D5-4857-9F4F-A1183FAA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7649-F8DE-4CD5-8654-9B5F5B2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D9B-565C-4D69-8327-2A855575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950A-5F84-4D4D-9A6A-B840161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E5B-3189-455F-9849-40430A3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0B7C-5D09-481C-817B-0B864C17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0309-F750-416C-9E9E-27494B09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7A9F-8156-4283-8412-5FF52E9C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5F5-C255-4F71-B554-10E92A79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AD9-3E60-4CEC-8727-A7F77C6D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557-AA56-40C9-8072-2DD31EEA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14E-5317-4657-8304-3672070D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654-0252-4BD9-8F62-809AC1DC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CAD-DB75-4F0C-ABA9-A0A8930C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F45-ACF0-4388-8321-5E30D34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992B-FDEA-401B-8D48-0D22D709AF8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A941-4D3D-40DD-8EDC-227D843FBFF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23800" y="1255680"/>
            <a:ext cx="8491680" cy="2036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3600" spc="-1" strike="noStrike">
                <a:solidFill>
                  <a:srgbClr val="ff0000"/>
                </a:solidFill>
                <a:latin typeface="Constantia"/>
              </a:rPr>
              <a:t>Кто говорит молч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071880" y="1785960"/>
            <a:ext cx="5572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6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3000" y="2714760"/>
            <a:ext cx="72151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2" descr="http://t0.gstatic.com/images?q=tbn:ANd9GcQ0SRZEzW4FoB5raPeSs8vWHNgEbyvlM4NiP4jdkXJENKtKzZRU"/>
          <p:cNvPicPr/>
          <p:nvPr/>
        </p:nvPicPr>
        <p:blipFill>
          <a:blip r:embed="rId2"/>
          <a:stretch/>
        </p:blipFill>
        <p:spPr>
          <a:xfrm>
            <a:off x="3071880" y="2857680"/>
            <a:ext cx="46051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nstantia"/>
              </a:rPr>
              <a:t>Огородник – тот с длинным носом жив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nstantia"/>
              </a:rPr>
              <a:t>Где носом качнет, там вода потеч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4286160" y="2357280"/>
            <a:ext cx="4057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Два конца, два кольца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Посередине гвоздик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http://t2.gstatic.com/images?q=tbn:ANd9GcTRNg_4YfXVx7bfzrEdipLNvZYefwTwXcrvVRq2lsGH_Pla8zEQzQ"/>
          <p:cNvPicPr/>
          <p:nvPr/>
        </p:nvPicPr>
        <p:blipFill>
          <a:blip r:embed="rId1"/>
          <a:stretch/>
        </p:blipFill>
        <p:spPr>
          <a:xfrm>
            <a:off x="4000680" y="2286000"/>
            <a:ext cx="4643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onstantia"/>
              </a:rPr>
              <a:t>Грамоты не знаю, а весь век пишу</a:t>
            </a:r>
            <a:r>
              <a:rPr b="0" i="1" lang="ru-RU" sz="28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6" descr="http://t0.gstatic.com/images?q=tbn:ANd9GcTOjnvYexMGwPStRPHcFUAZ_w0mFstQNUjDwc8jkynHJIho4BXP"/>
          <p:cNvPicPr/>
          <p:nvPr/>
        </p:nvPicPr>
        <p:blipFill>
          <a:blip r:embed="rId1"/>
          <a:stretch/>
        </p:blipFill>
        <p:spPr>
          <a:xfrm>
            <a:off x="2786040" y="1785960"/>
            <a:ext cx="5072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изображение 009.jpg"/>
          <p:cNvPicPr/>
          <p:nvPr/>
        </p:nvPicPr>
        <p:blipFill>
          <a:blip r:embed="rId1"/>
          <a:srcRect l="18082" t="42872" r="55697" b="10375"/>
          <a:stretch/>
        </p:blipFill>
        <p:spPr>
          <a:xfrm>
            <a:off x="1071720" y="714240"/>
            <a:ext cx="728640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onstantia"/>
              </a:rPr>
              <a:t>     </a:t>
            </a:r>
            <a:r>
              <a:rPr b="0" lang="ru-RU" sz="6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6000" spc="-1" strike="noStrike">
                <a:solidFill>
                  <a:srgbClr val="04617b"/>
                </a:solidFill>
                <a:latin typeface="Constantia"/>
              </a:rPr>
              <a:t>Задание </a:t>
            </a:r>
            <a:endParaRPr b="0" lang="en-US" sz="6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роиллюстрировать загадк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25:19Z</dcterms:created>
  <dc:creator>000</dc:creator>
  <dc:description/>
  <dc:language>en-US</dc:language>
  <cp:lastModifiedBy>000</cp:lastModifiedBy>
  <dcterms:modified xsi:type="dcterms:W3CDTF">2011-11-03T18:31:25Z</dcterms:modified>
  <cp:revision>7</cp:revision>
  <dc:subject/>
  <dc:title>Рисуем отгадки к народным загадкам</dc:title>
</cp:coreProperties>
</file>