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881-8013-46D7-A4B1-4AD0E195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C39-FEE9-4FA8-A6A7-229DABA9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6DA-B09C-4E0B-BE49-247D12E1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65D-5A8F-47E5-B72A-57DF2495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F2C-5613-4E5B-8BE7-CB655C1B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B3C-A145-4CFE-B7D4-CE511796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A9C-A2BB-41F1-9D43-0A9976D2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776-E67F-490C-A9BD-E7A5C54A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4CF-0573-496D-9A26-999BE77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4E0-62FB-4DD1-AE3C-E02BD96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B48-CBCC-4144-8658-A150C574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738-2979-4D7F-B7B2-7CACABA0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FBF6-B40F-4A27-824C-24417959B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Рождественские обычаи и традиц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enya_-_we_wish_you_a_merry_christma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enya_-_we_wish_you_a_merry_christmas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10b7f"/>
                </a:solidFill>
                <a:latin typeface="Calibri"/>
              </a:rPr>
              <a:t>Рождественские город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Лена\Мои документы\screensavers\01437_christmaslighthouse_1600x1200.jpg"/>
          <p:cNvPicPr/>
          <p:nvPr/>
        </p:nvPicPr>
        <p:blipFill>
          <a:blip r:embed="rId1"/>
          <a:stretch/>
        </p:blipFill>
        <p:spPr>
          <a:xfrm>
            <a:off x="357120" y="2347920"/>
            <a:ext cx="4138560" cy="336708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8" descr="http://www.wild-mistress.ru/wm/wm.nsf/publicall/2006-11-16-279001.html/$File/1-3R.jpg"/>
          <p:cNvPicPr/>
          <p:nvPr/>
        </p:nvPicPr>
        <p:blipFill>
          <a:blip r:embed="rId2"/>
          <a:stretch/>
        </p:blipFill>
        <p:spPr>
          <a:xfrm>
            <a:off x="4673520" y="2916360"/>
            <a:ext cx="425628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Лена\Мои документы\screensavers\vetton_ru_507.jpg"/>
          <p:cNvPicPr/>
          <p:nvPr/>
        </p:nvPicPr>
        <p:blipFill>
          <a:blip r:embed="rId1"/>
          <a:stretch/>
        </p:blipFill>
        <p:spPr>
          <a:xfrm>
            <a:off x="582480" y="1357200"/>
            <a:ext cx="4418280" cy="4019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Лена\Мои документы\рождество\vaw1221b5.jpg"/>
          <p:cNvPicPr/>
          <p:nvPr/>
        </p:nvPicPr>
        <p:blipFill>
          <a:blip r:embed="rId2"/>
          <a:stretch/>
        </p:blipFill>
        <p:spPr>
          <a:xfrm>
            <a:off x="5170320" y="160020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Рождение Иисуса Хр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The Holy Family"/>
          <p:cNvPicPr/>
          <p:nvPr/>
        </p:nvPicPr>
        <p:blipFill>
          <a:blip r:embed="rId1"/>
          <a:stretch/>
        </p:blipFill>
        <p:spPr>
          <a:xfrm>
            <a:off x="4226040" y="874800"/>
            <a:ext cx="3809880" cy="464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 By G.Br. Burket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o bring the waiting earth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New Hope and joy and meaning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By His incarnate birth.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s love made manifest,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hat hearts which will receive Him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May be forever blest.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o teach each eager mind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Man’s vast potentiality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o love and serve mankind.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A child has come from heaven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o lead where He has trod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he path of truth and righteousness</a:t>
            </a:r>
            <a:br>
              <a:rPr sz="1300"/>
            </a:br>
            <a:r>
              <a:rPr b="1" i="1" lang="en-US" sz="1300" spc="-1" strike="noStrike">
                <a:solidFill>
                  <a:srgbClr val="210b7f"/>
                </a:solidFill>
                <a:latin typeface="Arial Black"/>
              </a:rPr>
              <a:t>That keeps man close to God</a:t>
            </a:r>
            <a:r>
              <a:rPr b="1" i="1" lang="en-US" sz="1300" spc="-1" strike="noStrike">
                <a:solidFill>
                  <a:srgbClr val="210b7f"/>
                </a:solidFill>
                <a:latin typeface="Showcard Gothic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5960" y="4857840"/>
            <a:ext cx="54864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210b7f"/>
                </a:solidFill>
                <a:latin typeface="Calibri"/>
              </a:rPr>
              <a:t>На </a:t>
            </a:r>
            <a:r>
              <a:rPr b="1" i="1" lang="ru-RU" sz="1900" spc="-1" strike="noStrike">
                <a:solidFill>
                  <a:srgbClr val="210b7f"/>
                </a:solidFill>
                <a:latin typeface="Calibri"/>
              </a:rPr>
              <a:t>Рождество</a:t>
            </a:r>
            <a:r>
              <a:rPr b="0" i="1" lang="ru-RU" sz="1900" spc="-1" strike="noStrike">
                <a:solidFill>
                  <a:srgbClr val="210b7f"/>
                </a:solidFill>
                <a:latin typeface="Calibri"/>
              </a:rPr>
              <a:t> все окна сельских домов освещены в Великобритании свечами, поэтому среди местных жителей ночь под Рождество называется "ночь свечей". В Англии в сочельник вместо традиционного Рождественского бревна зажигают толстую Рождественскую свечу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Лена\Мои документы\рождество\1753f99f7781cedcc209b4aa5d363b75_full.jpg"/>
          <p:cNvPicPr/>
          <p:nvPr/>
        </p:nvPicPr>
        <p:blipFill>
          <a:blip r:embed="rId2"/>
          <a:stretch/>
        </p:blipFill>
        <p:spPr>
          <a:xfrm>
            <a:off x="1714680" y="642960"/>
            <a:ext cx="5400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b7f"/>
                </a:solidFill>
                <a:latin typeface="Calibri"/>
              </a:rPr>
              <a:t>Рождественские колокольч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Лена\Мои документы\screensavers\vetton_ru_506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00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210b7f"/>
                </a:solidFill>
                <a:latin typeface="Calibri"/>
              </a:rPr>
              <a:t>Колокольный звон в Святки пришел к нам из зимних веских праздников. Когда Земля была холодна, считалось, что солнце умерло, а злой дух очень силен. Чтобы изгнать духа, нужно было сильно шуметь. До наших дней сохранилась рождественская традиция звенеть колокольчиками, одновременно петь и кричать. На Святках в церквях всего мира раздается колокольный звон. Но не для изгнания злых духов. Таким образом люди приветствуют пришествие Христа.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1720" y="4800240"/>
            <a:ext cx="70005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10b7f"/>
                </a:solidFill>
                <a:latin typeface="Calibri"/>
              </a:rPr>
              <a:t>                                </a:t>
            </a:r>
            <a:br>
              <a:rPr sz="8000"/>
            </a:br>
            <a:r>
              <a:rPr b="1" lang="ru-RU" sz="8000" spc="-1" strike="noStrike">
                <a:solidFill>
                  <a:srgbClr val="210b7f"/>
                </a:solidFill>
                <a:latin typeface="Calibri"/>
              </a:rPr>
              <a:t>Санта Клау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Лена\Мои документы\рождество\1d27971baa7385b36bbb3ad05ef9df18_full.jpg"/>
          <p:cNvPicPr/>
          <p:nvPr/>
        </p:nvPicPr>
        <p:blipFill>
          <a:blip r:embed="rId1"/>
          <a:srcRect l="0" t="3127" r="0" b="312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Лена\Мои документы\рождество\ok_alenta-1135944223_i_2135_full.jpg"/>
          <p:cNvPicPr/>
          <p:nvPr/>
        </p:nvPicPr>
        <p:blipFill>
          <a:blip r:embed="rId1"/>
          <a:srcRect l="0" t="21594" r="0" b="21594"/>
          <a:stretch/>
        </p:blipFill>
        <p:spPr>
          <a:xfrm>
            <a:off x="1785960" y="214200"/>
            <a:ext cx="5486400" cy="5043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5366880"/>
            <a:ext cx="850104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0b7f"/>
                </a:solidFill>
                <a:latin typeface="Calibri"/>
              </a:rPr>
              <a:t>В 17 веке Рождественская елка уже была распространенным атрибутом Рождества в Германии и скандинавских странах. В то время елка украшалась фигурками и цветами, вырезанными из цветной бумаги, яблоками, вафлями, позолоченными вещицами, сахаром. Традиция наряжать елку связана с райским деревом, увешанном ябло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800600"/>
            <a:ext cx="77868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4800" spc="-1" strike="noStrike">
                <a:solidFill>
                  <a:srgbClr val="210b7f"/>
                </a:solidFill>
                <a:latin typeface="Calibri"/>
              </a:rPr>
              <a:t>Украш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Лена\Мои документы\screensavers\vetton_ru_524.jpg"/>
          <p:cNvPicPr/>
          <p:nvPr/>
        </p:nvPicPr>
        <p:blipFill>
          <a:blip r:embed="rId1"/>
          <a:srcRect l="0" t="3126" r="0" b="31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521460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0b7f"/>
                </a:solidFill>
                <a:latin typeface="Calibri"/>
              </a:rPr>
              <a:t>Первые Рождественские елки были украшены живыми цветами и фруктами. Позже были добавлены сладости, орехи и другая еда. Затем - рождественские свечи. Такой груз был безусловно слишком тяжел для дерева. Немецкие стеклодувы начали производить полые стеклянные елочные игрушки, чтобы заменить фрукты и другие тяжелые украш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785840"/>
            <a:ext cx="6208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6000" spc="-1" strike="noStrike">
                <a:solidFill>
                  <a:srgbClr val="210b7f"/>
                </a:solidFill>
                <a:latin typeface="Calibri"/>
              </a:rPr>
              <a:t>Подар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http://www.wild-mistress.ru/wm/wm.nsf/publicall/2006-11-16-279001.html/$File/1-2R.jpg"/>
          <p:cNvPicPr/>
          <p:nvPr/>
        </p:nvPicPr>
        <p:blipFill>
          <a:blip r:embed="rId1"/>
          <a:srcRect l="0" t="5728" r="0" b="572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4200" y="5428800"/>
            <a:ext cx="83584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0b7f"/>
                </a:solidFill>
                <a:latin typeface="Calibri"/>
              </a:rPr>
              <a:t>Рождественским утром дети обычно открывают подарки, которые  Санта Клаус приносит им ноч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5357880"/>
            <a:ext cx="87152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5400" spc="-1" strike="noStrike">
                <a:solidFill>
                  <a:srgbClr val="210b7f"/>
                </a:solidFill>
                <a:latin typeface="Calibri"/>
              </a:rPr>
              <a:t>Рождественские открыт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Лена\Мои документы\screensavers\vetton_ru_570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0:17:50Z</dcterms:created>
  <dc:creator>Лена</dc:creator>
  <dc:description/>
  <dc:language>en-US</dc:language>
  <cp:lastModifiedBy>VladF</cp:lastModifiedBy>
  <dcterms:modified xsi:type="dcterms:W3CDTF">2008-12-17T21:22:15Z</dcterms:modified>
  <cp:revision>18</cp:revision>
  <dc:subject/>
  <dc:title>Рождественские обычаи и традиции</dc:title>
</cp:coreProperties>
</file>