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2B7-08BB-40E2-A38B-24DCF63D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71D-F9AC-44E5-84B4-39147FC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A24-1883-48A2-9FC5-EF298803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677-3165-4E84-B7E7-15589966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0C9-32FD-4D47-9BEE-AC6DE486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06E-89CC-46ED-BAA4-4B3CC586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EF3-03FF-42FA-AE8D-34695EC0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BE3-C831-4341-86FC-CE9FA86D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71F-2D3A-468D-A730-8CFC6B2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F2C-9F51-484C-8E5E-B258E66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A2F-C5F1-4880-844B-E8172F8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123-C128-49F3-8068-D837034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998-3997-4D88-A46C-F82334786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ождественские обычаи и традиц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enya_-_we_wish_you_a_merry_christma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enya_-_we_wish_you_a_merry_christma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0b7f"/>
                </a:solidFill>
                <a:latin typeface="Calibri"/>
              </a:rPr>
              <a:t>Рождественские горо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Лена\Мои документы\screensavers\01437_christmaslighthouse_1600x1200.jpg"/>
          <p:cNvPicPr/>
          <p:nvPr/>
        </p:nvPicPr>
        <p:blipFill>
          <a:blip r:embed="rId1"/>
          <a:stretch/>
        </p:blipFill>
        <p:spPr>
          <a:xfrm>
            <a:off x="357120" y="2347920"/>
            <a:ext cx="4138560" cy="33670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8" descr="http://www.wild-mistress.ru/wm/wm.nsf/publicall/2006-11-16-279001.html/$File/1-3R.jpg"/>
          <p:cNvPicPr/>
          <p:nvPr/>
        </p:nvPicPr>
        <p:blipFill>
          <a:blip r:embed="rId2"/>
          <a:stretch/>
        </p:blipFill>
        <p:spPr>
          <a:xfrm>
            <a:off x="4673520" y="2916360"/>
            <a:ext cx="425628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Лена\Мои документы\screensavers\vetton_ru_507.jpg"/>
          <p:cNvPicPr/>
          <p:nvPr/>
        </p:nvPicPr>
        <p:blipFill>
          <a:blip r:embed="rId1"/>
          <a:stretch/>
        </p:blipFill>
        <p:spPr>
          <a:xfrm>
            <a:off x="582480" y="1357200"/>
            <a:ext cx="4418280" cy="401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Лена\Мои документы\рождество\vaw1221b5.jpg"/>
          <p:cNvPicPr/>
          <p:nvPr/>
        </p:nvPicPr>
        <p:blipFill>
          <a:blip r:embed="rId2"/>
          <a:stretch/>
        </p:blipFill>
        <p:spPr>
          <a:xfrm>
            <a:off x="517032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Рождение Иисуса Хр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The Holy Family"/>
          <p:cNvPicPr/>
          <p:nvPr/>
        </p:nvPicPr>
        <p:blipFill>
          <a:blip r:embed="rId1"/>
          <a:stretch/>
        </p:blipFill>
        <p:spPr>
          <a:xfrm>
            <a:off x="4226040" y="874800"/>
            <a:ext cx="3809880" cy="464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 By G.Br. Burke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bring the waiting earth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New Hope and joy and meaning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By His incarnate birth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s love made manifest,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at hearts which will receive Him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May be forever blest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teach each eager mind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Man’s vast potentiality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love and serve mankind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lead where He has trod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e path of truth and righteousness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at keeps man close to God</a:t>
            </a:r>
            <a:r>
              <a:rPr b="1" i="1" lang="en-US" sz="1300" spc="-1" strike="noStrike">
                <a:solidFill>
                  <a:srgbClr val="210b7f"/>
                </a:solidFill>
                <a:latin typeface="Showcard Gothic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210b7f"/>
                </a:solidFill>
                <a:latin typeface="Calibri"/>
              </a:rPr>
              <a:t>На </a:t>
            </a:r>
            <a:r>
              <a:rPr b="1" i="1" lang="ru-RU" sz="1900" spc="-1" strike="noStrike">
                <a:solidFill>
                  <a:srgbClr val="210b7f"/>
                </a:solidFill>
                <a:latin typeface="Calibri"/>
              </a:rPr>
              <a:t>Рождество</a:t>
            </a:r>
            <a:r>
              <a:rPr b="0" i="1" lang="ru-RU" sz="1900" spc="-1" strike="noStrike">
                <a:solidFill>
                  <a:srgbClr val="210b7f"/>
                </a:solidFill>
                <a:latin typeface="Calibri"/>
              </a:rPr>
              <a:t> все окна сельских домов освещены в Великобритании свечами, поэтому среди местных жителей ночь под Рождество называется "ночь свечей". В Англии в сочельник вместо традиционного Рождественского бревна зажигают толстую Рождественскую свеч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Лена\Мои документы\рождество\1753f99f7781cedcc209b4aa5d363b75_full.jpg"/>
          <p:cNvPicPr/>
          <p:nvPr/>
        </p:nvPicPr>
        <p:blipFill>
          <a:blip r:embed="rId2"/>
          <a:stretch/>
        </p:blipFill>
        <p:spPr>
          <a:xfrm>
            <a:off x="1714680" y="642960"/>
            <a:ext cx="5400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7f"/>
                </a:solidFill>
                <a:latin typeface="Calibri"/>
              </a:rPr>
              <a:t>Рождественские колокольч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Лена\Мои документы\screensavers\vetton_ru_506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00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210b7f"/>
                </a:solidFill>
                <a:latin typeface="Calibri"/>
              </a:rPr>
              <a:t>Колокольный звон в Святки пришел к нам из зимних веских праздников. Когда Земля была холодна, считалось, что солнце умерло, а злой дух очень силен. Чтобы изгнать духа, нужно было сильно шуметь. До наших дней сохранилась рождественская традиция звенеть колокольчиками, одновременно петь и кричать. На Святках в церквях всего мира раздается колокольный звон. Но не для изгнания злых духов. Таким образом люди приветствуют пришествие Христа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1720" y="4800240"/>
            <a:ext cx="70005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10b7f"/>
                </a:solidFill>
                <a:latin typeface="Calibri"/>
              </a:rPr>
              <a:t>                                </a:t>
            </a:r>
            <a:br>
              <a:rPr sz="8000"/>
            </a:br>
            <a:r>
              <a:rPr b="1" lang="ru-RU" sz="8000" spc="-1" strike="noStrike">
                <a:solidFill>
                  <a:srgbClr val="210b7f"/>
                </a:solidFill>
                <a:latin typeface="Calibri"/>
              </a:rPr>
              <a:t>Санта Клау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Лена\Мои документы\рождество\1d27971baa7385b36bbb3ad05ef9df18_full.jpg"/>
          <p:cNvPicPr/>
          <p:nvPr/>
        </p:nvPicPr>
        <p:blipFill>
          <a:blip r:embed="rId1"/>
          <a:srcRect l="0" t="3127" r="0" b="31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Лена\Мои документы\рождество\ok_alenta-1135944223_i_2135_full.jpg"/>
          <p:cNvPicPr/>
          <p:nvPr/>
        </p:nvPicPr>
        <p:blipFill>
          <a:blip r:embed="rId1"/>
          <a:srcRect l="0" t="21594" r="0" b="21594"/>
          <a:stretch/>
        </p:blipFill>
        <p:spPr>
          <a:xfrm>
            <a:off x="1785960" y="214200"/>
            <a:ext cx="5486400" cy="504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5366880"/>
            <a:ext cx="850104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0b7f"/>
                </a:solidFill>
                <a:latin typeface="Calibri"/>
              </a:rPr>
              <a:t>В 17 веке Рождественская елка уже была распространенным атрибутом Рождества в Германии и скандинавских странах. В то время елка украшалась фигурками и цветами, вырезанными из цветной бумаги, яблоками, вафлями, позолоченными вещицами, сахаром. Традиция наряжать елку связана с райским деревом, увешанном ябло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800600"/>
            <a:ext cx="77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4800" spc="-1" strike="noStrike">
                <a:solidFill>
                  <a:srgbClr val="210b7f"/>
                </a:solidFill>
                <a:latin typeface="Calibri"/>
              </a:rPr>
              <a:t>Украш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Лена\Мои документы\screensavers\vetton_ru_524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521460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0b7f"/>
                </a:solidFill>
                <a:latin typeface="Calibri"/>
              </a:rPr>
              <a:t>Первые Рождественские елки были украшены живыми цветами и фруктами. Позже были добавлены сладости, орехи и другая еда. Затем - рождественские свечи. Такой груз был безусловно слишком тяжел для дерева. Немецкие стеклодувы начали производить полые стеклянные елочные игрушки, чтобы заменить фрукты и другие тяжелые украш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785840"/>
            <a:ext cx="6208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6000" spc="-1" strike="noStrike">
                <a:solidFill>
                  <a:srgbClr val="210b7f"/>
                </a:solidFill>
                <a:latin typeface="Calibri"/>
              </a:rPr>
              <a:t>Подар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http://www.wild-mistress.ru/wm/wm.nsf/publicall/2006-11-16-279001.html/$File/1-2R.jpg"/>
          <p:cNvPicPr/>
          <p:nvPr/>
        </p:nvPicPr>
        <p:blipFill>
          <a:blip r:embed="rId1"/>
          <a:srcRect l="0" t="5728" r="0" b="572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4200" y="5428800"/>
            <a:ext cx="8358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0b7f"/>
                </a:solidFill>
                <a:latin typeface="Calibri"/>
              </a:rPr>
              <a:t>Рождественским утром дети обычно открывают подарки, которые  Санта Клаус приносит им ноч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5357880"/>
            <a:ext cx="87152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5400" spc="-1" strike="noStrike">
                <a:solidFill>
                  <a:srgbClr val="210b7f"/>
                </a:solidFill>
                <a:latin typeface="Calibri"/>
              </a:rPr>
              <a:t>Рождественские открыт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Лена\Мои документы\screensavers\vetton_ru_57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0:17:50Z</dcterms:created>
  <dc:creator>Лена</dc:creator>
  <dc:description/>
  <dc:language>en-US</dc:language>
  <cp:lastModifiedBy>VladF</cp:lastModifiedBy>
  <dcterms:modified xsi:type="dcterms:W3CDTF">2008-12-17T21:22:15Z</dcterms:modified>
  <cp:revision>18</cp:revision>
  <dc:subject/>
  <dc:title>Рождественские обычаи и традиции</dc:title>
</cp:coreProperties>
</file>