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22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25DF-29AC-4EFC-934C-C5B29732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0A0-CF80-45DC-9E04-0EFE9F67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714D-CE27-4068-8F60-D44F500D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4F66-238E-4754-BFFB-22BC6D69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7863-943A-42B3-BF27-4BEDB77B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288F-17EA-4269-86D0-C1F7A51A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A26F-DF39-4BFB-AD0D-4C58D0DA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A070-7BF4-4F58-8B51-CB984961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2064-C876-46BB-A4DE-04A15659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DFA6-1F47-4ABC-901F-4B37D9EC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7208-D127-43D4-AD63-764000AB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7510-1707-4D9B-9A69-A956B63C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A6C9-F64A-4F6F-AA63-10EDFCC4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17C5-720D-4D10-8D46-84A89299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E045-A3A9-4D47-8183-C05ED972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EAD5-1F39-4CBA-B886-F3D6DE4B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47C9-9CA3-4AA3-8EDB-727385DE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FCE-5C96-4988-B1B0-4AF5A23B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32A-263F-4E0D-B0D2-09A1A865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127-0A72-4E29-9264-EC8D15B4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C37-2C48-40B1-AE76-B7CB5AF7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006-6B8C-41C3-B8BE-ED728111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D8B-BDF9-4E4C-889A-17CAA0CC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1A9-B148-4B2A-9E5A-25E93EE3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8047-3AD4-4696-A5D6-71C70269C9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0245-605B-481A-B44A-94C1005B49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2.bp.blogspot.com/-15__RSTXx_M/UIvWdzVbzwI/AAAAAAAAHQg/94ioFX54X5Y/s1600/beaded_snowflake_18.JPG" TargetMode="External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/index.php?title=&#1062;&#1074;&#1077;&#1090;&#1086;&#1076;&#1077;&#1083;&#1080;&#1077;&amp;action=edit&amp;redlink=1" TargetMode="External"/><Relationship Id="rId3" Type="http://schemas.openxmlformats.org/officeDocument/2006/relationships/hyperlink" Target="http://ru.wikipedia.org/wiki/&#1051;&#1086;&#1089;&#1082;&#1091;&#1090;&#1085;&#1086;&#1077;_&#1096;&#1080;&#1090;&#1100;&#1105;" TargetMode="External"/><Relationship Id="rId4" Type="http://schemas.openxmlformats.org/officeDocument/2006/relationships/hyperlink" Target="http://ru.wikipedia.org/wiki/&#1051;&#1086;&#1089;&#1082;&#1091;&#1090;&#1085;&#1086;&#1077;_&#1086;&#1076;&#1077;&#1103;&#1083;&#1086;" TargetMode="External"/><Relationship Id="rId5" Type="http://schemas.openxmlformats.org/officeDocument/2006/relationships/hyperlink" Target="http://ru.wikipedia.org/wiki/&#1040;&#1087;&#1087;&#1083;&#1080;&#1082;&#1072;&#1094;&#1080;&#1103;" TargetMode="External"/><Relationship Id="rId6" Type="http://schemas.openxmlformats.org/officeDocument/2006/relationships/hyperlink" Target="http://ru.wikipedia.org/wiki/&#1057;&#1090;&#1105;&#1075;&#1072;&#1085;&#1086;&#1077;_&#1087;&#1086;&#1083;&#1086;&#1090;&#1085;&#1086;" TargetMode="Externa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6920" y="189000"/>
            <a:ext cx="482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Verdana"/>
              </a:rPr>
              <a:t>День рукодел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3400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Иголочка тонка, но достаёт до сердца 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И у того, кто дивный шьёт узор, 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И у того, кто от работ умельца 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Отвесть не может восхищённый взо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Века живут в картинах и платочках, 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И в бисерных роскошных ожерельях, 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Подаренных когда-то внукам, дочкам, 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Нетленные черты простого рукодель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Душа и руки создают шедевры, 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Да просто украшают нашу жизнь. 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За чудо творчества, истраченные нервы 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Рукам искусным низко поклонис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291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4141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66"/>
                </a:solidFill>
                <a:latin typeface="Verdana"/>
              </a:rPr>
              <a:t>Апликац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-252360" y="1197000"/>
            <a:ext cx="4464000" cy="4221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284720" y="0"/>
            <a:ext cx="4029120" cy="30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859280" y="2637000"/>
            <a:ext cx="4029120" cy="4076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908000" y="2762280"/>
            <a:ext cx="27244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79280" y="2513160"/>
            <a:ext cx="4345200" cy="4344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851280" y="-531720"/>
            <a:ext cx="4595760" cy="3446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003640" y="2492280"/>
            <a:ext cx="3076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Вышивание бисером, крестиком, лентам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2923920" cy="4096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300720" y="1052640"/>
            <a:ext cx="3152880" cy="4095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 rot="21210000">
            <a:off x="2843280" y="3333600"/>
            <a:ext cx="4029120" cy="3524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3203640" y="907920"/>
            <a:ext cx="352908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Художественная резьб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029120" cy="2009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643280" y="1341360"/>
            <a:ext cx="4029120" cy="3019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771640" y="2565360"/>
            <a:ext cx="36100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Художественная роспис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4029120" cy="3086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859280" y="1197000"/>
            <a:ext cx="4029120" cy="3057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195640" y="3213000"/>
            <a:ext cx="446400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Учимся вышивать крестико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нва       игла                   мулин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6408720" cy="3863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4029120" cy="3219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435640" y="1700280"/>
            <a:ext cx="4029120" cy="3019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2987640" y="155736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1332000" y="2565360"/>
            <a:ext cx="640872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Работы дете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819600" cy="4095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716360" y="1413000"/>
            <a:ext cx="37148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Работы дете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4029120" cy="4086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3562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летение из лозы, лен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029120" cy="3019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643280" y="1413000"/>
            <a:ext cx="4029120" cy="3019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611280" y="3838680"/>
            <a:ext cx="4029120" cy="3019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4356000" y="3857760"/>
            <a:ext cx="40291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82800" y="333360"/>
            <a:ext cx="456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Плетение из бисер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3819600" cy="4095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796000" y="1484280"/>
            <a:ext cx="2724120" cy="4095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826920" y="0"/>
            <a:ext cx="4029120" cy="2467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http://2.bp.blogspot.com/-eNlFHCmdYzI/TxHqoUhG2oI/AAAAAAAACgk/5cmawvulvSw/s1600/beaded_lilac_01.JPG"/>
          <p:cNvPicPr/>
          <p:nvPr/>
        </p:nvPicPr>
        <p:blipFill>
          <a:blip r:embed="rId5"/>
          <a:stretch/>
        </p:blipFill>
        <p:spPr>
          <a:xfrm>
            <a:off x="3780000" y="2637000"/>
            <a:ext cx="45003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Рукоде́лие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—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ид ручного труда, искусство выполнения вещей из ткани, ниток, шерсти и других материалов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32000" y="-360"/>
            <a:ext cx="42116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Verdana"/>
              </a:rPr>
              <a:t>Мастер класс </a:t>
            </a:r>
            <a:br>
              <a:rPr sz="2800"/>
            </a:br>
            <a:r>
              <a:rPr b="1" i="1" lang="en-US" sz="2800" spc="-1" strike="noStrike">
                <a:solidFill>
                  <a:srgbClr val="003366"/>
                </a:solidFill>
                <a:latin typeface="Verdana"/>
              </a:rPr>
              <a:t>по плетению из бис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Зима всё ближе, и сегодня будем делать ещё одно изделие из "зимней" серии - снежинку.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м потребуется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 бисер № 10; я взяла бисер кремового цвета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 стеклярус размера № 3; я взяла стеклярус серебристого цвета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 бусины диаметром 6 мм; я взяла бусины кремового цвета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 130 см проволоки диаметром 0,2 мм.</a:t>
            </a:r>
            <a:br>
              <a:rPr sz="2100"/>
            </a:b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бираем на проволоку одну бусину и размещаем её в нескольких сантиметрах от одного из концов проволок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бираем на проволоку одну бусину и размещаем её в нескольких сантиметрах от одного из концов проволоки.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403280" y="1628640"/>
            <a:ext cx="626436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опускаем короткий конец проволоки через бусину, с её обратной стороны.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69627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Дальнейшее плетение ведём только на длинном конце проволоки. Сначала набираем на проволоку 1 отрезок стекляруса и 12 бисеринок.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7488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Пропускаем проволоку через первую набранную бисеринку в обратном направлении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763272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Придвигаем набор вплотную к бусине и затягиваем проволоку. У нас получилась петелька из бисеринок.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72741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Теперь набираем на проволоку ещё 12 бисеринок,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73436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после чего пропускаем проволоку в обратном направлении через первую бисеринку из этого набора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748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Придвигаем бисеринки вплотную к изделию и затягиваем проволоку - у нас получилась вторая петелька из бисеринок. Отрезок стекляруса и две петельки составляют первый ярус плетения.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77770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Далее вплотную к первому ярусу делаем друг за другом ещё два таких же яруса, каждый из которых состоит из одного отрезка стекляруса и двух петелек из бисеринок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7272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рукодел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Шить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язание (Крючком, спицами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ышив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Художественная резьб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лете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оспис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и пропускаем проволоку в обратном направлении через первую бисеринку из этого набора.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78487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63640" y="304920"/>
            <a:ext cx="32115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Затягиваем проволоку. У нас получилась веточка, которая будет лучиком снежинки.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219640" y="475920"/>
            <a:ext cx="3348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449712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Для продолжения плетения остальных веточек-лучиков необходимо вывести проволоку к основанию бусины. Для этого пропускаем проволоку последовательно сначала через все три отрезка стекляруса, а затем - через бусину.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648036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Аккуратно вытягиваем проволоку - наша веточка стала более плотной и ровной.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7272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867280" y="333360"/>
            <a:ext cx="3276720" cy="62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Далее таким же образом друг за другом плетём на проволоке ещё 5 точно таких же веточек-лучиков, размещая каждый последующий лучик вплотную к предыдущему. Для каждой веточки-лучика набираем сначала бусину, затем сразу же - отрезок стекляруса и 12 бисеринок, после чего продолжаем плетение точно так же, как мы плели самый первый лучик. Всего у снежинки должно быть 6 таких веточек-лучиков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-252360" y="549360"/>
            <a:ext cx="6119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0920" y="1052640"/>
            <a:ext cx="79642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После окончания плетения надо распутать петлю из проволоки вокруг самой первой бусины и скрутить вместе оба конца проволоки так, чтобы первая и последняя бусины оказались вплотную друг к другу и между ними не было промежут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900000" y="1628640"/>
            <a:ext cx="71280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Отрезаем концы проволоки, оставляя только маленький кончик скрутки. Этот кончик сам собой спрячется между бусинами, и его не будет видно.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Осталось расправить лучики - снежинка из бисера готова!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48243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7920" y="333360"/>
            <a:ext cx="41860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Фантазии полёт и рук творенье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С восторгом я держу в своих руках...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Не знает, к счастью, красота старенья,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Любовь к прекрасному живёт в веках.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Умелец может сделать из железки,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Из камня, дерева – шедевры красоты.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Из разноцветья бисера и лески,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Как в сказке, чудеса творишь и ты.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Я прикасаюсь к броши осторожно,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Она чарует и ласкает взор.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Представить трудно, как это возможно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Создать невиданной красы узор.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Как результат терпенья и уменья –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Изящество, и цвета чистота,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И совершенство формы... Нет сомненья,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Наш мир спасут талант и красота!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4465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День рукодел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Verdana"/>
              </a:rPr>
              <a:t>Презентацию подготовил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cc0000"/>
                </a:solidFill>
                <a:latin typeface="Verdana"/>
              </a:rPr>
              <a:t>Анна Валентиновна Дорошенк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c0000"/>
                </a:solidFill>
                <a:latin typeface="Verdana"/>
              </a:rPr>
              <a:t>Воспитатель первой квалификационной категории МБОУ СОШ №1 г.Калининска Саратовской обл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c0000"/>
                </a:solidFill>
                <a:latin typeface="Verdana"/>
              </a:rPr>
              <a:t>Спасибо за внимание!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Шить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Цветоделие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— Изготовление женских украшений из ткани в виде цветов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Патчвор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(шитье из лоскутков), </a:t>
            </a: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лоскутное одеяло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Аппликац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Стёганые издел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квилтинг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Цветодел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4314600" cy="3238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084720" y="1125360"/>
            <a:ext cx="2895840" cy="3857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55640" y="2060640"/>
            <a:ext cx="29433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806436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ШИТЬЁ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3840480" cy="2878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114880" y="1413000"/>
            <a:ext cx="4029120" cy="2685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4076640"/>
            <a:ext cx="4029120" cy="3019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114880" y="3838680"/>
            <a:ext cx="4029120" cy="3019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2050920" y="1484280"/>
            <a:ext cx="40291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яз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20449200">
            <a:off x="899640" y="259920"/>
            <a:ext cx="2905200" cy="4095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rot="2029800">
            <a:off x="5148000" y="0"/>
            <a:ext cx="3038400" cy="4095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95280" y="3284640"/>
            <a:ext cx="4029120" cy="3133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003640" y="2762280"/>
            <a:ext cx="29242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язание на спицах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292720" y="2421000"/>
            <a:ext cx="3686040" cy="4095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 rot="21072000">
            <a:off x="-252000" y="1700280"/>
            <a:ext cx="57531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9:11:59Z</dcterms:created>
  <dc:creator>Администратор</dc:creator>
  <dc:description/>
  <dc:language>en-US</dc:language>
  <cp:lastModifiedBy>Администратор</cp:lastModifiedBy>
  <dcterms:modified xsi:type="dcterms:W3CDTF">2012-12-21T06:11:21Z</dcterms:modified>
  <cp:revision>6</cp:revision>
  <dc:subject/>
  <dc:title>Рукоделие</dc:title>
</cp:coreProperties>
</file>