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7.wmf" ContentType="image/x-wmf"/>
  <Override PartName="/ppt/media/image26.wmf" ContentType="image/x-wmf"/>
  <Override PartName="/ppt/media/image20.gif" ContentType="image/gif"/>
  <Override PartName="/ppt/media/image13.png" ContentType="image/png"/>
  <Override PartName="/ppt/media/image18.png" ContentType="image/png"/>
  <Override PartName="/ppt/media/image6.jpeg" ContentType="image/jpeg"/>
  <Override PartName="/ppt/media/image21.png" ContentType="image/png"/>
  <Override PartName="/ppt/media/image9.jpeg" ContentType="image/jpeg"/>
  <Override PartName="/ppt/media/image11.png" ContentType="image/png"/>
  <Override PartName="/ppt/media/image15.png" ContentType="image/png"/>
  <Override PartName="/ppt/media/image24.jpeg" ContentType="image/jpeg"/>
  <Override PartName="/ppt/media/image35.wmf" ContentType="image/x-wmf"/>
  <Override PartName="/ppt/media/image32.png" ContentType="image/png"/>
  <Override PartName="/ppt/media/image22.jpeg" ContentType="image/jpeg"/>
  <Override PartName="/ppt/media/image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4.png" ContentType="image/png"/>
  <Override PartName="/ppt/media/image8.png" ContentType="image/png"/>
  <Override PartName="/ppt/media/image36.wmf" ContentType="image/x-wmf"/>
  <Override PartName="/ppt/media/image28.wmf" ContentType="image/x-wmf"/>
  <Override PartName="/ppt/media/image37.jpeg" ContentType="image/jpeg"/>
  <Override PartName="/ppt/media/image30.png" ContentType="image/png"/>
  <Override PartName="/ppt/media/image5.jpeg" ContentType="image/jpeg"/>
  <Override PartName="/ppt/media/image4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31.jpeg" ContentType="image/jpeg"/>
  <Override PartName="/ppt/media/image14.gif" ContentType="image/gif"/>
  <Override PartName="/ppt/media/image16.gif" ContentType="image/gi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2F5-F34E-4192-9A3D-5A743B8D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0EA-5102-435E-B1D4-E44A2D97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716-8D84-4BD8-9FB2-74C88646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D7D-988E-44CE-BCFC-6441D0DA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C96E-ECF5-423A-B73B-FEF71D50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0376-CEB6-4F6C-A9C7-8F258E09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DA05-6332-458C-A536-60CE9F29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16A6-8527-4633-84EE-0FB7D0A2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1DB8-C4FD-4DC8-AF3D-453475B5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25C8-AE56-4C39-AE8F-64CADCDC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AD79-D234-4B8F-A223-3C3A492C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00D-D8D0-408C-9850-581ACC22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6F18-4CC9-45DB-898B-F3BD6189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2A7E-C3E5-4CB3-A5AF-CCEC3E2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AE30-0390-406F-B985-4874218C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C880-BC90-42BB-A765-6793C2E1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F553-3A6B-421B-9631-D9ADE0FF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9EE-C121-41BB-9FA6-4C8842BC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1CC-E885-4AF5-A5F9-F3EDAC14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56E-848B-47C3-9851-D4AD5A7F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53A-4F79-464B-A019-86C7D063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3FF-6D38-4BE9-AFD2-1E5A69A9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DF6-99A8-463D-ABBC-EBC1D41E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D36-0496-483E-B6AD-D14AAF56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F938-D60E-45EC-A487-4F538E314A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5D34-EFAD-4236-8B74-C107478F7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4280" y="2214360"/>
            <a:ext cx="763128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воё здоровье и кур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  серии классных часов «Твоё здоровье и …»)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ный час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- 9 клас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1280" y="5516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: Ткачева Наталья Иван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285920" y="35712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я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иллер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760" y="15717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спортятся зубы, кожа, потускнеют волосы, появится неприятный запах изо рта, разовьются различные заболевания желудка, сердца, легких (например, появится отдышк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Прямоугольник 3" descr=""/>
          <p:cNvPicPr/>
          <p:nvPr/>
        </p:nvPicPr>
        <p:blipFill>
          <a:blip r:embed="rId1"/>
          <a:stretch/>
        </p:blipFill>
        <p:spPr>
          <a:xfrm>
            <a:off x="914400" y="195120"/>
            <a:ext cx="7675560" cy="156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школьные работы\классный час\для презентаций\brain.gif"/>
          <p:cNvPicPr/>
          <p:nvPr/>
        </p:nvPicPr>
        <p:blipFill>
          <a:blip r:embed="rId2"/>
          <a:stretch/>
        </p:blipFill>
        <p:spPr>
          <a:xfrm>
            <a:off x="214200" y="3214800"/>
            <a:ext cx="2727360" cy="27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школьные работы\классный час\для презентаций\caries.gif"/>
          <p:cNvPicPr/>
          <p:nvPr/>
        </p:nvPicPr>
        <p:blipFill>
          <a:blip r:embed="rId3"/>
          <a:stretch/>
        </p:blipFill>
        <p:spPr>
          <a:xfrm>
            <a:off x="6286680" y="4564080"/>
            <a:ext cx="2666880" cy="207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D:\школьные работы\классный час\для презентаций\101.gif"/>
          <p:cNvPicPr/>
          <p:nvPr/>
        </p:nvPicPr>
        <p:blipFill>
          <a:blip r:embed="rId4"/>
          <a:stretch/>
        </p:blipFill>
        <p:spPr>
          <a:xfrm>
            <a:off x="3143160" y="378612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D:\школьные работы\классный час\сканирование0002.jpg"/>
          <p:cNvPicPr/>
          <p:nvPr/>
        </p:nvPicPr>
        <p:blipFill>
          <a:blip r:embed="rId1"/>
          <a:stretch/>
        </p:blipFill>
        <p:spPr>
          <a:xfrm>
            <a:off x="1785960" y="357120"/>
            <a:ext cx="5857920" cy="634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3"/>
          <p:cNvGraphicFramePr/>
          <p:nvPr/>
        </p:nvGraphicFramePr>
        <p:xfrm>
          <a:off x="0" y="0"/>
          <a:ext cx="609588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0958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4"/>
          <p:cNvGraphicFramePr/>
          <p:nvPr/>
        </p:nvGraphicFramePr>
        <p:xfrm>
          <a:off x="3643200" y="3573360"/>
          <a:ext cx="5500800" cy="328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3573360"/>
                    <a:ext cx="550080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4" descr="D:\школьные работы\классный час\для презентаций\symb04.gif"/>
          <p:cNvPicPr/>
          <p:nvPr/>
        </p:nvPicPr>
        <p:blipFill>
          <a:blip r:embed="rId5"/>
          <a:stretch/>
        </p:blipFill>
        <p:spPr>
          <a:xfrm>
            <a:off x="500040" y="392904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кание к табачному дыму происходит следующим образ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ая стад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чало становления табачной зависим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а связа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ремлением получить удовольствие и снять неприятные пережи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пытств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сказать «НЕ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Прямоугольник 3" descr=""/>
          <p:cNvPicPr/>
          <p:nvPr/>
        </p:nvPicPr>
        <p:blipFill>
          <a:blip r:embed="rId1"/>
          <a:stretch/>
        </p:blipFill>
        <p:spPr>
          <a:xfrm>
            <a:off x="1547640" y="195120"/>
            <a:ext cx="6632640" cy="156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школьные работы\классный час\для презентаций\WEB42.jpg"/>
          <p:cNvPicPr/>
          <p:nvPr/>
        </p:nvPicPr>
        <p:blipFill>
          <a:blip r:embed="rId2"/>
          <a:stretch/>
        </p:blipFill>
        <p:spPr>
          <a:xfrm>
            <a:off x="6000840" y="3895560"/>
            <a:ext cx="2928960" cy="273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42876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торая  стад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становление табачной зависим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а характеризуе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м разумных оправданий куре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м симптомов заболеваний (кашель, одышка), связанных с курением (бронхит и др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ом сна, настро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D:\школьные работы\классный час\для презентаций\18330.jpg"/>
          <p:cNvPicPr/>
          <p:nvPr/>
        </p:nvPicPr>
        <p:blipFill>
          <a:blip r:embed="rId1"/>
          <a:stretch/>
        </p:blipFill>
        <p:spPr>
          <a:xfrm>
            <a:off x="5572080" y="2595600"/>
            <a:ext cx="3282840" cy="4048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28760" y="21420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тья стад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тойкая табачная зависим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е  характеризу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о выраженная тяга к куре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е курение (через равные промежутки времен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 утром натоща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D:\школьные работы\классный час\для презентаций\WEB22.jpg"/>
          <p:cNvPicPr/>
          <p:nvPr/>
        </p:nvPicPr>
        <p:blipFill>
          <a:blip r:embed="rId1"/>
          <a:stretch/>
        </p:blipFill>
        <p:spPr>
          <a:xfrm>
            <a:off x="4429080" y="2500200"/>
            <a:ext cx="4429080" cy="413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0080" y="1500120"/>
            <a:ext cx="779616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93300"/>
                </a:solidFill>
                <a:latin typeface="Georgia"/>
              </a:rPr>
              <a:t>Курящие люди дольше сохраняют стройную фигуру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ругом полно дымящих толстяк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итупляя сигаретой чувство голода, вы провоцируете развитие гастрита и язвенной болез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удеть с помощью курения – это все равно что привить себе инфекционную болезнь и “таять на глазах” от н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PE01490_"/>
          <p:cNvPicPr/>
          <p:nvPr/>
        </p:nvPicPr>
        <p:blipFill>
          <a:blip r:embed="rId1"/>
          <a:stretch/>
        </p:blipFill>
        <p:spPr>
          <a:xfrm>
            <a:off x="7929720" y="5143680"/>
            <a:ext cx="1044360" cy="1438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671120" y="357120"/>
            <a:ext cx="632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Georgia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93300"/>
                </a:solidFill>
                <a:latin typeface="Georgia"/>
              </a:rPr>
              <a:t>Курево успокаивает нервы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мпоненты табака (смолы, никотин, дым и т.д.) не расслабляют, а просто “тормозят” важнейшие участки центральной нервной систем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ивыкнув к сигарете, человек без нее уже расслабиться не мож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Получается замкнутый круг: и возникновение, и прекращение стресса зависят от кур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HM00146_"/>
          <p:cNvPicPr/>
          <p:nvPr/>
        </p:nvPicPr>
        <p:blipFill>
          <a:blip r:embed="rId1"/>
          <a:stretch/>
        </p:blipFill>
        <p:spPr>
          <a:xfrm>
            <a:off x="6786720" y="5000760"/>
            <a:ext cx="2036520" cy="157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93300"/>
                </a:solidFill>
                <a:latin typeface="Georgia"/>
              </a:rPr>
              <a:t>На морозе сигарета согревает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060e"/>
                </a:solidFill>
                <a:latin typeface="Georgia"/>
              </a:rPr>
              <a:t>Табачный дым создает кратковременный согревающий эффект (содержащиеся в нем яды сужают сосуды, увеличивают частоту пульса и повышают кровяное дав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Стоит ли так "“греться"” чтобы получить взамен как минимум гипертонию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HM00144_"/>
          <p:cNvPicPr/>
          <p:nvPr/>
        </p:nvPicPr>
        <p:blipFill>
          <a:blip r:embed="rId1"/>
          <a:stretch/>
        </p:blipFill>
        <p:spPr>
          <a:xfrm>
            <a:off x="3357720" y="4795920"/>
            <a:ext cx="2500200" cy="177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93300"/>
                </a:solidFill>
                <a:latin typeface="Georgia"/>
              </a:rPr>
              <a:t>Сигареты с пометкой “легкие” не так вредны, как обычные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060e"/>
                </a:solidFill>
                <a:latin typeface="Georgia"/>
              </a:rPr>
              <a:t>Постоянно используя легкие сигареты, курильщики затягиваются чаще и глубже, что может привести к заболеванию раком не самих легких, а так называемой  </a:t>
            </a: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легочной периферии</a:t>
            </a:r>
            <a:r>
              <a:rPr b="0" i="1" lang="ru-RU" sz="2400" spc="-1" strike="noStrike">
                <a:solidFill>
                  <a:srgbClr val="20060e"/>
                </a:solidFill>
                <a:latin typeface="Georgia"/>
              </a:rPr>
              <a:t> – альвеол и малых бронх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HH00887_"/>
          <p:cNvPicPr/>
          <p:nvPr/>
        </p:nvPicPr>
        <p:blipFill>
          <a:blip r:embed="rId1"/>
          <a:stretch/>
        </p:blipFill>
        <p:spPr>
          <a:xfrm>
            <a:off x="6786720" y="3214800"/>
            <a:ext cx="2128680" cy="340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2"/>
          <a:stretch/>
        </p:blipFill>
        <p:spPr>
          <a:xfrm>
            <a:off x="-23760" y="36360"/>
            <a:ext cx="9124920" cy="1067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школьные работы\классный час\сканирование0003.jpg"/>
          <p:cNvPicPr/>
          <p:nvPr/>
        </p:nvPicPr>
        <p:blipFill>
          <a:blip r:embed="rId1"/>
          <a:stretch/>
        </p:blipFill>
        <p:spPr>
          <a:xfrm>
            <a:off x="3286080" y="285840"/>
            <a:ext cx="5500800" cy="6342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3840" y="213840"/>
            <a:ext cx="300852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имущества некурения перед  курением таба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2000160"/>
            <a:ext cx="5400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ознание вреда от курения, желание бросить ку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терап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ативная (успокаивающа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ующа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яющая стереоти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Прямоугольник 4" descr=""/>
          <p:cNvPicPr/>
          <p:nvPr/>
        </p:nvPicPr>
        <p:blipFill>
          <a:blip r:embed="rId1"/>
          <a:stretch/>
        </p:blipFill>
        <p:spPr>
          <a:xfrm>
            <a:off x="1481040" y="128520"/>
            <a:ext cx="6334200" cy="2054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школьные работы\классный час\для презентаций\image013.jpg"/>
          <p:cNvPicPr/>
          <p:nvPr/>
        </p:nvPicPr>
        <p:blipFill>
          <a:blip r:embed="rId2"/>
          <a:stretch/>
        </p:blipFill>
        <p:spPr>
          <a:xfrm>
            <a:off x="5786280" y="2595600"/>
            <a:ext cx="3005280" cy="397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60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7120" y="285840"/>
            <a:ext cx="4500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мещение или компенсация привычки кур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ная терап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генная (самостоятельная) трениров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дикамен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отерап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D:\школьные работы\классный час\для презентаций\opr02A00.gif"/>
          <p:cNvPicPr/>
          <p:nvPr/>
        </p:nvPicPr>
        <p:blipFill>
          <a:blip r:embed="rId1"/>
          <a:stretch/>
        </p:blipFill>
        <p:spPr>
          <a:xfrm>
            <a:off x="4286160" y="755640"/>
            <a:ext cx="4424400" cy="5702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28760" y="356760"/>
            <a:ext cx="49291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работка отвращения  к таба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ерсионная  терап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врача специалист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дикамен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отерап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D:\школьные работы\классный час\для презентаций\L01p1p09.jpg"/>
          <p:cNvPicPr/>
          <p:nvPr/>
        </p:nvPicPr>
        <p:blipFill>
          <a:blip r:embed="rId1"/>
          <a:stretch/>
        </p:blipFill>
        <p:spPr>
          <a:xfrm>
            <a:off x="3429000" y="2571840"/>
            <a:ext cx="5310360" cy="398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Борьба с курение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4358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Times New Roman"/>
              </a:rPr>
              <a:t>Англ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ычитают деньги из зарплаты за время, проведенное в курительной комна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Times New Roman"/>
              </a:rPr>
              <a:t>Д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запрещено курить в общественных мес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Times New Roman"/>
              </a:rPr>
              <a:t>Сингапу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курение – 500 долларов штраф. Нет рекламы на табачные издел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Times New Roman"/>
              </a:rPr>
              <a:t>Финлянд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врачи установили 1 день - 17 ноября, когда курильщики приходят на работу без сигар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Times New Roman"/>
              </a:rPr>
              <a:t>Япо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 Ваки – решение: 3 дня в месяц без кур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Times New Roman"/>
              </a:rPr>
              <a:t>Фран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осле антитабачной кампании число курильщиков сократилось более, чем на 2 млн. челов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0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600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{42C91DB0-610D-43F3-9F0B-7E963737B087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j0232155"/>
          <p:cNvPicPr/>
          <p:nvPr/>
        </p:nvPicPr>
        <p:blipFill>
          <a:blip r:embed="rId1"/>
          <a:stretch/>
        </p:blipFill>
        <p:spPr>
          <a:xfrm>
            <a:off x="285840" y="0"/>
            <a:ext cx="1714320" cy="331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j0232654"/>
          <p:cNvPicPr/>
          <p:nvPr/>
        </p:nvPicPr>
        <p:blipFill>
          <a:blip r:embed="rId2"/>
          <a:stretch/>
        </p:blipFill>
        <p:spPr>
          <a:xfrm>
            <a:off x="6000840" y="2732040"/>
            <a:ext cx="2573280" cy="38401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1857240" y="357120"/>
            <a:ext cx="6553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Вывод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изнь так прекрасна, что укорачивать её что-то не хоч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урение влияет на наше здоровье и учеб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бята, давайте отбросим эту вредную привычку, кто её успел приобре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1116000" y="3357720"/>
            <a:ext cx="467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 вас сложилось убеждень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то зря шумят про вред курен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л, дед ваш прожил девянос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сю жизнь курил, питался прос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 был всегда как дуб зд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 прожил жизнь без док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первый взгляд все это т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о если б старец не курил таба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о можно было бы руч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то жил ваш дед еще лет двадц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0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13840" y="213840"/>
            <a:ext cx="5357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вое имя - сигар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ы красива, ты си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ы знакома с целым свет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чень многим ты нуж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зг и сердце ты дурманиш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лодым и стари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омни: человек не слаб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жден свободным. Он не ра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егодня вечером, как ляжем сп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ы должен так себе сказ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Я выбрал сам себе дорогу к св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, презирая сигарет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стану ни за что ку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Я - человек! Я должен жить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J0178632"/>
          <p:cNvPicPr/>
          <p:nvPr/>
        </p:nvPicPr>
        <p:blipFill>
          <a:blip r:embed="rId1"/>
          <a:stretch/>
        </p:blipFill>
        <p:spPr>
          <a:xfrm>
            <a:off x="5764320" y="3786120"/>
            <a:ext cx="3076560" cy="283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000"/>
                            </p:stCondLst>
                            <p:childTnLst>
                              <p:par>
                                <p:cTn id="7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7000"/>
                            </p:stCondLst>
                            <p:childTnLst>
                              <p:par>
                                <p:cTn id="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00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900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28548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формировать ценное отношение к своему здоровь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знакомить с влиянием курения на здоровье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знакомить со способами отказа от кур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D:\школьные работы\классный час\для презентаций\sexy(1).jpg"/>
          <p:cNvPicPr/>
          <p:nvPr/>
        </p:nvPicPr>
        <p:blipFill>
          <a:blip r:embed="rId2"/>
          <a:stretch/>
        </p:blipFill>
        <p:spPr>
          <a:xfrm>
            <a:off x="5572080" y="328608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омочь детям развивать в себе привычку к здоровому и творческому образу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ыработать умение правильно делать обоснованные вы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онцу занятия учащиеся должн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ладеть информацией о вреде кур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Быть убежденными,   что  отказ от курения  – более предпочтитель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6"/>
          <p:cNvSpPr/>
          <p:nvPr/>
        </p:nvSpPr>
        <p:spPr>
          <a:xfrm>
            <a:off x="4140360" y="170028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4143240" y="435780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бак приносит вред тел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ушает раз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упляет целые н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.  Бальз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школьные работы\классный час\курение\картинки\19040.jpg"/>
          <p:cNvPicPr/>
          <p:nvPr/>
        </p:nvPicPr>
        <p:blipFill>
          <a:blip r:embed="rId1"/>
          <a:srcRect l="4128" t="4006" r="5174" b="6008"/>
          <a:stretch/>
        </p:blipFill>
        <p:spPr>
          <a:xfrm>
            <a:off x="285840" y="357120"/>
            <a:ext cx="3786120" cy="3872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85840" y="1214280"/>
            <a:ext cx="85723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Активное  курение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вредная привычка по вдыханию дыма горящих сигарет, сигар, папи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Пассивное курение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вдыхание некурящими людьми табачного дыма, содержащегося в воздух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и курении образуется  два потока ды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новной (при активном курении), который попадает  в легкие того, кто кури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бочный (при пассивном курении), который попадает в окружающий возду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ассивное курение так же  вредно для здоровья, как и активное курение, – разница только в интенсивности воздейств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1731960" y="324000"/>
            <a:ext cx="5315040" cy="1223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8400" y="1071720"/>
            <a:ext cx="8358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еские (ядовитые)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кись углерода, окись азота, аммиак, никотин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ные (провоцирующие развитие опухолей)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альдегид, бензо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специфические канцероген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итрозамины, соединения никеля, соединения кадмия, соединения полония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Прямоугольник 4" descr=""/>
          <p:cNvPicPr/>
          <p:nvPr/>
        </p:nvPicPr>
        <p:blipFill>
          <a:blip r:embed="rId1"/>
          <a:stretch/>
        </p:blipFill>
        <p:spPr>
          <a:xfrm>
            <a:off x="341280" y="195120"/>
            <a:ext cx="8656560" cy="107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D:\школьные работы\классный час\для презентаций\17939.jpg"/>
          <p:cNvPicPr/>
          <p:nvPr/>
        </p:nvPicPr>
        <p:blipFill>
          <a:blip r:embed="rId2"/>
          <a:stretch/>
        </p:blipFill>
        <p:spPr>
          <a:xfrm>
            <a:off x="4572000" y="3686040"/>
            <a:ext cx="4317840" cy="3022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{4CCEB5F7-E7D0-44A2-B1F4-2F4898BBE422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00040" y="164268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газообразная (содержит никотин, который поражает сосуды сердца, мозга, печени, желудка, вследствие чего нарушается функция каждого из названных орган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твердая  (содержит смолы, которые воздействуют на все органы, вызывая в т. ч. и рак легких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Прямоугольник 5" descr=""/>
          <p:cNvPicPr/>
          <p:nvPr/>
        </p:nvPicPr>
        <p:blipFill>
          <a:blip r:embed="rId1"/>
          <a:stretch/>
        </p:blipFill>
        <p:spPr>
          <a:xfrm>
            <a:off x="1328760" y="195120"/>
            <a:ext cx="6437160" cy="156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D:\школьные работы\классный час\для презентаций\23жжж.gif"/>
          <p:cNvPicPr/>
          <p:nvPr/>
        </p:nvPicPr>
        <p:blipFill>
          <a:blip r:embed="rId2"/>
          <a:stretch/>
        </p:blipFill>
        <p:spPr>
          <a:xfrm>
            <a:off x="7072200" y="4000680"/>
            <a:ext cx="1785960" cy="178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16:24Z</dcterms:created>
  <dc:creator>жежик</dc:creator>
  <dc:description/>
  <dc:language>en-US</dc:language>
  <cp:lastModifiedBy>1</cp:lastModifiedBy>
  <dcterms:modified xsi:type="dcterms:W3CDTF">2012-12-21T18:50:36Z</dcterms:modified>
  <cp:revision>119</cp:revision>
  <dc:subject/>
  <dc:title>Слайд 1</dc:title>
</cp:coreProperties>
</file>