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7.wmf" ContentType="image/x-wmf"/>
  <Override PartName="/ppt/media/image26.wmf" ContentType="image/x-wmf"/>
  <Override PartName="/ppt/media/image20.gif" ContentType="image/gif"/>
  <Override PartName="/ppt/media/image13.png" ContentType="image/png"/>
  <Override PartName="/ppt/media/image18.png" ContentType="image/png"/>
  <Override PartName="/ppt/media/image6.jpeg" ContentType="image/jpeg"/>
  <Override PartName="/ppt/media/image21.png" ContentType="image/png"/>
  <Override PartName="/ppt/media/image9.jpeg" ContentType="image/jpeg"/>
  <Override PartName="/ppt/media/image11.png" ContentType="image/png"/>
  <Override PartName="/ppt/media/image15.png" ContentType="image/png"/>
  <Override PartName="/ppt/media/image24.jpeg" ContentType="image/jpeg"/>
  <Override PartName="/ppt/media/image35.wmf" ContentType="image/x-wmf"/>
  <Override PartName="/ppt/media/image32.png" ContentType="image/png"/>
  <Override PartName="/ppt/media/image22.jpeg" ContentType="image/jpeg"/>
  <Override PartName="/ppt/media/image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4.png" ContentType="image/png"/>
  <Override PartName="/ppt/media/image8.png" ContentType="image/png"/>
  <Override PartName="/ppt/media/image36.wmf" ContentType="image/x-wmf"/>
  <Override PartName="/ppt/media/image28.wmf" ContentType="image/x-wmf"/>
  <Override PartName="/ppt/media/image37.jpeg" ContentType="image/jpeg"/>
  <Override PartName="/ppt/media/image30.png" ContentType="image/png"/>
  <Override PartName="/ppt/media/image5.jpeg" ContentType="image/jpeg"/>
  <Override PartName="/ppt/media/image4.jpeg" ContentType="image/jpeg"/>
  <Override PartName="/ppt/media/image3.png" ContentType="image/png"/>
  <Override PartName="/ppt/media/image12.gif" ContentType="image/gif"/>
  <Override PartName="/ppt/media/image17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31.jpeg" ContentType="image/jpeg"/>
  <Override PartName="/ppt/media/image14.gif" ContentType="image/gif"/>
  <Override PartName="/ppt/media/image16.gif" ContentType="image/gi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0E5-17F8-41B5-9663-09CCB6F2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454-66CD-40B3-8FD1-04FFD488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B93-C36D-4447-B8C9-41BA1371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FEA-2F00-4DEF-A5CA-47D6F645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3B68-51FE-44EA-9CCE-13953AE8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42FE-1BB2-47D4-A939-ADFC6250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1F6F-A7E1-435B-86FE-2ACF330F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7CFD-CDBC-447B-9CB5-3B894F6C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5962-EA3B-4A19-BBF8-72C43950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15CA-7932-4813-ADFF-22B3B885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80F1-14BC-4641-82A1-9C7BFF7E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36D-0A55-4DAB-828A-85E769F1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2BBE-944A-4E3D-AE2E-967CB47B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3A0C-A7EA-40A3-9AC7-5F4937C7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BD76-58BC-4FBB-9352-46478F7E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0D2C-1ADE-4E09-9736-B3AFC77B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B87A-A996-4D71-BF11-BD6F5849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71B-84B7-4AB4-9EE4-E7752838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AA5-CC49-4B96-AE96-A2649168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DA7-9879-441F-AA28-CA45CEC2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F65-44B1-4063-9C5D-CF2048CB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3E5-BD73-4C45-8FC0-DD7E4E8A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C8D4-4D3C-4C8D-8CD0-01914784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EAD-55A8-489F-8707-8A9B33F4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6373-2DDC-426B-893E-3B82F117D4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02D9-A99F-4BCC-9C38-350CC80D46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4280" y="2214360"/>
            <a:ext cx="763128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воё здоровье и кур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из  серии классных часов «Твоё здоровье и …»)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ный час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- 9 клас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11280" y="551664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: Ткачева Наталья Иван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1285920" y="35712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я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иллер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760" y="15717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спортятся зубы, кожа, потускнеют волосы, появится неприятный запах изо рта, разовьются различные заболевания желудка, сердца, легких (например, появится отдышк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Прямоугольник 3" descr=""/>
          <p:cNvPicPr/>
          <p:nvPr/>
        </p:nvPicPr>
        <p:blipFill>
          <a:blip r:embed="rId1"/>
          <a:stretch/>
        </p:blipFill>
        <p:spPr>
          <a:xfrm>
            <a:off x="914400" y="195120"/>
            <a:ext cx="7675560" cy="156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школьные работы\классный час\для презентаций\brain.gif"/>
          <p:cNvPicPr/>
          <p:nvPr/>
        </p:nvPicPr>
        <p:blipFill>
          <a:blip r:embed="rId2"/>
          <a:stretch/>
        </p:blipFill>
        <p:spPr>
          <a:xfrm>
            <a:off x="214200" y="3214800"/>
            <a:ext cx="2727360" cy="27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школьные работы\классный час\для презентаций\caries.gif"/>
          <p:cNvPicPr/>
          <p:nvPr/>
        </p:nvPicPr>
        <p:blipFill>
          <a:blip r:embed="rId3"/>
          <a:stretch/>
        </p:blipFill>
        <p:spPr>
          <a:xfrm>
            <a:off x="6286680" y="4564080"/>
            <a:ext cx="2666880" cy="207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D:\школьные работы\классный час\для презентаций\101.gif"/>
          <p:cNvPicPr/>
          <p:nvPr/>
        </p:nvPicPr>
        <p:blipFill>
          <a:blip r:embed="rId4"/>
          <a:stretch/>
        </p:blipFill>
        <p:spPr>
          <a:xfrm>
            <a:off x="3143160" y="378612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D:\школьные работы\классный час\сканирование0002.jpg"/>
          <p:cNvPicPr/>
          <p:nvPr/>
        </p:nvPicPr>
        <p:blipFill>
          <a:blip r:embed="rId1"/>
          <a:stretch/>
        </p:blipFill>
        <p:spPr>
          <a:xfrm>
            <a:off x="1785960" y="357120"/>
            <a:ext cx="5857920" cy="634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3"/>
          <p:cNvGraphicFramePr/>
          <p:nvPr/>
        </p:nvGraphicFramePr>
        <p:xfrm>
          <a:off x="0" y="0"/>
          <a:ext cx="609588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0958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4"/>
          <p:cNvGraphicFramePr/>
          <p:nvPr/>
        </p:nvGraphicFramePr>
        <p:xfrm>
          <a:off x="3643200" y="3573360"/>
          <a:ext cx="5500800" cy="328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3573360"/>
                    <a:ext cx="550080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4" descr="D:\школьные работы\классный час\для презентаций\symb04.gif"/>
          <p:cNvPicPr/>
          <p:nvPr/>
        </p:nvPicPr>
        <p:blipFill>
          <a:blip r:embed="rId5"/>
          <a:stretch/>
        </p:blipFill>
        <p:spPr>
          <a:xfrm>
            <a:off x="500040" y="3929040"/>
            <a:ext cx="250020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кание к табачному дыму происходит следующим образ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ая стад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чало становления табачной зависим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а связа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тремлением получить удовольствие и снять неприятные пережи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пытств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ние сказать «НЕ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Прямоугольник 3" descr=""/>
          <p:cNvPicPr/>
          <p:nvPr/>
        </p:nvPicPr>
        <p:blipFill>
          <a:blip r:embed="rId1"/>
          <a:stretch/>
        </p:blipFill>
        <p:spPr>
          <a:xfrm>
            <a:off x="1547640" y="195120"/>
            <a:ext cx="6632640" cy="156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школьные работы\классный час\для презентаций\WEB42.jpg"/>
          <p:cNvPicPr/>
          <p:nvPr/>
        </p:nvPicPr>
        <p:blipFill>
          <a:blip r:embed="rId2"/>
          <a:stretch/>
        </p:blipFill>
        <p:spPr>
          <a:xfrm>
            <a:off x="6000840" y="3895560"/>
            <a:ext cx="2928960" cy="273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42876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торая  стад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становление табачной зависим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а характеризуе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ом разумных оправданий куре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ем симптомов заболеваний (кашель, одышка), связанных с курением (бронхит и др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ом сна, настро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D:\школьные работы\классный час\для презентаций\18330.jpg"/>
          <p:cNvPicPr/>
          <p:nvPr/>
        </p:nvPicPr>
        <p:blipFill>
          <a:blip r:embed="rId1"/>
          <a:stretch/>
        </p:blipFill>
        <p:spPr>
          <a:xfrm>
            <a:off x="5572080" y="2595600"/>
            <a:ext cx="3282840" cy="4048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28760" y="214200"/>
            <a:ext cx="822960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тья стад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тойкая табачная зависим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е  характеризу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о выраженная тяга к куре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е курение (через равные промежутки времен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 утром натоща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D:\школьные работы\классный час\для презентаций\WEB22.jpg"/>
          <p:cNvPicPr/>
          <p:nvPr/>
        </p:nvPicPr>
        <p:blipFill>
          <a:blip r:embed="rId1"/>
          <a:stretch/>
        </p:blipFill>
        <p:spPr>
          <a:xfrm>
            <a:off x="4429080" y="2500200"/>
            <a:ext cx="4429080" cy="4133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0080" y="1500120"/>
            <a:ext cx="779616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993300"/>
                </a:solidFill>
                <a:latin typeface="Georgia"/>
              </a:rPr>
              <a:t>Курящие люди дольше сохраняют стройную фигуру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ругом полно дымящих толстяк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итупляя сигаретой чувство голода, вы провоцируете развитие гастрита и язвенной болез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Худеть с помощью курения – это все равно что привить себе инфекционную болезнь и “таять на глазах” от н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PE01490_"/>
          <p:cNvPicPr/>
          <p:nvPr/>
        </p:nvPicPr>
        <p:blipFill>
          <a:blip r:embed="rId1"/>
          <a:stretch/>
        </p:blipFill>
        <p:spPr>
          <a:xfrm>
            <a:off x="7929720" y="5143680"/>
            <a:ext cx="1044360" cy="1438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671120" y="357120"/>
            <a:ext cx="632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Georgia"/>
              </a:rPr>
              <a:t>МИФЫ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993300"/>
                </a:solidFill>
                <a:latin typeface="Georgia"/>
              </a:rPr>
              <a:t>Курево успокаивает нервы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омпоненты табака (смолы, никотин, дым и т.д.) не расслабляют, а просто “тормозят” важнейшие участки центральной нервной систем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ивыкнув к сигарете, человек без нее уже расслабиться не мож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Получается замкнутый круг: и возникновение, и прекращение стресса зависят от кур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HM00146_"/>
          <p:cNvPicPr/>
          <p:nvPr/>
        </p:nvPicPr>
        <p:blipFill>
          <a:blip r:embed="rId1"/>
          <a:stretch/>
        </p:blipFill>
        <p:spPr>
          <a:xfrm>
            <a:off x="6786720" y="5000760"/>
            <a:ext cx="2036520" cy="157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993300"/>
                </a:solidFill>
                <a:latin typeface="Georgia"/>
              </a:rPr>
              <a:t>На морозе сигарета согревает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060e"/>
                </a:solidFill>
                <a:latin typeface="Georgia"/>
              </a:rPr>
              <a:t>Табачный дым создает кратковременный согревающий эффект (содержащиеся в нем яды сужают сосуды, увеличивают частоту пульса и повышают кровяное давл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Стоит ли так "“греться"” чтобы получить взамен как минимум гипертонию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HM00144_"/>
          <p:cNvPicPr/>
          <p:nvPr/>
        </p:nvPicPr>
        <p:blipFill>
          <a:blip r:embed="rId1"/>
          <a:stretch/>
        </p:blipFill>
        <p:spPr>
          <a:xfrm>
            <a:off x="3357720" y="4795920"/>
            <a:ext cx="2500200" cy="177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993300"/>
                </a:solidFill>
                <a:latin typeface="Georgia"/>
              </a:rPr>
              <a:t>Сигареты с пометкой “легкие” не так вредны, как обычные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060e"/>
                </a:solidFill>
                <a:latin typeface="Georgia"/>
              </a:rPr>
              <a:t>Постоянно используя легкие сигареты, курильщики затягиваются чаще и глубже, что может привести к заболеванию раком не самих легких, а так называемой  </a:t>
            </a: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легочной периферии</a:t>
            </a:r>
            <a:r>
              <a:rPr b="0" i="1" lang="ru-RU" sz="2400" spc="-1" strike="noStrike">
                <a:solidFill>
                  <a:srgbClr val="20060e"/>
                </a:solidFill>
                <a:latin typeface="Georgia"/>
              </a:rPr>
              <a:t> – альвеол и малых бронх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HH00887_"/>
          <p:cNvPicPr/>
          <p:nvPr/>
        </p:nvPicPr>
        <p:blipFill>
          <a:blip r:embed="rId1"/>
          <a:stretch/>
        </p:blipFill>
        <p:spPr>
          <a:xfrm>
            <a:off x="6786720" y="3214800"/>
            <a:ext cx="2128680" cy="3406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3" descr=""/>
          <p:cNvPicPr/>
          <p:nvPr/>
        </p:nvPicPr>
        <p:blipFill>
          <a:blip r:embed="rId2"/>
          <a:stretch/>
        </p:blipFill>
        <p:spPr>
          <a:xfrm>
            <a:off x="-23760" y="36360"/>
            <a:ext cx="9124920" cy="1067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:\школьные работы\классный час\сканирование0003.jpg"/>
          <p:cNvPicPr/>
          <p:nvPr/>
        </p:nvPicPr>
        <p:blipFill>
          <a:blip r:embed="rId1"/>
          <a:stretch/>
        </p:blipFill>
        <p:spPr>
          <a:xfrm>
            <a:off x="3286080" y="285840"/>
            <a:ext cx="5500800" cy="6342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3840" y="213840"/>
            <a:ext cx="300852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имущества некурения перед  курением таба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2000160"/>
            <a:ext cx="5400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ознание вреда от курения, желание бросить ку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терап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ативная (успокаивающая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ующа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яющая стереоти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Прямоугольник 4" descr=""/>
          <p:cNvPicPr/>
          <p:nvPr/>
        </p:nvPicPr>
        <p:blipFill>
          <a:blip r:embed="rId1"/>
          <a:stretch/>
        </p:blipFill>
        <p:spPr>
          <a:xfrm>
            <a:off x="1481040" y="128520"/>
            <a:ext cx="6334200" cy="2054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D:\школьные работы\классный час\для презентаций\image013.jpg"/>
          <p:cNvPicPr/>
          <p:nvPr/>
        </p:nvPicPr>
        <p:blipFill>
          <a:blip r:embed="rId2"/>
          <a:stretch/>
        </p:blipFill>
        <p:spPr>
          <a:xfrm>
            <a:off x="5786280" y="2595600"/>
            <a:ext cx="3005280" cy="3976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60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7120" y="285840"/>
            <a:ext cx="4500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мещение или компенсация привычки кур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ная терап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генная (самостоятельная) трениров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медикамен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отерап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D:\школьные работы\классный час\для презентаций\opr02A00.gif"/>
          <p:cNvPicPr/>
          <p:nvPr/>
        </p:nvPicPr>
        <p:blipFill>
          <a:blip r:embed="rId1"/>
          <a:stretch/>
        </p:blipFill>
        <p:spPr>
          <a:xfrm>
            <a:off x="4286160" y="755640"/>
            <a:ext cx="4424400" cy="5702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28760" y="356760"/>
            <a:ext cx="49291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работка отвращения  к таба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ерсионная  терап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врача специалиста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медикамен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отерап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D:\школьные работы\классный час\для презентаций\L01p1p09.jpg"/>
          <p:cNvPicPr/>
          <p:nvPr/>
        </p:nvPicPr>
        <p:blipFill>
          <a:blip r:embed="rId1"/>
          <a:stretch/>
        </p:blipFill>
        <p:spPr>
          <a:xfrm>
            <a:off x="3429000" y="2571840"/>
            <a:ext cx="5310360" cy="398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000"/>
                            </p:stCondLst>
                            <p:childTnLst>
                              <p:par>
                                <p:cTn id="6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Борьба с курение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4358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Times New Roman"/>
              </a:rPr>
              <a:t>Англ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ычитают деньги из зарплаты за время, проведенное в курительной комна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Times New Roman"/>
              </a:rPr>
              <a:t>Д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запрещено курить в общественных мест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Times New Roman"/>
              </a:rPr>
              <a:t>Сингапу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курение – 500 долларов штраф. Нет рекламы на табачные издел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Times New Roman"/>
              </a:rPr>
              <a:t>Финлянд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врачи установили 1 день - 17 ноября, когда курильщики приходят на работу без сигар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Times New Roman"/>
              </a:rPr>
              <a:t>Япо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 Ваки – решение: 3 дня в месяц без кур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Times New Roman"/>
              </a:rPr>
              <a:t>Фран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осле антитабачной кампании число курильщиков сократилось более, чем на 2 млн. челов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000"/>
                            </p:stCondLst>
                            <p:childTnLst>
                              <p:par>
                                <p:cTn id="6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600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{42C91DB0-610D-43F3-9F0B-7E963737B087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j0232155"/>
          <p:cNvPicPr/>
          <p:nvPr/>
        </p:nvPicPr>
        <p:blipFill>
          <a:blip r:embed="rId1"/>
          <a:stretch/>
        </p:blipFill>
        <p:spPr>
          <a:xfrm>
            <a:off x="285840" y="0"/>
            <a:ext cx="1714320" cy="3311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j0232654"/>
          <p:cNvPicPr/>
          <p:nvPr/>
        </p:nvPicPr>
        <p:blipFill>
          <a:blip r:embed="rId2"/>
          <a:stretch/>
        </p:blipFill>
        <p:spPr>
          <a:xfrm>
            <a:off x="6000840" y="2732040"/>
            <a:ext cx="2573280" cy="38401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1857240" y="357120"/>
            <a:ext cx="6553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Вывод: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изнь так прекрасна, что укорачивать её что-то не хоч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урение влияет на наше здоровье и учеб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бята, давайте отбросим эту вредную привычку, кто её успел приобре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1116000" y="3357720"/>
            <a:ext cx="4670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 вас сложилось убеждень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то зря шумят про вред курен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ол, дед ваш прожил девянос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сю жизнь курил, питался прос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 был всегда как дуб зд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 прожил жизнь без док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 первый взгляд все это т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о если б старец не курил таба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о можно было бы руча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то жил ваш дед еще лет двадц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00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13840" y="213840"/>
            <a:ext cx="5357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вое имя - сигар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ы красива, ты си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ы знакома с целым свет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чень многим ты нуж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зг и сердце ты дурманиш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лодым и стари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омни: человек не слаб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жден свободным. Он не ра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егодня вечером, как ляжем сп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ы должен так себе сказ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Я выбрал сам себе дорогу к св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, презирая сигарет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стану ни за что ку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Я - человек! Я должен жить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J0178632"/>
          <p:cNvPicPr/>
          <p:nvPr/>
        </p:nvPicPr>
        <p:blipFill>
          <a:blip r:embed="rId1"/>
          <a:stretch/>
        </p:blipFill>
        <p:spPr>
          <a:xfrm>
            <a:off x="5764320" y="3786120"/>
            <a:ext cx="3076560" cy="283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6000"/>
                            </p:stCondLst>
                            <p:childTnLst>
                              <p:par>
                                <p:cTn id="7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7000"/>
                            </p:stCondLst>
                            <p:childTnLst>
                              <p:par>
                                <p:cTn id="7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00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900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28548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формировать ценное отношение к своему здоровь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знакомить с влиянием курения на здоровье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знакомить со способами отказа от кур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D:\школьные работы\классный час\для презентаций\sexy(1).jpg"/>
          <p:cNvPicPr/>
          <p:nvPr/>
        </p:nvPicPr>
        <p:blipFill>
          <a:blip r:embed="rId2"/>
          <a:stretch/>
        </p:blipFill>
        <p:spPr>
          <a:xfrm>
            <a:off x="5572080" y="328608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омочь детям развивать в себе привычку к здоровому и творческому образу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Выработать умение правильно делать обоснованные вы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онцу занятия учащиеся должн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Владеть информацией о вреде кур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Быть убежденными,   что  отказ от курения  – более предпочтитель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6"/>
          <p:cNvSpPr/>
          <p:nvPr/>
        </p:nvSpPr>
        <p:spPr>
          <a:xfrm>
            <a:off x="4140360" y="170028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4143240" y="435780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абак приносит вред тел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ушает разу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упляет целые н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.  Бальз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D:\школьные работы\классный час\курение\картинки\19040.jpg"/>
          <p:cNvPicPr/>
          <p:nvPr/>
        </p:nvPicPr>
        <p:blipFill>
          <a:blip r:embed="rId1"/>
          <a:srcRect l="4128" t="4006" r="5174" b="6008"/>
          <a:stretch/>
        </p:blipFill>
        <p:spPr>
          <a:xfrm>
            <a:off x="285840" y="357120"/>
            <a:ext cx="3786120" cy="3872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85840" y="1214280"/>
            <a:ext cx="85723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Активное  курение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вредная привычка по вдыханию дыма горящих сигарет, сигар, папир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Пассивное курение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вдыхание некурящими людьми табачного дыма, содержащегося в воздух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и курении образуется  два потока дым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сновной (при активном курении), который попадает  в легкие того, кто кури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бочный (при пассивном курении), который попадает в окружающий возду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ассивное курение так же  вредно для здоровья, как и активное курение, – разница только в интенсивности воздейств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1731960" y="324000"/>
            <a:ext cx="5315040" cy="1223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28400" y="1071720"/>
            <a:ext cx="8358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еские (ядовитые)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кись углерода, окись азота, аммиак, никотин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рогенные (провоцирующие развитие опухолей)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альдегид, бензо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специфические канцерогенн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итрозамины, соединения никеля, соединения кадмия, соединения полония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Прямоугольник 4" descr=""/>
          <p:cNvPicPr/>
          <p:nvPr/>
        </p:nvPicPr>
        <p:blipFill>
          <a:blip r:embed="rId1"/>
          <a:stretch/>
        </p:blipFill>
        <p:spPr>
          <a:xfrm>
            <a:off x="341280" y="195120"/>
            <a:ext cx="8656560" cy="107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D:\школьные работы\классный час\для презентаций\17939.jpg"/>
          <p:cNvPicPr/>
          <p:nvPr/>
        </p:nvPicPr>
        <p:blipFill>
          <a:blip r:embed="rId2"/>
          <a:stretch/>
        </p:blipFill>
        <p:spPr>
          <a:xfrm>
            <a:off x="4572000" y="3686040"/>
            <a:ext cx="4317840" cy="3022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{4CCEB5F7-E7D0-44A2-B1F4-2F4898BBE422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00040" y="164268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газообразная (содержит никотин, который поражает сосуды сердца, мозга, печени, желудка, вследствие чего нарушается функция каждого из названных орган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твердая  (содержит смолы, которые воздействуют на все органы, вызывая в т. ч. и рак легких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Прямоугольник 5" descr=""/>
          <p:cNvPicPr/>
          <p:nvPr/>
        </p:nvPicPr>
        <p:blipFill>
          <a:blip r:embed="rId1"/>
          <a:stretch/>
        </p:blipFill>
        <p:spPr>
          <a:xfrm>
            <a:off x="1328760" y="195120"/>
            <a:ext cx="6437160" cy="156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D:\школьные работы\классный час\для презентаций\23жжж.gif"/>
          <p:cNvPicPr/>
          <p:nvPr/>
        </p:nvPicPr>
        <p:blipFill>
          <a:blip r:embed="rId2"/>
          <a:stretch/>
        </p:blipFill>
        <p:spPr>
          <a:xfrm>
            <a:off x="7072200" y="4000680"/>
            <a:ext cx="1785960" cy="1785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16:24Z</dcterms:created>
  <dc:creator>жежик</dc:creator>
  <dc:description/>
  <dc:language>en-US</dc:language>
  <cp:lastModifiedBy>1</cp:lastModifiedBy>
  <dcterms:modified xsi:type="dcterms:W3CDTF">2012-12-21T18:50:36Z</dcterms:modified>
  <cp:revision>119</cp:revision>
  <dc:subject/>
  <dc:title>Слайд 1</dc:title>
</cp:coreProperties>
</file>