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FB2-EF71-4D93-8081-43186AC6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F9B-2D73-41D8-829D-3E6E699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BA8-BB36-422D-9791-BB3DE940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921-4B2A-4C9F-93CC-D46E6B2D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731-8DB3-4EF4-A0EF-4CA81E3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482-AA63-4E8C-B010-64D7681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AF9-E022-48A8-BCE2-B5FE72D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CC6-0E43-488C-8654-72CF88E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825-3FC2-4EA6-BBF4-B5C9A8E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4E2-C6B7-434D-8305-2F2440B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190-A009-4FFE-AA61-09CBD0E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989-11DD-4205-9FD1-B7EF1F6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3139-0A7A-434D-8678-67ABABA91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77;&#1088;&#1073;%20-%20&#1101;&#1090;&#1086;%20&#1075;&#1083;&#1072;&#1074;&#1085;&#1099;&#1081;%20&#1089;&#1080;&#1084;&#1074;&#1086;&#1083;%20&#1083;&#1102;&#1073;&#1086;&#1075;&#1086;%20&#1075;&#1086;&#1089;&#1091;&#1076;&#1072;&#1088;&#1089;&#1090;&#1074;&#1072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Государственные символы </a:t>
            </a:r>
            <a:br>
              <a:rPr sz="6600"/>
            </a:b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62643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755964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ана наша огромна. Она протянулась далеко с запада на восток и с севера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у каждого государства, у России есть св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ерб, флаг, гимн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43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40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987640" cy="24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305928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Герб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01920"/>
            <a:ext cx="8424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Государственный 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84280"/>
            <a:ext cx="75549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41:44Z</dcterms:created>
  <dc:creator>Dan</dc:creator>
  <dc:description/>
  <dc:language>en-US</dc:language>
  <cp:lastModifiedBy>Славик</cp:lastModifiedBy>
  <dcterms:modified xsi:type="dcterms:W3CDTF">2012-12-17T14:19:19Z</dcterms:modified>
  <cp:revision>24</cp:revision>
  <dc:subject/>
  <dc:title>Государственная символика  РОССИИ</dc:title>
</cp:coreProperties>
</file>