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07-757C-4E80-A010-64FAB4D3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CC9-5A2C-4FF4-A23F-25361DD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992-2170-4741-9103-BAF2098F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91F-2B2C-47AE-8BB0-8E023428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9E3-07AB-43E2-A255-206B519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8E6-4586-403F-8AAB-5E8E967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781-2358-4B4B-AADB-08939C0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BC9-9031-4E19-8135-3771A76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B19-7EEC-4BC7-A109-F06EEE4F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7F2-F787-4B13-9221-78E9B89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7B5-65D9-4A85-BF1F-0B66848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49F-4E91-4357-850C-7521C88C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137-286D-48C4-AF54-9FC87835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77;&#1088;&#1073;%20-%20&#1101;&#1090;&#1086;%20&#1075;&#1083;&#1072;&#1074;&#1085;&#1099;&#1081;%20&#1089;&#1080;&#1084;&#1074;&#1086;&#1083;%20&#1083;&#1102;&#1073;&#1086;&#1075;&#1086;%20&#1075;&#1086;&#1089;&#1091;&#1076;&#1072;&#1088;&#1089;&#1090;&#1074;&#1072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Государственные символы </a:t>
            </a:r>
            <a:br>
              <a:rPr sz="6600"/>
            </a:b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62643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755964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ана наша огромна. Она протянулась далеко с запада на восток и с севера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у каждого государства, у России есть св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ерб, флаг, гимн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43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40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987640" cy="24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305928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Герб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01920"/>
            <a:ext cx="8424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Государственный 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84280"/>
            <a:ext cx="75549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41:44Z</dcterms:created>
  <dc:creator>Dan</dc:creator>
  <dc:description/>
  <dc:language>en-US</dc:language>
  <cp:lastModifiedBy>Славик</cp:lastModifiedBy>
  <dcterms:modified xsi:type="dcterms:W3CDTF">2012-12-17T14:19:19Z</dcterms:modified>
  <cp:revision>24</cp:revision>
  <dc:subject/>
  <dc:title>Государственная символика  РОССИИ</dc:title>
</cp:coreProperties>
</file>