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233-3B01-4FD4-8B47-853ED16A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1B11-40EE-4AB5-AC20-8A416119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B18-D5A6-431D-B018-B3AEA2E6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8E1-82E3-4E49-A314-B091A48D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468-4BB1-4EA2-A875-46552D64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80F-CBCE-4A00-AA65-64838AB8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61EA-8433-4C3E-ACCD-3DA011E1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949-0A2C-4F57-A081-F3D8239D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181-F56B-490F-B1F6-8B075275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E143-EEA6-4C51-BA16-59526D5B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4FE-19C8-4B10-B2D1-17D990D2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30D-8DA2-4A47-A75B-70088233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7D77-6456-4AF1-82D6-539339E0A04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46c0a"/>
                </a:solidFill>
                <a:latin typeface="Monotype Corsiva"/>
              </a:rPr>
              <a:t>Презентация </a:t>
            </a:r>
            <a:br>
              <a:rPr sz="5400"/>
            </a:br>
            <a:r>
              <a:rPr b="0" lang="ru-RU" sz="5400" spc="-1" strike="noStrike">
                <a:solidFill>
                  <a:srgbClr val="e46c0a"/>
                </a:solidFill>
                <a:latin typeface="Monotype Corsiva"/>
              </a:rPr>
              <a:t>на тему: </a:t>
            </a:r>
            <a:br>
              <a:rPr sz="5400"/>
            </a:br>
            <a:r>
              <a:rPr b="0" lang="ru-RU" sz="5400" spc="-1" strike="noStrike" u="sng">
                <a:solidFill>
                  <a:srgbClr val="e46c0a"/>
                </a:solidFill>
                <a:uFillTx/>
                <a:latin typeface="Monotype Corsiva"/>
              </a:rPr>
              <a:t>Виктор Гюго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Выполнила: Назаров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Диана 8 класс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42880" y="274680"/>
            <a:ext cx="454356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В возрасте 75-ти лет Виктор Гюго издал не только вторую часть «Легенды веков», но и сборник «Искусство быть дедом», на создание которого его вдохновили внуки Жорж и Анна. Заключительная часть «Легенды веков» вышла в 1883. В том же году Жюльетта Друэ умерла от рака, и эта утрата подкосила силы Гюго.</a:t>
            </a:r>
            <a:br>
              <a:rPr sz="2400"/>
            </a:b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 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Рисунок 2" descr="счсч.jpeg"/>
          <p:cNvPicPr/>
          <p:nvPr/>
        </p:nvPicPr>
        <p:blipFill>
          <a:blip r:embed="rId1"/>
          <a:stretch/>
        </p:blipFill>
        <p:spPr>
          <a:xfrm>
            <a:off x="428760" y="1143000"/>
            <a:ext cx="32860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После смерти Виктор Гюго удостоился государственных похорон, и его останки были помещены в Пантеон — рядом с Вольтером и Русс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Рисунок 2" descr="вку4.jpeg"/>
          <p:cNvPicPr/>
          <p:nvPr/>
        </p:nvPicPr>
        <p:blipFill>
          <a:blip r:embed="rId1"/>
          <a:stretch/>
        </p:blipFill>
        <p:spPr>
          <a:xfrm>
            <a:off x="1357200" y="2428920"/>
            <a:ext cx="2500560" cy="33195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ммс.jpeg"/>
          <p:cNvPicPr/>
          <p:nvPr/>
        </p:nvPicPr>
        <p:blipFill>
          <a:blip r:embed="rId2"/>
          <a:stretch/>
        </p:blipFill>
        <p:spPr>
          <a:xfrm>
            <a:off x="5429160" y="2428920"/>
            <a:ext cx="2511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Могила Гюго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Рисунок 2" descr="чччч.jpeg"/>
          <p:cNvPicPr/>
          <p:nvPr/>
        </p:nvPicPr>
        <p:blipFill>
          <a:blip r:embed="rId1"/>
          <a:stretch/>
        </p:blipFill>
        <p:spPr>
          <a:xfrm>
            <a:off x="2857680" y="1857240"/>
            <a:ext cx="32860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Monotype Corsiva"/>
              </a:rPr>
              <a:t>Виктор Гюго </a:t>
            </a:r>
            <a:br>
              <a:rPr sz="4400"/>
            </a:br>
            <a:r>
              <a:rPr b="0" lang="ru-RU" sz="4400" spc="-1" strike="noStrike">
                <a:solidFill>
                  <a:srgbClr val="984807"/>
                </a:solidFill>
                <a:latin typeface="Monotype Corsiva"/>
              </a:rPr>
              <a:t>26 февраля 1802-22 мая 188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Рисунок 2" descr="1235721116c936.jpg"/>
          <p:cNvPicPr/>
          <p:nvPr/>
        </p:nvPicPr>
        <p:blipFill>
          <a:blip r:embed="rId1"/>
          <a:stretch/>
        </p:blipFill>
        <p:spPr>
          <a:xfrm>
            <a:off x="2928960" y="2143080"/>
            <a:ext cx="350028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5072040" cy="700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Виктор воспитывался под сильным влиянием матери, чьи роялистские и вольтерианские взгляды наложили на него глубокий отпечаток. Отец сумел завоевать любовь и восхищение сына после смерти своей жены в 1821. В течение долгого времени образование Гюго было бессистемным. Лишь в 1814 он поступил в пансион Кордье, откуда перешел в лицей Людовика Великого. По окончании лицея Виктор Гюго вместе со своими братьями предпринял издание двухнедельного журнала «Консерватер литерер», где опубликовал свои ранние стихи и первую версию мелодраматического романа «Бюг Жаргаль» (1821). Он увлекся подругой детских лет Адель Фуше, но встретился с решительным неодобрением матери, и только после ее смерти отец позволил влюбленным встречаться</a:t>
            </a: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. 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Рисунок 2" descr="gjugo-viktor.jpg"/>
          <p:cNvPicPr/>
          <p:nvPr/>
        </p:nvPicPr>
        <p:blipFill>
          <a:blip r:embed="rId1"/>
          <a:stretch/>
        </p:blipFill>
        <p:spPr>
          <a:xfrm>
            <a:off x="5429160" y="1285920"/>
            <a:ext cx="32083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442908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Первый сборник молодого поэта «Оды и разные стихотворения» (1822) снискал одобрение короля Людовика XVIII: Виктор Гюго был награжден ежегодной рентой в 1200 франков, что позволило ему жениться на Адель. В 1823 он издал свой второй роман «Ган Исландец», написанный в русле « готической» традиции. Это означало сближение с романтизмом, что отразилось и в литературных связях: друзьями Гюго стали Альфред де Виньи, Шарль Нодье, Эмиль Дешан и Альфонс де Ламартин. Вскоре они образовали группу Сенакль при журнале «Мюз франсез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Рисунок 2" descr="сссссс.jpeg"/>
          <p:cNvPicPr/>
          <p:nvPr/>
        </p:nvPicPr>
        <p:blipFill>
          <a:blip r:embed="rId1"/>
          <a:stretch/>
        </p:blipFill>
        <p:spPr>
          <a:xfrm>
            <a:off x="5214960" y="1214280"/>
            <a:ext cx="30002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14880" y="274680"/>
            <a:ext cx="447192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В 1827 Виктор Гюго выпустил пьесу «Кромвель», которая оказалась слишком длинной для постановки на сцене, однако ее знаменитое «Предисловие» стало кульминацией всех кипевших во Франции споров.  «Последний день осужденного» (1829) и поэтический сборник «Восточные мотивы» (1829) принесли Гюго громадную славу.принципах драматического искусств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2" descr="12357211173aac.jpg"/>
          <p:cNvPicPr/>
          <p:nvPr/>
        </p:nvPicPr>
        <p:blipFill>
          <a:blip r:embed="rId1"/>
          <a:stretch/>
        </p:blipFill>
        <p:spPr>
          <a:xfrm>
            <a:off x="285840" y="714240"/>
            <a:ext cx="3674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1484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Период с 1829 по 1843 год оказался для Гюго в высшей степени продуктивным. В 1829 появилась пьеса «Марион Делорм», запрещенная цензурой из-за нелестного изображения Людовика XIII. Меньше чем за месяц Виктор Гюго написал свою вторую драму — «Эрнани». За скандальной постановкой 25 февраля 1830 последовали другие, столь же шумные</a:t>
            </a: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Рисунок 2" descr="hugo_19870_s.jpg"/>
          <p:cNvPicPr/>
          <p:nvPr/>
        </p:nvPicPr>
        <p:blipFill>
          <a:blip r:embed="rId1"/>
          <a:stretch/>
        </p:blipFill>
        <p:spPr>
          <a:xfrm>
            <a:off x="5357880" y="571680"/>
            <a:ext cx="2690640" cy="2690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ек.jpeg"/>
          <p:cNvPicPr/>
          <p:nvPr/>
        </p:nvPicPr>
        <p:blipFill>
          <a:blip r:embed="rId2"/>
          <a:stretch/>
        </p:blipFill>
        <p:spPr>
          <a:xfrm>
            <a:off x="5286240" y="3714840"/>
            <a:ext cx="31942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71960" y="285840"/>
            <a:ext cx="4929120" cy="62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Сборники лирических стихотворений Виктора Гюго — «Осенние листья» (1831), «Песни сумерек» (1835), «Внутренние голоса» (1837), «Лучи и тени» (1840) — возникли в значительной мере благодаря личным переживаниям. В это время в жизни Гюго произошли важные события: Сент-Бев влюбился в его жену, а сам он проникся страстью к актрисе Жюльетте Друэ. В 1841 литературные заслуги Гюго получают, наконец, признание Французской Академии, куда его избирают после нескольких неудачных попыток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Рисунок 2" descr="ку4.jpeg"/>
          <p:cNvPicPr/>
          <p:nvPr/>
        </p:nvPicPr>
        <p:blipFill>
          <a:blip r:embed="rId1"/>
          <a:stretch/>
        </p:blipFill>
        <p:spPr>
          <a:xfrm>
            <a:off x="642960" y="571680"/>
            <a:ext cx="1546200" cy="2412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у333.jpeg"/>
          <p:cNvPicPr/>
          <p:nvPr/>
        </p:nvPicPr>
        <p:blipFill>
          <a:blip r:embed="rId2"/>
          <a:stretch/>
        </p:blipFill>
        <p:spPr>
          <a:xfrm>
            <a:off x="1214280" y="3571920"/>
            <a:ext cx="263376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75776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После крушения режима Наполеона III в 1870 году, в самом начале Франко-прусской войны, Виктор Гюго возвращается в Париж в сопровождении верной Жюльетты. В течение многих лет он воплощал оппозицию империи и превратился в живой символ республики. Наградой ему стала оглушительно торжественная встреча. Имея возможность покинуть столицу перед наступлением вражеских войск, он предпочел остаться в осажденном городе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Рисунок 2" descr="кк.jpeg"/>
          <p:cNvPicPr/>
          <p:nvPr/>
        </p:nvPicPr>
        <p:blipFill>
          <a:blip r:embed="rId1"/>
          <a:stretch/>
        </p:blipFill>
        <p:spPr>
          <a:xfrm>
            <a:off x="5500800" y="1357200"/>
            <a:ext cx="24825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75776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В 1874 Гюго, совершенно равнодушный к новым веяниям в прозе, вновь обратился к историческому роману, написав «Девяносто третий год». Несмотря на множество точных сведений о революционной Франции, в романе вновь торжествует романтическая символизация: один из героев воплощает беспощадность к контрреволюционерам, а второй — милосердие, которое превыше всех гражданских раздоров; революцию же писатель именует «очистительным горнилом», где ростки новой цивилизации пробиваются сквозь хаос и мрак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Рисунок 2" descr="уу.jpeg"/>
          <p:cNvPicPr/>
          <p:nvPr/>
        </p:nvPicPr>
        <p:blipFill>
          <a:blip r:embed="rId1"/>
          <a:stretch/>
        </p:blipFill>
        <p:spPr>
          <a:xfrm>
            <a:off x="5572080" y="1643040"/>
            <a:ext cx="26352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4:05:31Z</dcterms:created>
  <dc:creator>Ольга</dc:creator>
  <dc:description/>
  <dc:language>en-US</dc:language>
  <cp:lastModifiedBy>Diana</cp:lastModifiedBy>
  <dcterms:modified xsi:type="dcterms:W3CDTF">2012-11-20T10:00:25Z</dcterms:modified>
  <cp:revision>7</cp:revision>
  <dc:subject/>
  <dc:title>Презентация по МХК  на тему:  Виктор Гюго </dc:title>
</cp:coreProperties>
</file>