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87B-4EE6-47DD-9779-55030275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2DD-7DB4-4E1A-9466-9CE4A2CA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5EF6-7A93-47A5-884D-C1253701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12E-5D84-4BCB-8D0D-13575451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3428-ABF1-400B-B94E-C56486A3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04C6-0F8D-47C8-AF25-735939C0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59FA-30A7-46E1-81A8-F4242AA2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7A4C-FD64-4374-95FB-3284E56C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A58A-2B4A-4035-A85B-4345F55F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76F8-3080-4367-967B-46E80C02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DB2A-33C6-4C6A-B00C-71382477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742-D10B-4DFE-BA2E-10387056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512E-AD94-4646-8A1A-EF89D5A5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9CE3-1B61-415A-983A-051F8782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6170-6BAB-4767-A130-E5178AF6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241C-0235-4A38-A0A9-59CE8D62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97C6-6AF2-41CB-B6A7-31587997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FC4-FD9E-4224-8E21-6174FD9F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3299-001C-484D-82A8-205ACCE0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89A-7A85-4AFC-9848-F31D6381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7975-3879-4CA8-8B65-133A5BEA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C7C-F2A5-4ACE-9259-8642B40D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E6A-39CB-4D4F-B897-3888274B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B777-6B4E-41BF-B2AE-47076024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2E25-7AA4-44B0-883A-D214F624082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8BFC-C3C2-4C14-B92B-4E20E659C08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357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c66"/>
                </a:solidFill>
                <a:latin typeface="Arial"/>
              </a:rPr>
              <a:t>К О С М О С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571680" y="57168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eeee"/>
                </a:solidFill>
                <a:latin typeface="Arial"/>
              </a:rPr>
              <a:t>  </a:t>
            </a:r>
            <a:r>
              <a:rPr b="1" lang="ru-RU" sz="4400" spc="-1" strike="noStrike">
                <a:solidFill>
                  <a:srgbClr val="eeeeee"/>
                </a:solidFill>
                <a:latin typeface="Arial"/>
              </a:rPr>
              <a:t>Самая большая планета Солнечной систем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4515120" y="3643200"/>
            <a:ext cx="392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b050"/>
                </a:solidFill>
                <a:latin typeface="Arial"/>
              </a:rPr>
              <a:t>Юпитер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Рисунок 4" descr="Юпитер.jpg"/>
          <p:cNvPicPr/>
          <p:nvPr/>
        </p:nvPicPr>
        <p:blipFill>
          <a:blip r:embed="rId1"/>
          <a:srcRect l="5063" t="0" r="24049" b="0"/>
          <a:stretch/>
        </p:blipFill>
        <p:spPr>
          <a:xfrm>
            <a:off x="0" y="1819440"/>
            <a:ext cx="3714840" cy="5038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500040" y="57168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d6ebff"/>
                </a:solidFill>
                <a:latin typeface="Arial"/>
              </a:rPr>
              <a:t>Место Солнечной системы, куда ступала нога челове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1092600" y="3571920"/>
            <a:ext cx="271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c000"/>
                </a:solidFill>
                <a:latin typeface="Arial"/>
              </a:rPr>
              <a:t>Лун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E:\private\ppt\604026.jpg"/>
          <p:cNvPicPr/>
          <p:nvPr/>
        </p:nvPicPr>
        <p:blipFill>
          <a:blip r:embed="rId1"/>
          <a:stretch/>
        </p:blipFill>
        <p:spPr>
          <a:xfrm>
            <a:off x="3929040" y="2786040"/>
            <a:ext cx="4819680" cy="3614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68360" y="100008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dd6ff"/>
                </a:solidFill>
                <a:latin typeface="Arial"/>
              </a:rPr>
              <a:t>  </a:t>
            </a:r>
            <a:r>
              <a:rPr b="1" lang="ru-RU" sz="4400" spc="-1" strike="noStrike">
                <a:solidFill>
                  <a:srgbClr val="add6ff"/>
                </a:solidFill>
                <a:latin typeface="Arial"/>
              </a:rPr>
              <a:t>Какая планета самая яркая из видимых с Земл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732920" y="3857760"/>
            <a:ext cx="368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b0f0"/>
                </a:solidFill>
                <a:latin typeface="Arial"/>
              </a:rPr>
              <a:t>Венер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Рисунок 2" descr="Венера.jpg"/>
          <p:cNvPicPr/>
          <p:nvPr/>
        </p:nvPicPr>
        <p:blipFill>
          <a:blip r:embed="rId1"/>
          <a:stretch/>
        </p:blipFill>
        <p:spPr>
          <a:xfrm>
            <a:off x="857160" y="271476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3" descr="Солнечная система.jpg"/>
          <p:cNvPicPr/>
          <p:nvPr/>
        </p:nvPicPr>
        <p:blipFill>
          <a:blip r:embed="rId1"/>
          <a:srcRect l="0" t="0" r="499" b="12004"/>
          <a:stretch/>
        </p:blipFill>
        <p:spPr>
          <a:xfrm>
            <a:off x="1071720" y="1428840"/>
            <a:ext cx="7072200" cy="4690800"/>
          </a:xfrm>
          <a:prstGeom prst="rect">
            <a:avLst/>
          </a:prstGeom>
          <a:ln w="0">
            <a:noFill/>
          </a:ln>
        </p:spPr>
      </p:pic>
      <p:pic>
        <p:nvPicPr>
          <p:cNvPr id="129" name="1.mp3" descr=""/>
          <p:cNvPicPr/>
          <p:nvPr/>
        </p:nvPicPr>
        <p:blipFill>
          <a:blip r:embed="rId2"/>
          <a:stretch/>
        </p:blipFill>
        <p:spPr>
          <a:xfrm>
            <a:off x="35712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9651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2556000" y="1773360"/>
            <a:ext cx="4825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84776"/>
                    </a:gs>
                    <a:gs pos="50000">
                      <a:srgbClr val="3399ff"/>
                    </a:gs>
                    <a:gs pos="100000">
                      <a:srgbClr val="184776"/>
                    </a:gs>
                  </a:gsLst>
                  <a:lin ang="5400000"/>
                </a:gradFill>
                <a:latin typeface="Impact"/>
              </a:rPr>
              <a:t>    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84776"/>
                  </a:gs>
                  <a:gs pos="50000">
                    <a:srgbClr val="3399ff"/>
                  </a:gs>
                  <a:gs pos="100000">
                    <a:srgbClr val="184776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642960" y="6429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искусственный спутник Зем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утник-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 октября 1957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Content Placeholder 3" descr="Sputnik-1.jpg"/>
          <p:cNvPicPr/>
          <p:nvPr/>
        </p:nvPicPr>
        <p:blipFill>
          <a:blip r:embed="rId1"/>
          <a:srcRect l="-4937" t="0" r="-4937" b="0"/>
          <a:stretch/>
        </p:blipFill>
        <p:spPr>
          <a:xfrm>
            <a:off x="3225960" y="2230560"/>
            <a:ext cx="5665680" cy="422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4"/>
          <p:cNvSpPr/>
          <p:nvPr/>
        </p:nvSpPr>
        <p:spPr>
          <a:xfrm>
            <a:off x="785880" y="500040"/>
            <a:ext cx="8001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714240" y="571680"/>
            <a:ext cx="821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июля 1951 г. по сентябрь 1962 г. состоялось 29 «собачьих» полё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Content Placeholder 3" descr="013.jpg"/>
          <p:cNvPicPr/>
          <p:nvPr/>
        </p:nvPicPr>
        <p:blipFill>
          <a:blip r:embed="rId1"/>
          <a:srcRect l="-25223" t="0" r="-25223" b="0"/>
          <a:stretch/>
        </p:blipFill>
        <p:spPr>
          <a:xfrm>
            <a:off x="4143240" y="3500280"/>
            <a:ext cx="5450040" cy="2716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Documents and Settings\Admin\Рабочий стол\belka_strelka_b.jpg"/>
          <p:cNvPicPr/>
          <p:nvPr/>
        </p:nvPicPr>
        <p:blipFill>
          <a:blip r:embed="rId2"/>
          <a:stretch/>
        </p:blipFill>
        <p:spPr>
          <a:xfrm>
            <a:off x="571680" y="1785960"/>
            <a:ext cx="3652560" cy="32148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6510600" y="278604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ай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1081440" y="535788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ка и Стре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4286160" y="214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Content Placeholder 3" descr="0_2916d_35060234_XL.jpg"/>
          <p:cNvPicPr/>
          <p:nvPr/>
        </p:nvPicPr>
        <p:blipFill>
          <a:blip r:embed="rId1"/>
          <a:srcRect l="-53958" t="0" r="-53958" b="0"/>
          <a:stretch/>
        </p:blipFill>
        <p:spPr>
          <a:xfrm>
            <a:off x="4500720" y="2000160"/>
            <a:ext cx="5429160" cy="414504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3"/>
          <p:cNvSpPr/>
          <p:nvPr/>
        </p:nvSpPr>
        <p:spPr>
          <a:xfrm>
            <a:off x="214200" y="35712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Юрий Алексеевич  Гагари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мическом корабл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ток-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12 апреля 1961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ршил первый полёт в Косм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Content Placeholder 3" descr="1961_yuri_gagarin.jpg"/>
          <p:cNvPicPr/>
          <p:nvPr/>
        </p:nvPicPr>
        <p:blipFill>
          <a:blip r:embed="rId2"/>
          <a:srcRect l="-22971" t="0" r="-22971" b="0"/>
          <a:stretch/>
        </p:blipFill>
        <p:spPr>
          <a:xfrm>
            <a:off x="-1143000" y="2000160"/>
            <a:ext cx="7583400" cy="4208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Первая женщина-космонавт</a:t>
            </a:r>
            <a:br>
              <a:rPr sz="2800"/>
            </a:b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Валентина Терешкова</a:t>
            </a:r>
            <a:br>
              <a:rPr sz="2800"/>
            </a:b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16 июня 1963 г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4" name="Content Placeholder 3" descr="valter.jpg"/>
          <p:cNvPicPr/>
          <p:nvPr/>
        </p:nvPicPr>
        <p:blipFill>
          <a:blip r:embed="rId1"/>
          <a:srcRect l="-14637" t="0" r="-14637" b="0"/>
          <a:stretch/>
        </p:blipFill>
        <p:spPr>
          <a:xfrm>
            <a:off x="566640" y="1643040"/>
            <a:ext cx="8367840" cy="464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18 марта 1965 г. первый выход</a:t>
            </a:r>
            <a:br>
              <a:rPr sz="2800"/>
            </a:b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в открытый космос </a:t>
            </a:r>
            <a:br>
              <a:rPr sz="2800"/>
            </a:b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Алексей Леонов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6" name="Content Placeholder 3" descr="028.jpg"/>
          <p:cNvPicPr/>
          <p:nvPr/>
        </p:nvPicPr>
        <p:blipFill>
          <a:blip r:embed="rId1"/>
          <a:srcRect l="-18150" t="0" r="-18150" b="0"/>
          <a:stretch/>
        </p:blipFill>
        <p:spPr>
          <a:xfrm>
            <a:off x="-428760" y="1785960"/>
            <a:ext cx="5278680" cy="29289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5" descr="А.Леонов.jpg"/>
          <p:cNvPicPr/>
          <p:nvPr/>
        </p:nvPicPr>
        <p:blipFill>
          <a:blip r:embed="rId2"/>
          <a:srcRect l="7708" t="0" r="4227" b="0"/>
          <a:stretch/>
        </p:blipFill>
        <p:spPr>
          <a:xfrm>
            <a:off x="4857840" y="1428840"/>
            <a:ext cx="4033800" cy="487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Древний Египе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0" name="Picture 4" descr="390"/>
          <p:cNvPicPr/>
          <p:nvPr/>
        </p:nvPicPr>
        <p:blipFill>
          <a:blip r:embed="rId1"/>
          <a:stretch/>
        </p:blipFill>
        <p:spPr>
          <a:xfrm>
            <a:off x="5143680" y="1857240"/>
            <a:ext cx="3560760" cy="22831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285840" y="164304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антские  каменные пирамид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ревнем Египте возводились с использованием астрономических дан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Американский астронавт Нил Армстронг</a:t>
            </a:r>
            <a:br>
              <a:rPr sz="2800"/>
            </a:b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20 июля 1969г.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9" name="Picture 13" descr="D:\Documents and Settings\witaly\My Documents\Lena\Prezentacii\Moi\Luna\Celovek na Lune_new.jpg"/>
          <p:cNvPicPr/>
          <p:nvPr/>
        </p:nvPicPr>
        <p:blipFill>
          <a:blip r:embed="rId1"/>
          <a:stretch/>
        </p:blipFill>
        <p:spPr>
          <a:xfrm>
            <a:off x="1857240" y="1928880"/>
            <a:ext cx="5599080" cy="4199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Герман  Степанович  Тито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57120" y="1571400"/>
            <a:ext cx="42861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блёр Юрия Гагарина, если бы 12 апреля 1961 г. Гагарин не полетел в космос, полетел бы наш земля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л вторым космонав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2" descr="C:\Documents and Settings\Нагайцевы\Рабочий стол\img386_12851.jpg"/>
          <p:cNvPicPr/>
          <p:nvPr/>
        </p:nvPicPr>
        <p:blipFill>
          <a:blip r:embed="rId1"/>
          <a:stretch/>
        </p:blipFill>
        <p:spPr>
          <a:xfrm>
            <a:off x="4694400" y="1285920"/>
            <a:ext cx="4041720" cy="5145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2143080" y="500040"/>
            <a:ext cx="59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ревний Вавило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4500720" y="1428840"/>
            <a:ext cx="4357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блюдая за движением Солн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небосвод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Древнем Вавилоне разделили окружность на 36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, каждый градус – на 60 минут, каждую минуту – на 60 секунд. Мы и сейчас используем эту систему сч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392"/>
          <p:cNvPicPr/>
          <p:nvPr/>
        </p:nvPicPr>
        <p:blipFill>
          <a:blip r:embed="rId1"/>
          <a:stretch/>
        </p:blipFill>
        <p:spPr>
          <a:xfrm>
            <a:off x="214200" y="1714680"/>
            <a:ext cx="3786480" cy="35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Древний Кита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4" descr="J0309725"/>
          <p:cNvPicPr/>
          <p:nvPr/>
        </p:nvPicPr>
        <p:blipFill>
          <a:blip r:embed="rId1"/>
          <a:stretch/>
        </p:blipFill>
        <p:spPr>
          <a:xfrm>
            <a:off x="285840" y="1571760"/>
            <a:ext cx="3525840" cy="27860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2500200" y="1428840"/>
            <a:ext cx="6500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ая астрономическая обсерватория была оборудована за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110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лет до нашей э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итайские календар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 сих пор поражаю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с своей точ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4572000" y="4762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571680" y="5000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алилео Галиле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 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714240" y="157176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ff"/>
                </a:solidFill>
                <a:latin typeface="Arial"/>
              </a:rPr>
              <a:t>«А, всё-таки, она вертится!»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Луций  Анней  Сен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1 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«Через тернии к звёздам!»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PIA06890"/>
          <p:cNvPicPr/>
          <p:nvPr/>
        </p:nvPicPr>
        <p:blipFill>
          <a:blip r:embed="rId1"/>
          <a:stretch/>
        </p:blipFill>
        <p:spPr>
          <a:xfrm>
            <a:off x="2050920" y="2928960"/>
            <a:ext cx="5220000" cy="3589200"/>
          </a:xfrm>
          <a:prstGeom prst="rect">
            <a:avLst/>
          </a:prstGeom>
          <a:ln w="57240">
            <a:solidFill>
              <a:srgbClr val="ffcc66"/>
            </a:solidFill>
            <a:miter/>
          </a:ln>
        </p:spPr>
      </p:pic>
      <p:sp>
        <p:nvSpPr>
          <p:cNvPr id="112" name="Text Box 8"/>
          <p:cNvSpPr/>
          <p:nvPr/>
        </p:nvSpPr>
        <p:spPr>
          <a:xfrm>
            <a:off x="642960" y="18900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Солнечная система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Солнц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8 планет (одна из которых Земля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спутники плане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множество малых планет (или астероидов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метеориты и кометы, чьи появления непредсказуем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cc66"/>
                </a:solidFill>
                <a:latin typeface="Arial"/>
              </a:rPr>
              <a:t>ПРОВЕРЬ СЕБЯ!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468360" y="100008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ebff"/>
                </a:solidFill>
                <a:latin typeface="Arial"/>
              </a:rPr>
              <a:t>  </a:t>
            </a:r>
            <a:r>
              <a:rPr b="1" lang="ru-RU" sz="4400" spc="-1" strike="noStrike">
                <a:solidFill>
                  <a:srgbClr val="d6ebff"/>
                </a:solidFill>
                <a:latin typeface="Arial"/>
              </a:rPr>
              <a:t>Сколько планет насчитывает Солнечная систем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6434640" y="378612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68360" y="100008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ru-RU" sz="4400" spc="-1" strike="noStrike">
                <a:solidFill>
                  <a:srgbClr val="d6ebff"/>
                </a:solidFill>
                <a:latin typeface="Arial"/>
              </a:rPr>
              <a:t>Самая близкая планета к Солнцу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455040" y="4000680"/>
            <a:ext cx="399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Меркурий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C:\Documents and Settings\Admin\Рабочий стол\f_18844208.jpg"/>
          <p:cNvPicPr/>
          <p:nvPr/>
        </p:nvPicPr>
        <p:blipFill>
          <a:blip r:embed="rId1"/>
          <a:stretch/>
        </p:blipFill>
        <p:spPr>
          <a:xfrm>
            <a:off x="4786200" y="2928960"/>
            <a:ext cx="3971880" cy="297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3:05:22Z</dcterms:created>
  <dc:creator>tan</dc:creator>
  <dc:description/>
  <dc:language>en-US</dc:language>
  <cp:lastModifiedBy>User</cp:lastModifiedBy>
  <dcterms:modified xsi:type="dcterms:W3CDTF">2011-03-15T17:53:11Z</dcterms:modified>
  <cp:revision>34</cp:revision>
  <dc:subject/>
  <dc:title>Планеты Солнечной системы</dc:title>
</cp:coreProperties>
</file>