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276B-C689-4108-ACDC-2090BA86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8D3A-C986-46F0-B0EB-AA9C9760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90F0-519B-4C63-B9F6-BD510046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C552-2150-42B5-A454-C5EB5D56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A790-5445-4A96-A862-B9DE7D09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3A4E-0C4F-42DF-BBD2-B1EF1759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672D-42DB-4E7F-802A-582421C0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959E-26DC-46A8-ACAD-FAE0D6D6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1917-43AE-45F8-A43E-8E538BFA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12F0-8EDE-461D-AA5A-6646CFB4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D617-5226-4965-8770-80FFB091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919A-1C3E-4713-A235-425F6491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F72B-6341-4564-8440-863F94B5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A4C2-5D5E-4877-AF6E-990C10F5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9E50-3353-403B-8DE9-6CA946C7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C5DB-6444-4509-9A08-BE4D3723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243F-20C0-4C18-828C-1A1AA538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691C-0383-4305-B5F6-CC86425D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DD3E-D661-4595-9236-040FAFEB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9899-EC08-4E94-B668-40F6DC60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2C31-6129-499A-ACCB-9D1364CB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560B-34CE-43B0-BCFB-0C0457C3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B696-6D14-4352-B1FD-8AA1129E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C7E0-E596-47B4-8F07-B8418C1C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F943-CA59-4A41-992F-8201AF09DFC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B813-9D07-45A4-BA3A-72EF97501B5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Legal Responsibility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Правовая ответственность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Интегрированный урок обществознания и английского языка в 9 классе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uman  Righ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e right to lif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e right to have a name and a nationality at birth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e right to educ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e right to health and health car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e right to inform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e right to have a rest and leis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e right to priva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e right to labou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e right to social welfare, etc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Responsibility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Responsibility is taking care of your dutie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Responsibility is answering for your action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Responsibility is accountability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Responsibility is trustworthiness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Responsibility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Responsibility is a core value for living honorably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Responsibility is being accountable for your behavior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Responsibility is being dependable when you have things to do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Responsibility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Ideas don't work unless we do.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e You a Responsible Person?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ue/ Fal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 do what needs to be done. 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 am reliable and depend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 am accountable for my actions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 don't make excuses or blame oth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 fulfill my moral obligatio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 use good judgment and think through the consequences of my actions.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I exercise self-control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e You a Responsible Person?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38080" y="2362320"/>
          <a:ext cx="7692840" cy="3721680"/>
        </p:xfrm>
        <a:graphic>
          <a:graphicData uri="http://schemas.openxmlformats.org/drawingml/2006/table">
            <a:tbl>
              <a:tblPr/>
              <a:tblGrid>
                <a:gridCol w="7692840"/>
              </a:tblGrid>
              <a:tr h="3721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6666"/>
                          </a:solidFill>
                          <a:latin typeface="Arial"/>
                          <a:ea typeface="Times New Roman"/>
                        </a:rPr>
                        <a:t>I think I am/am not 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6666"/>
                          </a:solidFill>
                          <a:latin typeface="Arial"/>
                          <a:ea typeface="Times New Roman"/>
                        </a:rPr>
                        <a:t>a responsible person because:  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1:14:31Z</dcterms:created>
  <dc:creator>dron</dc:creator>
  <dc:description/>
  <dc:language>en-US</dc:language>
  <cp:lastModifiedBy>dron</cp:lastModifiedBy>
  <dcterms:modified xsi:type="dcterms:W3CDTF">2011-02-15T11:47:02Z</dcterms:modified>
  <cp:revision>8</cp:revision>
  <dc:subject/>
  <dc:title>Legal Responsibility   Правовая ответственность</dc:title>
</cp:coreProperties>
</file>