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12A-FA25-478B-9332-19ED0AAE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237-150C-47A9-B8E5-13436A0F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BA9-7D86-4E02-A450-333613F7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C13-5988-4381-9292-7E7BEADE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8788-889E-4DB3-ADC6-04234F2E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5D5E-B33B-4F8C-BBEB-E468B2AB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0C5D-76EB-453E-ACEF-646ABE95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444F-2DFB-4AA4-AFD2-EB2AB80C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17E8-792A-4149-9318-6F5E4143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C65E-4CBE-40CE-8253-FAE707F8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14F1-B614-40A3-8807-F7D22A24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456-BBF0-4041-8E14-4E744276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6D5B-E8FE-488F-B7E0-6123717A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1B8B-7652-4EF9-96FE-ECE95845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3753-51EE-4AD0-A53D-935447B5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07F9-A8AA-4CAB-A564-C021BFC7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D119-3024-4598-8FEA-A8AEC1F4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0D2-98BE-4CB3-A841-B4F3A6CB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173-F3D8-460D-B543-FCEAD254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784-0C2D-4816-BAE6-1169F411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A94-8FC0-4E93-85B3-EF5C4F70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ABF-0837-4781-8371-C2079160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52D-D864-48C8-A511-2917341A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DC4-EAB0-4AB7-AB2D-55ADF863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E2EF-3546-40DE-AB11-D59308F5F3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2BFD-2655-44DE-A127-DBA9585860A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Legal Responsibility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равовая ответственность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нтегрированный урок обществознания и английского языка в 9 классе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uman  Righ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lif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have a name and a nationality at birt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edu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health and health car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in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have a rest and lei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priv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labo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right to social welfare, etc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Responsibility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esponsibility is taking care of your dutie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esponsibility is answering for your action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esponsibility is accountability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esponsibility is trustworthiness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Responsibility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esponsibility is a core value for living honorably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esponsibility is being accountable for your behavior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esponsibility is being dependable when you have things to do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Responsibility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Ideas don't work unless we do.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e You a Responsible Person?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ue/ Fal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do what needs to be done. 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am reliable and depend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am accountable for my action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don't make excuses or blame oth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fulfill my moral obliga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use good judgment and think through the consequences of my actions.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I exercise self-control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 You a Responsible Person?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38080" y="2362320"/>
          <a:ext cx="7692840" cy="3721680"/>
        </p:xfrm>
        <a:graphic>
          <a:graphicData uri="http://schemas.openxmlformats.org/drawingml/2006/table">
            <a:tbl>
              <a:tblPr/>
              <a:tblGrid>
                <a:gridCol w="7692840"/>
              </a:tblGrid>
              <a:tr h="372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6666"/>
                          </a:solidFill>
                          <a:latin typeface="Arial"/>
                          <a:ea typeface="Times New Roman"/>
                        </a:rPr>
                        <a:t>I think I am/am not 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6666"/>
                          </a:solidFill>
                          <a:latin typeface="Arial"/>
                          <a:ea typeface="Times New Roman"/>
                        </a:rPr>
                        <a:t>a responsible person because:  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1:14:31Z</dcterms:created>
  <dc:creator>dron</dc:creator>
  <dc:description/>
  <dc:language>en-US</dc:language>
  <cp:lastModifiedBy>dron</cp:lastModifiedBy>
  <dcterms:modified xsi:type="dcterms:W3CDTF">2011-02-15T11:47:02Z</dcterms:modified>
  <cp:revision>8</cp:revision>
  <dc:subject/>
  <dc:title>Legal Responsibility   Правовая ответственность</dc:title>
</cp:coreProperties>
</file>