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B8E-D651-426C-8210-FA45C3D6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A172-CD61-42CF-8CE2-0C278F8B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C11-97ED-4356-80AE-2CCD96C9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672-3076-490E-88CA-30080700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06A89-E1FC-4F7F-84A6-94937027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2F35C-66EC-4A22-94DA-081BE02F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4FED9-DD6E-4253-BAB5-DB115B0B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7911B-90CE-4024-AAA5-47CC6554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C0745-59C4-4618-8C4F-AFFBE317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900ED-73D6-45F9-94B3-F3EDED26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01673-B4B1-4612-AE76-50E9E277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BFF-52EF-4338-AD5F-D04696B0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CC7C5-24D4-45EF-B4C5-646D5C53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5091B-97CB-4819-A11D-904E022D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11130-8D84-4146-A465-89F8C435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8CB9B-C3F6-49B0-9B67-7105B091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019C9-0464-41DE-AB1E-70C18DDE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EB08C-FACC-4854-B6E9-946A544D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7290F-FDEC-4ADD-B1B1-6D9E98E1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20162-046A-4EF3-901D-89EADEA3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8995E-6F16-47CA-BC41-8EDF7714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37687-5FBA-4143-A5C0-31F63D04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BFD-627A-4146-81A7-ABA2034F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0FD31-5DF6-43C9-B57F-4B1FA12E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EBA69-FDB1-4664-A008-F6980CD3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4DB60-8856-429F-A32B-9498F5F6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F80FD-0961-41A6-B8D6-5F908042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DC5DD-208B-4441-9105-BAAE5197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C434F-FFC7-4D26-AB71-34FCEDC3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4E2DD-F170-4F46-AB1D-EDF7D1E8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EC0-FDF6-4CCA-ACA3-E2B60B9E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E7A-774E-4E32-BFC4-C8045F45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C54-EF6F-4A6A-8D67-D54DA1A9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576-8985-4F68-AB19-EB18E292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3DD-376D-4D09-89B6-7241B2DF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C4F9-C35A-460F-9F2F-58991549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6BA9-5E41-4075-AB74-CD372CD32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AE8C-8B7D-44E7-9741-5C30105EE1C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7219-4365-4422-B3C6-81B2AC71228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Презентация по немецкому языку на тему: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«Немецкая поэзия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Работа выполнена учащимися 8 «Б» класса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ГБОУ СОШ №1924, г.Москв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Байгазиной Анной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Братчиковой Д.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Бирюковой Е.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Кашиной О.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узайкиной В.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Дурновой А.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Носовой Т.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Трояновской Ю.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Сумовской Е.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Юсифовой П.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Руководитель: учитель немецкого языка Ловкова Я.С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ГБОУ СОШ №1924, г.Москва,2012г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nrich He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805120" y="1523880"/>
            <a:ext cx="3033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685800" y="304920"/>
            <a:ext cx="2057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andere!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enn dich ein Weib verraten h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o liebe flink eine And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och besser wär es, du liessest die Stadt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chnüre den Ranzen und wandr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u findest bald einen blauen Se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Umringt von Trauerweid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ier weinst du aus dein kleines W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Und deine engen Leid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enn du den steilen Berg ersteig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irst du beträchtlich ächz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och wenn du den felsigen Gipfel erreich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örst du die Adler krächz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ort wirst du selbst ein Adler fa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u bist wie neugebor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u fühlst dich frei, du fühlst: du h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ort unten nicht viel verlo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утешествуй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огда тебя женщина бросит, - забуд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то верил ее постоянств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другую влюбись или трогайся в пу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отомку на плечи - и странству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видишь ты озеро в мирной те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лакучей ивовой ро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д маленьким горем немного всплакн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 дело покажется прощ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здыхая, дойдешь до синеющих го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огда же достигнешь вершин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ы вздрогнешь, окинув глазами прост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 клекот услышав орлины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ы станешь свободен, как эти ор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, жить начиная сначал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видишь с крутой и высокой скал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то в прошлом потеряно ма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943600" y="6019920"/>
            <a:ext cx="28195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муил Маршак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m wunders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nen Monat M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240" y="403812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 чудеснейшем месяце ма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се почки раскрылись внов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И тут в молодом моем серд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первые проснулась люб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 чудеснейшем месяце ма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се птицы запели в сад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И тут я ей сделал признань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 желаниях моих и меч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4480" y="5867280"/>
            <a:ext cx="2229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тр Вейнберг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092840" cy="53341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Lore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ch weiss nicht, was soll es bedeut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s ich so traurg b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Märchen aus alten Zeit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kommt mir nicht aus dem Sin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Luft ist kühl, und es dunke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ruhig fliesst der Rhe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Gipfel des Berges funk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Abendsonnenschei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schönste Jungfrau sit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rt oben wunderba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 goldnes Geschmeide blitz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kämmt ihr goldenes Ha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kämmt es mit goldenem K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singt ein Lied dabe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hat eine wundersa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waltige Melode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Schiffer im kleinen Schi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greift es mit wildem We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 schaut nicht die Felsenriff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 schaut nur hinauf in die Hö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ch glaube, die Wellen verschli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m Ende Schiffer und Kah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das hat mit ihrem Si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Lorele get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304920"/>
            <a:ext cx="419112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знаю, о чём я тоску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оя душе моей н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быть ни на миг не могу 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анье далёких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хнуло прохладой, темне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ится река в тиши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ршина горы пламене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 Рейном в закатном ог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вушка в светлом наря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дит над обрывом круты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блещут, как золото, пря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гребнем её золо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одит по золоту гребн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есню поёт 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ласти и силы волшеб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вущая песня пол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овец в челноке беззащит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тоскою глядит в выш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ётся он к скалам гранитны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видит её од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скалы кругом всё отвесн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лны- круче и з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ерно погубит пес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овца и челнок Лор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3772080" cy="5029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3733920" y="6248520"/>
            <a:ext cx="2286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муил Маршак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486400" y="533520"/>
            <a:ext cx="3038400" cy="432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90720" y="838080"/>
            <a:ext cx="335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Fichtenbaum steht ein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Norden auf kahler Höh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hn schläfert; mit weisser Dec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hüllen ihn Eis and Schn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 träumt von einer Pal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fern im Morge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am und schweigend trau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 brennender Felsenw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5029200"/>
            <a:ext cx="601992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in Fichtenbaum steht einsa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севере диком стоит одино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голой вершине со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дремлет, качаясь, и снегом сыпуч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ета, как ризой, 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снится ей все, что в пустыне дале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том крае, где солнца восх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 и грустна на утесе горю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красная пальма рас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14400" y="5943600"/>
            <a:ext cx="2305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хаил Лермонтов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рмо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евере диком, на голой ска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др одинокий под снегом беле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ладко заснул он в инистой мг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он его вьюга леле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 юную пальму все снится е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 дальних пределах Вост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пламенным небом на знойном хол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105520" y="1523880"/>
            <a:ext cx="3657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. Тютч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оит и цветет, одинока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зыблемо кедр одинокий сто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Севере диком, суров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голой вершине, и чутко он сп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 инистым снежным покро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снится могучему кедру Она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красная пальма Восто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знойном утесе, печали пол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так же, как он, один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889440" cy="47912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Johann Wolfgang von Goe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9900"/>
                </a:solidFill>
                <a:latin typeface="Arial"/>
              </a:rPr>
              <a:t>Man sollte alle Tage wenigs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9900"/>
                </a:solidFill>
                <a:latin typeface="Arial"/>
              </a:rPr>
              <a:t>ein kleines Lied hör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9900"/>
                </a:solidFill>
                <a:latin typeface="Arial"/>
              </a:rPr>
              <a:t>ein gutes Gedicht les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9900"/>
                </a:solidFill>
                <a:latin typeface="Arial"/>
              </a:rPr>
              <a:t>ein treffliches Gemälde se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9900"/>
                </a:solidFill>
                <a:latin typeface="Arial"/>
              </a:rPr>
              <a:t>und, wenn es möglich zu machen wä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9900"/>
                </a:solidFill>
                <a:latin typeface="Arial"/>
              </a:rPr>
              <a:t>ein vernünftiges Worte spre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Der Brief, den du geschr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b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953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 ты не смути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й друг, своим пись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озишь со мной всё конч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пишешь — целый т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 мелко и так много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таю битый час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пишут так простра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ительный отказ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447920"/>
            <a:ext cx="419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er Brief, den du geschrieb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r hat mich gar nicht ba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u willst mich nicht mehr lieb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r dein Brief ist la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Zwölf Seiten, eng und zierli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 kleines Manuskrip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n schreibt nicht so ausführli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enn man den Abschied gib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495680" y="6095880"/>
            <a:ext cx="2210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поллон Майков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33960" cy="6191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304920" y="380880"/>
            <a:ext cx="365760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ie Grenadier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95280" y="409680"/>
            <a:ext cx="533412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Frankreich zogen zwei Grenadier`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aren in Russland gefa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als sie kamen ins deutsche Quarti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liessen die Köpfe ha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 hörten sie beide die traurige Mäh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s Frankreich verloren gegang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iegt und zerschlagen das grosse Heer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Kaiser, der Kaiser gefa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 weinten zusammen die Grenadier`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hl ob der kläglichen Kun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ine sprach: Wie weh wird mi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brennt meine alte Wun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Andre sprach: das Lied ist a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ich möchte`mit dir sterb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h hab`ich Weib und Kind zu Ha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ohne mich verder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chert mich Weib, was schert mich Kin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ch trage weit bess`res Verlang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s sie betteln gehen, wenn sie hungrig sind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n Kaiser, mein Kaiser gefang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1752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609480"/>
            <a:ext cx="58672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währ`mir Bruder eine Bitt`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nn ich jetzt sterben wer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nimm meine Leiche nach Frankreuch mi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grabe mich in Frankreichs Er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Ehrenkreuz am rothen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llst du aufs Herz mir leg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Flinte gieb mir in die Han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gürt`mir um den De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will ich liegen und horchen stil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eine Schildwacht, im Grab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 einst ich höre Kanonnengebrül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wiehernder Rosse Getr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nn reitet mein Kaiser wohl ueber mein Grab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iel Schwerter klirren und blitz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nn steig`ich gewaffnet hervor aus dem Grab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Kaiser, den Kaiser zu schü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952880" y="685800"/>
            <a:ext cx="3375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410080" y="838080"/>
            <a:ext cx="3733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ни завет мой: коль здесь 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ончу солдатские д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ьми мое тело, товарищ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Францию! там схоро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орден на ленточке крас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ожишь на сердце м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шпагой меня опояше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в руки мне вложишь ру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мирно и чутко я бу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жать, как на страже, в гробу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слышу я конское ржан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пушечный гром, и труб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 Он над могилою едет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мена победно шумят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т выйдет к тебе, импера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гроба твой верный солдат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52280"/>
            <a:ext cx="464832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 Францию два гренад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 русского плена бре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ба душой приуны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йдя до немецкой зем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дется им - слышат - увид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позоре родную страну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храброе войско разбит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сам император в пле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чальные слушая ве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дин из них вымолвил: «Бра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лит мое скорбное сердц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старые раны горят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ругой отвечает: «Товарищ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мне умереть бы по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дома жена, малолет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 них ни кола ни д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 что мне? Просить Христа 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ущу и детей и жену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ная на сердце забо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плену император! в пле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8120" y="617220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хаил Михайлов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drich Schi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3679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2280" y="152280"/>
            <a:ext cx="586764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einem Tal bei armen Hir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n mit jedem jungen Jah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bald die ersten Lerchen schwirrt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Mädchen schön und wunde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war nicht in dem Tal gebor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 wusste nicht, woher sie ka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nell war ihre Spur verlor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bald das Mädchen Abschied nah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eligend war ihre Näh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alle Herzen wurden we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ch eine Würde, eine Höh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fernte die Vertraulichk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brachte Blumen mit und Früch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eift auf einer andern Flu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einem andern Sonnenlich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einer glü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ichern Natu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teilte jedem eine Gab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m Früchte, jenem Blumen a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Jüngling und der Greis am Stab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jeder ging beschenkt nach Ha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llkommen waren alle Gäs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ch nahte sich ein liebend Paa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m reichte sie der Gaben bes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Blumen allerschönste d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105520" y="762120"/>
            <a:ext cx="3717720" cy="55623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ff99ff"/>
                </a:solidFill>
                <a:latin typeface="Arial"/>
              </a:rPr>
              <a:t>Das Mädchen aus der Fremd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09480" y="609480"/>
            <a:ext cx="3962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одной долине очень бед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влялось каждою вес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 песню жаворонков перв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тя, прекрасное со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икто не знал, с какого кра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какой земли она приш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а незримо исчез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два успев сказать: "прощай!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отя она бродила ряд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всех далёк тот образ бы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икто пленённый чистым взгля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ё доверья не прос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3124080"/>
            <a:ext cx="38862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а всегда с собой нос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веты и спелые пло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ое солнце их взрастил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ма природа крас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рила всем она подар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лоды и яркие цвет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старикам, что ходят с палк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сельским юношам млад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стей однажды приглас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люблённых свадьбу отмечать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а цветок им подар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кой, что краше не сыск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29200" y="137160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ужестран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762120" y="5105520"/>
            <a:ext cx="2819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настасия Лукомская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9900"/>
                </a:solidFill>
                <a:latin typeface="Arial"/>
              </a:rPr>
              <a:t>Erlkön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 reitet so spät durch Nacht und Win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ist der Vater mit seinem Ki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 hat den Knaben wohl in dem Ar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 fasst ihn sicher, er hält ihn war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Mein Sohn, was birgst du so bang dein Gesicht?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Siehst, Vater, du den Erlkönig nich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Erlenkönig mit Kron und Schweif?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Mein Sohn, es ist ein Nebelstreif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Du liebes Kind, komm, geh mit mi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ar schöne Spiele spiel' ich mit di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ch' bunte Blumen sind an dem Stran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ne Mutter hat manch gülden Gewand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Mein Vater, mein Vater, und hörest du nich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s Erlenkönig mir leise verspricht?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Sei ruhig, bleib ruhig, mein Ki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dürren Blättern säuselt der Wind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Willst, feiner Knabe, du mit mir geh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ne Töchter sollen dich warten schö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ne Töchter führen den nächtlichen Reih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wiegen und tanzen und singen dich ein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Mein Vater, mein Vater, und siehst du nicht d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lkönigs Töchter am düstern Ort?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Mein Sohn, mein Sohn, ich seh es gena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scheinen die alten Weiden so grau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Ich liebe dich, mich reizt deine schöne Gesta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bist du nicht willig, so brauch ich Gewalt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Mein Vater, mein Vater, jetzt fasst er mich a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lkönig hat mir ein Leids getan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m Vater grauset's, er reitet geschwin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 hält in Armen das ächzende Kin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eicht den Hof mit Müh' und N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seinen Armen das Kind war to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2209680"/>
            <a:ext cx="4191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скачет, кто мчится под хладною мгл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здок запоздалый, с ним сын молод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тцу, весь издрогнув, малютка прини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яв, его держит и греет стар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Дитя, что ко мне ты так робко прильнул?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Родимый, лесной царь в глаза мне сверкну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в темной короне, с густой бородо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О нет, то белеет туман над водо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Дитя, оглянися, младенец, ко м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елого много в моей сторо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ы бирюзовы, жемчужны стру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золота слиты чертоги мои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Родимый, лесной царь со мной говор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золото, перлы и радость сулит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О нет, мой младенец, ослышался 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ветер, проснувшись, колыхнул листы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352680" y="533520"/>
            <a:ext cx="24386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есной цар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800600" y="21333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Ко мне, мой младенец: в дуброве мо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знаешь прекрасных моих дочер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 месяце будут играть и лет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ая, летая, тебя усыплять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Родимый, лесной царь созвал дочер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не, вижу, кивают из темных ветве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О нет, все спокойно в ночной глуби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о ветлы седые стоят в стороне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Дитя, я пленился твоей красот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волей иль волей, а будешь ты мо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Родимый, лесной царь нас хочет догн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ж вот он: мне душно, мне тяжко дышать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здок оробелый не скачет, лет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ладенец тоскует, младенец крич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здок погоняет, ездок доскакал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уках его мертвый младенец леж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334120" y="6019920"/>
            <a:ext cx="2590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силий Жуковский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3124080" y="4800600"/>
            <a:ext cx="3152880" cy="18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Mail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3200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e herrlich leuch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r die Natu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e glänzt die Sonn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e lacht die Flu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dringen Blü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 jedem Zwe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tausend Sti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 dem Gesträu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Freud' und Wo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 jeder Bru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 Erd', o Sonn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 Glück, o Lu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 Lieb', o Lieb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 golden schö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e Morgenwol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 jenen Höh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14600" y="8377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 segnest her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frische Fel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Blütendamp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volle W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 Mädchen, Mädch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e lieb' ich dich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e blickt dein Aug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e liebst du mich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 liebt die Ler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ang und Luf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Morgenbl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Himmelsduf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e ich dich lie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 warmem Blu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du mir Jug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Freud' und M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 neuen Lied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Tänzen gib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i ewig glucklic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e du mich lieb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3962520" cy="2471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724280" y="3124080"/>
            <a:ext cx="403884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85800"/>
            <a:ext cx="27432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ё нежит взор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ё нежит слу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истает солнц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меётся л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вижу, вет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ны цве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слышу птич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-за кус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сторг и не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снятся в грудь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, счастье, счасть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длись, по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 ты ли эт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юбовь, любов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ела жизн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роду внов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агослов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уг моло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расцвет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сь круг зем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324120" y="1523880"/>
            <a:ext cx="266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, дева, как 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юблю теб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взор твой свете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юби мен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сладко птич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утру пе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ль пышной роз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рёй але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сладко, де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бя люб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бой воскресну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бою ж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ы ожив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и мечт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удь век счастли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любишь 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733920" y="533520"/>
            <a:ext cx="427176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йская пес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705720" y="5867280"/>
            <a:ext cx="1904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фанасий Фет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drers Nachtli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Горные верш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297180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ные верш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ят во тьме ночно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ихие дол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ные свежей мгло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пылит дорог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дрожат листы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ожди немн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дохнешь и 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600200"/>
            <a:ext cx="373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 allen Gipf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Ru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allen Wipf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ürest 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um einen Hau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Vogelein schweigen im Wal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rte nur, ba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uhest du a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791320" y="594360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хаил Лермонтов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4:49:41Z</dcterms:created>
  <dc:creator>Яна</dc:creator>
  <dc:description/>
  <dc:language>en-US</dc:language>
  <cp:lastModifiedBy>Яна</cp:lastModifiedBy>
  <dcterms:modified xsi:type="dcterms:W3CDTF">2012-12-22T12:07:25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