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63E-B2DE-4D28-8794-67C305EA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7B9-80B5-4F8C-84F1-5EB6E6F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56A-5890-4BC7-9821-ECC9BB0B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6C0-2691-4134-A5ED-A76E1A5C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0F48D-EB17-4285-B7D5-4F277CA8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4E304-C234-474C-A814-1A5BA42F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A02F-706B-4009-B391-6499D466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F1FA1-04BA-45A4-A475-77818F93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FADF2-987B-4262-B307-C2C49E67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0D468-1B68-40A5-8745-C65667E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3075B-BDC7-4020-B65D-817EA73A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0DB-043C-4F36-9AA7-1968A01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AB2E3-5C0C-461D-8F8A-77BBCCF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FADC0-E73D-4BF5-88EA-980431EB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3132D-0D2E-4F56-AC25-87829CAB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AF579-0781-4DD7-8A72-609C0877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32286-5E5C-4678-96BF-3DE20C10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1245-BAB5-4A68-B562-FE0A6159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FBF7-BEF1-4DE8-9591-5B8E3E9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F2A6-9BDD-449E-89A5-80297AB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3536-AA00-4E89-B054-899D0FC3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B3C2-FB9A-4DB3-8055-90FB908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95D-6882-46FC-B455-817D33EF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8864-B370-4981-AB53-2AB6352A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79D6-2264-4A7C-B96D-744028A7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B5FB-655A-4755-AB4B-598B1EB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81C4-D895-4186-911E-BA09B91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6C56-6F7C-42D2-971C-64AE6FDB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D351-D608-4B1F-863F-A14C4F34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2037-9145-4A14-8495-2B2EE65B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D30-B925-4845-ACB8-92718AC7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7DB-BAB9-4C3A-BBF1-2FEB0AA1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B19-3C88-4FCE-91D8-427D16A2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492-4BBD-4BE1-BF57-266CA51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EE1-D332-44AE-B735-FA811C5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ECE-962D-47BD-A769-D369C0C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72DC-691A-4937-9530-32FAF704D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8E4E-CC67-4A30-86E3-A09F6F9001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A1EB-8E35-4692-A1D1-A84E3EE815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Презентация по немецкому языку на тему: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«Немецкая поэзия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Работа выполнена учащимися 8 «Б» класс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ГБОУ СОШ №1924, г.Моск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айгазиной Анной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ратчиковой Д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ирюковой Е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Кашиной О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узайкиной В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урновой А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осовой Т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Трояновской Ю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Сумовской Е.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Юсифовой П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Руководитель: учитель немецкого языка Ловкова Я.С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ГБОУ СОШ №1924, г.Москва,2012г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nrich He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05120" y="1523880"/>
            <a:ext cx="3033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685800" y="304920"/>
            <a:ext cx="2057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ndere!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nn dich ein Weib verraten h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o liebe flink eine And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och besser wär es, du liessest die Stadt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nüre den Ranzen und wandr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 findest bald einen blauen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mringt von Trauerweid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ier weinst du aus dein kleines W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nd deine engen Lei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nn du den steilen Berg ersteig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rst du beträchtlich ächz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och wenn du den felsigen Gipfel erreich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örst du die Adler krächz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ort wirst du selbst ein Adler fa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 bist wie neugebo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 fühlst dich frei, du fühlst: du h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ort unten nicht viel verlo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утешествуй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гда тебя женщина бросит, - забуд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то верил ее постоянст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другую влюбись или трогайся в пу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томку на плечи - и странству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видишь ты озеро в мирной те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лакучей ивовой ро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д маленьким горем немного всплак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дело покажется прощ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здыхая, дойдешь до синеющих го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гда же достигнешь вершин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ы вздрогнешь, окинув глазами прос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клекот услышав орли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ы станешь свободен, как эти ор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, жить начиная сначал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видишь с крутой и высокой скал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то в прошлом потеряно м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943600" y="6019920"/>
            <a:ext cx="2819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муил Маршак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m wunder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en Monat 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403812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 чудеснейшем месяце м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се почки раскрылись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 тут в молодом моем серд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первые проснулась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 чудеснейшем месяце м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се птицы запели в сад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 тут я ей сделал признан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 желаниях моих и меч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4480" y="5867280"/>
            <a:ext cx="222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тр Вейнберг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092840" cy="5334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Lore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ch weiss nicht, was soll es bedeut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s ich so traurg b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Märchen aus alten Zeit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kommt mir nicht aus dem Sin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Luft ist kühl, und es dunke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ruhig fliesst der Rhe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Gipfel des Berges funk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Abendsonnensche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chönste Jungfrau sit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rt oben wunderb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 goldnes Geschmeide blitz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kämmt ihr goldenes Ha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kämmt es mit goldenem K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singt ein Lied dabe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hat eine wunders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waltige Melode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Schiffer im kleinen Sch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reift es mit wildem We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schaut nicht die Felsenriff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schaut nur hinauf in die Hö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ch glaube, die Wellen verschl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m Ende Schiffer und Kah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das hat mit ihrem S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Lorele get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304920"/>
            <a:ext cx="419112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знаю, о чём я тоску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оя душе моей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ыть ни на миг не могу 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анье далёких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хнуло прохладой, темне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ится река в тиши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шина горы пламене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Рейном в закатном ог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вушка в светлом наря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дит над обрывом круты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лещут, как золото, пря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гребнем её золо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ит по золоту гребн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есню поёт 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ласти и силы волшеб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вущая песня пол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овец в челноке беззащит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тоскою глядит в вы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ётся он к скалам гранитны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идит её од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скалы кругом всё отвесн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лны- круче и з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ерно погубит пес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овца и челнок Лор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3772080" cy="5029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733920" y="624852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муил Маршак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486400" y="533520"/>
            <a:ext cx="3038400" cy="432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838080"/>
            <a:ext cx="335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Fichtenbaum steht ein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Norden auf kahler Hö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hn schläfert; mit weisser De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hüllen ihn Eis and Schn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 träumt von einer Pal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fern im Morge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am und schweigend trau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 brennender Felsenw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5029200"/>
            <a:ext cx="601992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in Fichtenbaum steht einsa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евере диком стоит один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голой вершине со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дремлет, качаясь, и снегом сыпу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ета, как ризой, 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нится ей все, что в пустыне дале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ом крае, где солнца восх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и грустна на утесе горю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расная пальма ра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4400" y="5943600"/>
            <a:ext cx="230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ил Лермон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рмо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вере диком, на голой ск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др одинокий под снегом бел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ладко заснул он в инистой мг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он его вьюга лел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 юную пальму все снится е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 дальних пределах Вос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пламенным небом на знойном хол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05520" y="1523880"/>
            <a:ext cx="3657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. 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ит и цветет, одинока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зыблемо кедр одинокий сто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евере диком, суров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голой вершине, и чутко он сп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инистым снежным покр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нится могучему кедру Он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расная пальма Восто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нойном утесе, печали пол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так же, как он, один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889440" cy="4791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Johann Wolfgang von Goe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Man sollte alle Tage wenig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ein kleines Lied hör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ein gutes Gedicht les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ein treffliches Gemälde s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und, wenn es möglich zu machen wä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"/>
              </a:rPr>
              <a:t>ein vernünftiges Worte spre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er Brief, den du geschr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 ты не сму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й друг, своим пись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озишь со мной всё кон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пишешь — целый т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мелко и так много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ю битый час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пишут так простра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ительный отка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447920"/>
            <a:ext cx="419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r Brief, den du geschrieb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r hat mich gar nicht ba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u willst mich nicht mehr lieb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r dein Brief ist 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Zwölf Seiten, eng und zier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 kleines Manuskrip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n schreibt nicht so ausführl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enn man den Abschied gib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495680" y="609588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поллон Майк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33960" cy="6191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04920" y="380880"/>
            <a:ext cx="365760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e Grenadie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95280" y="409680"/>
            <a:ext cx="53341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Frankreich zogen zwei Grenadier`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aren in Russland gefa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ls sie kamen ins deutsche Quarti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liessen die Köpfe ha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örten sie beide die traurige Mäh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s Frankreich verloren gega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iegt und zerschlagen das grosse Heer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Kaiser, der Kaiser gefa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weinten zusammen die Grenadier`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hl ob der kläglichen Kun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e sprach: Wie weh wird mi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brennt meine alte Wun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Andre sprach: das Lied ist a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ich möchte`mit dir sterb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h hab`ich Weib und Kind zu Ha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ohne mich verder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chert mich Weib, was schert mich Ki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trage weit bess`res Verlang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 sie betteln gehen, wenn sie hungrig sind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n Kaiser, mein Kaiser gefan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1752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609480"/>
            <a:ext cx="5867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währ`mir Bruder eine Bitt`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nn ich jetzt sterben wer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nimm meine Leiche nach Frankreuch m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abe mich in Frankreichs Er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hrenkreuz am rothen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llst du aufs Herz mir leg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Flinte gieb mir in die Ha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gürt`mir um den D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will ich liegen und horchen sti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eine Schildwacht, im Grab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einst ich höre Kanonnengebrü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wiehernder Rosse Getr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reitet mein Kaiser wohl ueber mein Gra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iel Schwerter klirren und blitz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steig`ich gewaffnet hervor aus dem Grab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Kaiser, den Kaiser zu schü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3375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410080" y="838080"/>
            <a:ext cx="3733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 завет мой: коль здесь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ончу солдатские д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ьми мое тело, товарищ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Францию! там схоро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орден на ленточке крас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жишь на сердце м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шпагой меня опояш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 руки мне вложишь ру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мирно и чутко я бу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жать, как на страже, в гробу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слышу я конское ржа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ушечный гром, и труб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Он над могилою ед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мена победно шумя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т выйдет к тебе, импер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гроба твой верный солда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2280"/>
            <a:ext cx="46483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 Францию два гренад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русского плена бре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ба душой приуны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йдя до немецкой зем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дется им - слышат - увид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озоре родную стран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храброе войско разби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ам император в пле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чальные слушая в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ин из них вымолвил: «Бра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ит мое скорбное сердц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тарые раны горят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ругой отвечает: «Товарищ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мне умереть бы п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дома жена, малоле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 них ни кола ни д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 что мне? Просить Христа 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ущу и детей и жен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ая на сердце забо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лену император! в пле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8120" y="61722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ил Михайл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Sch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679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152280"/>
            <a:ext cx="58676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einem Tal bei armen Hir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n mit jedem jungen Jah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bald die ersten Lerchen schwirrt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Mädchen schön und wund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ar nicht in dem Tal gebor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wusste nicht, woher sie ka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nell war ihre Spur verlor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bald das Mädchen Abschied na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eligend war ihre Näh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alle Herzen wurden we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ch eine Würde, eine Höh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fernte die Vertraulichk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rachte Blumen mit und Früch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eift auf einer andern Flu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einem andern Sonnenlich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einer glü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chern Nat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teilte jedem eine Gab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m Früchte, jenem Blumen a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Jüngling und der Greis am Stab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jeder ging beschenkt nach Ha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llkommen waren alle Gäs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ch nahte sich ein liebend Pa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m reichte sie der Gaben bes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Blumen allerschönste d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105520" y="762120"/>
            <a:ext cx="3717720" cy="5562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99ff"/>
                </a:solidFill>
                <a:latin typeface="Arial"/>
              </a:rPr>
              <a:t>Das Mädchen aus der Fremd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609480"/>
            <a:ext cx="3962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одной долине очень бед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лось каждою ве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 песню жаворонков пер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тя, прекрасное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кто не знал, с какого кр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какой земли она приш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незримо исчез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два успев сказать: "прощай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тя она бродила ря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всех далёк тот образ бы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кто пленённый чистым взгля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доверья не про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3124080"/>
            <a:ext cx="3886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всегда с собой нос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веты и спелые пл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е солнце их взрастил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а природа крас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рила всем она подар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лоды и яркие цве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тарикам, что ходят с пал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ельским юношам млад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тей однажды пригла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люблённых свадьбу отмечать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цветок им подар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ой, что краше не сыс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29200" y="137160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ужестран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2120" y="510552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настасия Лукомская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9900"/>
                </a:solidFill>
                <a:latin typeface="Arial"/>
              </a:rPr>
              <a:t>Erlkön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 reitet so spät durch Nacht und Wi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ist der Vater mit seinem Ki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hat den Knaben wohl in dem Ar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fasst ihn sicher, er hält ihn wa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Sohn, was birgst du so bang dein Gesicht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Siehst, Vater, du den Erlkönig nich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Erlenkönig mit Kron und Schweif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Sohn, es ist ein Nebelstreif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Du liebes Kind, komm, geh mit mi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r schöne Spiele spiel' ich mit di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ch' bunte Blumen sind an dem Stran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ne Mutter hat manch gülden Gewand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Vater, mein Vater, und hörest du nich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s Erlenkönig mir leise verspricht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Sei ruhig, bleib ruhig, mein Ki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dürren Blättern säuselt der Wind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Willst, feiner Knabe, du mit mir geh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ne Töchter sollen dich warten schö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ne Töchter führen den nächtlichen Reih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wiegen und tanzen und singen dich ein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Vater, mein Vater, und siehst du nicht d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königs Töchter am düstern Ort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Sohn, mein Sohn, ich seh es gena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scheinen die alten Weiden so grau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Ich liebe dich, mich reizt deine schöne Gesta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bist du nicht willig, so brauch ich Gewalt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Mein Vater, mein Vater, jetzt fasst er mich 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könig hat mir ein Leids getan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m Vater grauset's, er reitet geschwin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 hält in Armen das ächzende Kin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t den Hof mit Müh' und N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einen Armen das Kind war t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2209680"/>
            <a:ext cx="4191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скачет, кто мчится под хладною мг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ок запоздалый, с ним сын молод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тцу, весь издрогнув, малютка прини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яв, его держит и греет стар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Дитя, что ко мне ты так робко прильнул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Родимый, лесной царь в глаза мне сверкну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темной короне, с густой бородо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О нет, то белеет туман над водо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Дитя, оглянися, младенец, ко м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елого много в моей сторо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ы бирюзовы, жемчужны стру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олота слиты чертоги мои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Родимый, лесной царь со мной говор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золото, перлы и радость сулит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О нет, мой младенец, ослышался 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ветер, проснувшись, колыхнул листы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352680" y="533520"/>
            <a:ext cx="24386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сной цар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00600" y="21333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Ко мне, мой младенец: в дуброве мо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знаешь прекрасных моих дочер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месяце будут играть и лет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я, летая, тебя усыплять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Родимый, лесной царь созвал дочер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не, вижу, кивают из темных ветв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О нет, все спокойно в ночной глуб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 ветлы седые стоят в стороне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Дитя, я пленился твоей красот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волей иль волей, а будешь ты мо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Родимый, лесной царь нас хочет догн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ж вот он: мне душно, мне тяжко дышать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здок оробелый не скачет, лет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ладенец тоскует, младенец крич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здок погоняет, ездок доскака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уках его мертвый младенец леж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34120" y="601992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силий Жуковский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3124080" y="4800600"/>
            <a:ext cx="3152880" cy="18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Mail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herrlich leuch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r die Natu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glänzt die Son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lacht die Flu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dringen Blü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 jedem Zwe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tausend Sti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 dem Gesträ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Freud' und Wo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 jeder Br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 Erd', o Sonn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 Glück, o 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 Lieb', o Lieb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 golden schö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Morgenwol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 jenen Höh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14600" y="8377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 segnest her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frische Fe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Blütendamp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volle W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 Mädchen, Mädch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lieb' ich dich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blickt dein Aug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liebst du mich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 liebt die Ler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ang und Luf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Morgenbl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Himmelsduf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ich dich lie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warmem Blu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du mir Jug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Freud' und M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 neuen Lied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Tänzen gib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i ewig gluckli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e du mich lieb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724280" y="3124080"/>
            <a:ext cx="403884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85800"/>
            <a:ext cx="27432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нежит взо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нежит слу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истает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еётся л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вижу, вет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ны цв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слышу пти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-за кус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торг и не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снятся в грудь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, счастье, счаст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лись, по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ты ли эт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овь, любов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ела жиз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роду внов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агосл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г мол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расцвет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сь круг зе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, дева, как 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лю теб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взор твой свет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и мен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сладко птич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утру пе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ль пышной ро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рёй але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сладко, де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бя люб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бой воскресну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бою 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ожи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и меч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удь век счастли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любишь 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33920" y="533520"/>
            <a:ext cx="427176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йская пес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705720" y="5867280"/>
            <a:ext cx="190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фанасий Фет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drers Nachtli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Горные вер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297180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ные верш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ят во тьме ночн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хие дол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ые свежей мгл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ылит дорог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дрожат листы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ожди немн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охнешь и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600200"/>
            <a:ext cx="37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 allen Gipf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Ru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llen Wipf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ürest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um einen Hau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Vogelein schweigen im Wal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rte nur, ba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hest du a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91320" y="594360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ил Лермон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4:49:41Z</dcterms:created>
  <dc:creator>Яна</dc:creator>
  <dc:description/>
  <dc:language>en-US</dc:language>
  <cp:lastModifiedBy>Яна</cp:lastModifiedBy>
  <dcterms:modified xsi:type="dcterms:W3CDTF">2012-12-22T12:07:25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