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png" ContentType="image/png"/>
  <Override PartName="/ppt/media/image9.jpeg" ContentType="image/jpeg"/>
  <Override PartName="/ppt/media/image3.wmf" ContentType="image/x-wmf"/>
  <Override PartName="/ppt/media/image8.jpeg" ContentType="image/jpeg"/>
  <Override PartName="/ppt/media/image5.wmf" ContentType="image/x-wmf"/>
  <Override PartName="/ppt/media/image7.jpeg" ContentType="image/jpeg"/>
  <Override PartName="/ppt/media/image6.jpeg" ContentType="image/jpeg"/>
  <Override PartName="/ppt/media/image10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F594B-02CB-431D-AE86-303E1AFAF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E4E51-B82A-4BC1-90F9-18047E2B3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19099-FC8E-43B7-A767-4BBB5BDFD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11410-8273-432D-9C8D-316A954EA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4EC95-2FD4-4686-A094-60427189C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C0A5C-FB8E-471C-A7AC-7DBA34B34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2F7EE-FB89-42BF-B41F-2A045A7BC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206FC-702F-4A27-8725-9C9678637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6E160-805D-4186-A23E-1C45C214E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76E0D-6AB4-4E13-B26E-7BA00415D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A356C-512C-4384-AB71-4ADADBE00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428EE-7E81-4033-BAC8-4DAD94F7D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5FACC-28F6-4DBE-A8DA-AF486A4A2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64193-CE70-4602-9DBB-C19BEF078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EEA4D-E1C6-40F5-9D19-C62E9405A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73BEF-AF6A-48B0-AABB-33B79438C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2DB7F-8459-4E66-B62D-8F5ECF5D0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8E64D-56B2-42ED-A875-A4C00D00E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81D10-5478-4CC6-B707-F44D27749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53BCE-4915-452F-BF1D-4756CF609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5B049-6406-45CF-825A-2643C8A3F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32EB5-119D-49AB-8F13-4F1DF666C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5BE12-DA5B-47FD-82AD-C08BB5245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BEF7B-9802-4E85-9681-572EB7EE9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B9017-9C79-4700-AC8D-5986CEFEC89C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AB524-EC6E-4541-9C42-B3CC567DBB05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403280" y="4437000"/>
            <a:ext cx="6400800" cy="8287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ff0000"/>
                </a:solidFill>
                <a:latin typeface="Comic Sans MS"/>
              </a:rPr>
              <a:t>Родительское собрание </a:t>
            </a:r>
            <a:br>
              <a:rPr sz="7000"/>
            </a:br>
            <a:r>
              <a:rPr b="1" lang="en-US" sz="7000" spc="-1" strike="noStrike">
                <a:solidFill>
                  <a:srgbClr val="ff0000"/>
                </a:solidFill>
                <a:latin typeface="Comic Sans MS"/>
              </a:rPr>
              <a:t>во 2 классе</a:t>
            </a:r>
            <a:endParaRPr b="0" lang="en-US" sz="7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50560" y="2204640"/>
            <a:ext cx="806436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Любовь к чтению –привычка. Стоит только войти во вкус, и удовольствие от результата будет поддерживать сам процесс.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4365360"/>
            <a:ext cx="7696080" cy="11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Так как же помочь ребенку «войти во вкус к чтению»?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78920" y="476280"/>
            <a:ext cx="8712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6000" spc="-1" strike="noStrike">
                <a:solidFill>
                  <a:srgbClr val="000000"/>
                </a:solidFill>
                <a:latin typeface="Comic Sans MS"/>
              </a:rPr>
              <a:t>Если ребенок еще мал, и для вас эта тема кажется чем-то далеким и несущественным …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 rot="20830800">
            <a:off x="395280" y="620280"/>
            <a:ext cx="4762440" cy="33339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 rot="809400">
            <a:off x="5148000" y="2997360"/>
            <a:ext cx="3079800" cy="316836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3"/>
          <a:stretch/>
        </p:blipFill>
        <p:spPr>
          <a:xfrm>
            <a:off x="2629080" y="1924200"/>
            <a:ext cx="3886200" cy="300960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50920" y="151920"/>
            <a:ext cx="7634160" cy="49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000000"/>
                </a:solidFill>
                <a:latin typeface="Comic Sans MS"/>
              </a:rPr>
              <a:t>Если ваш ребенок во втором классе, а любви к чтению все нет…</a:t>
            </a:r>
            <a:endParaRPr b="0" lang="en-US" sz="55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68000" y="3689280"/>
            <a:ext cx="834372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-360" y="189000"/>
            <a:ext cx="838188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Comic Sans MS"/>
              </a:rPr>
              <a:t>Подавайте личный пример</a:t>
            </a:r>
            <a:br>
              <a:rPr sz="2400"/>
            </a:br>
            <a:br>
              <a:rPr sz="2400"/>
            </a:b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Читайте сами. Вслух и про себя. Если ребенок каждый день видит родителя по три часа сидящим перед телевизором или компьютером, то нетрудно предположить, как он будет относиться к нотациям о пользе чтения.</a:t>
            </a:r>
            <a:br>
              <a:rPr sz="2400"/>
            </a:br>
            <a:br>
              <a:rPr sz="2400"/>
            </a:b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И наоборот, если ребенок часто видит родителей с книгами в руках, увлеченно обсуждающих прочитанное, то никаких дополнительных стимулов может вообще не потребоваться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Сократите время просмотра телевизора (и свое, и ребенка)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7777440" cy="16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b200"/>
                </a:solidFill>
                <a:latin typeface="Comic Sans MS"/>
              </a:rPr>
              <a:t>Приемы, помогающие овладеть навыками беглого чтения:</a:t>
            </a: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79280" y="1828800"/>
            <a:ext cx="8640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1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omic Sans MS"/>
              </a:rPr>
              <a:t>многократное чтение;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11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omic Sans MS"/>
              </a:rPr>
              <a:t>чтение в темпе скороговорки;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11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omic Sans MS"/>
              </a:rPr>
              <a:t>выразительное чтение с переходом на незнакомую часть текста;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259920"/>
            <a:ext cx="7696080" cy="52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mic Sans MS"/>
              </a:rPr>
              <a:t>Совместное чтение вслух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mic Sans MS"/>
              </a:rPr>
              <a:t>Чтение перед сном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mic Sans MS"/>
              </a:rPr>
              <a:t>Чтение аудиокниг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mic Sans MS"/>
              </a:rPr>
              <a:t>Компьютерные игры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mic Sans MS"/>
              </a:rPr>
              <a:t>«Буксир»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mic Sans MS"/>
              </a:rPr>
              <a:t>«Бросок – засечка»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mic Sans MS"/>
              </a:rPr>
              <a:t>«Молния»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mic Sans MS"/>
              </a:rPr>
              <a:t>«Спринт»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mic Sans MS"/>
              </a:rPr>
              <a:t>Метод Кассиля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mic Sans MS"/>
              </a:rPr>
              <a:t>Метод Искры Даунис  – детского психолога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mic Sans MS"/>
              </a:rPr>
              <a:t>Метод педагога Шалвы Амонашвили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Советы: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042920" y="765000"/>
            <a:ext cx="7408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omic Sans MS"/>
              </a:rPr>
              <a:t>В доме обязательно должна быть детская библиотека, которая периодически пополняется, учитывая интересы ребёнка.</a:t>
            </a:r>
            <a:endParaRPr b="0" lang="en-US" sz="2500" spc="-1" strike="noStrike">
              <a:solidFill>
                <a:srgbClr val="000000"/>
              </a:solidFill>
              <a:latin typeface="Comic Sans MS"/>
            </a:endParaRPr>
          </a:p>
          <a:p>
            <a:pPr marL="253800" indent="-25380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omic Sans MS"/>
              </a:rPr>
              <a:t>Посещайте вместе книжные магазины. Пусть ребенок сам выберет понравившуюся ему книгу.</a:t>
            </a:r>
            <a:endParaRPr b="0" lang="en-US" sz="2500" spc="-1" strike="noStrike">
              <a:solidFill>
                <a:srgbClr val="000000"/>
              </a:solidFill>
              <a:latin typeface="Comic Sans MS"/>
            </a:endParaRPr>
          </a:p>
          <a:p>
            <a:pPr marL="253800" indent="-25380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omic Sans MS"/>
              </a:rPr>
              <a:t>Не забывайте о важности энциклопедий, словарей, справочников. Они должны найти место на книжных полках: со временем ребёнок их оценит.</a:t>
            </a:r>
            <a:endParaRPr b="0" lang="en-US" sz="2500" spc="-1" strike="noStrike">
              <a:solidFill>
                <a:srgbClr val="000000"/>
              </a:solidFill>
              <a:latin typeface="Comic Sans MS"/>
            </a:endParaRPr>
          </a:p>
          <a:p>
            <a:pPr marL="253800" indent="-25380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omic Sans MS"/>
              </a:rPr>
              <a:t>Постоянно интересуйтесь, что читает ребёнок. Похвалите его даже если не всё “гладко” он рассказал.</a:t>
            </a:r>
            <a:endParaRPr b="0" lang="en-US" sz="2500" spc="-1" strike="noStrike">
              <a:solidFill>
                <a:srgbClr val="000000"/>
              </a:solidFill>
              <a:latin typeface="Comic Sans MS"/>
            </a:endParaRPr>
          </a:p>
          <a:p>
            <a:pPr marL="253800" indent="-25380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omic Sans MS"/>
              </a:rPr>
              <a:t>Помните, что ваш ребёнок ещё в самом начале пути в чудесный книжный мир и очень важно не упустить время, которое так благодатно для становления ЧИТАТЕЛЯ.</a:t>
            </a:r>
            <a:endParaRPr b="0" lang="en-US" sz="2500" spc="-1" strike="noStrike">
              <a:solidFill>
                <a:srgbClr val="000000"/>
              </a:solidFill>
              <a:latin typeface="Comic Sans MS"/>
            </a:endParaRPr>
          </a:p>
          <a:p>
            <a:pPr marL="25380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-609480" y="0"/>
            <a:ext cx="9753480" cy="7974000"/>
          </a:xfrm>
          <a:prstGeom prst="rect">
            <a:avLst/>
          </a:prstGeom>
          <a:ln w="0">
            <a:noFill/>
          </a:ln>
        </p:spPr>
      </p:pic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-324360" y="5013000"/>
            <a:ext cx="961236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99"/>
                </a:solidFill>
                <a:latin typeface="Comic Sans MS"/>
              </a:rPr>
              <a:t>Успехов вам и вашим детям!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00b2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4000" y="-53208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Анкета для родителей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4000" y="1125000"/>
            <a:ext cx="79182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Что чаще всего предпочитает ваш ребенок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- Любит читать сам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- Любит слушать чтение взрослых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"/>
          <p:cNvSpPr/>
          <p:nvPr/>
        </p:nvSpPr>
        <p:spPr>
          <a:xfrm>
            <a:off x="684360" y="3500280"/>
            <a:ext cx="78483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2.  Как вы поступаете, когда чита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ваш ребенок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- Хвалите е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- Ругае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4000" y="2205000"/>
            <a:ext cx="6870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3. Принято ли в вашей семье   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читать книги вслух?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- Конечно, да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- Нет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4360" y="285264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Сможете ли вы назвать книгу, которую недавно прочитал ваш ребенок?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- Безусловно, да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- Наверное, нет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364000" y="3429000"/>
            <a:ext cx="37800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Тема собрания: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08000" y="4869000"/>
            <a:ext cx="8136000" cy="31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en-US" sz="5400" spc="-1" strike="noStrike">
                <a:solidFill>
                  <a:srgbClr val="000000"/>
                </a:solidFill>
                <a:latin typeface="Comic Sans MS"/>
              </a:rPr>
              <a:t>Папа,    мама,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5400" spc="-1" strike="noStrike">
                <a:solidFill>
                  <a:srgbClr val="000000"/>
                </a:solidFill>
                <a:latin typeface="Comic Sans MS"/>
              </a:rPr>
              <a:t>я – читающая семья.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179280" y="333360"/>
            <a:ext cx="583272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71280" y="18864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Comic Sans MS"/>
              </a:rPr>
              <a:t>Чтение – вот лучшее учение.</a:t>
            </a:r>
            <a:br>
              <a:rPr sz="3500"/>
            </a:br>
            <a:r>
              <a:rPr b="1" lang="en-US" sz="3500" spc="-1" strike="noStrike">
                <a:solidFill>
                  <a:srgbClr val="000000"/>
                </a:solidFill>
                <a:latin typeface="Comic Sans MS"/>
              </a:rPr>
              <a:t>                А. С. Пушкин</a:t>
            </a: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249228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ru-RU" sz="3500" spc="-1" strike="noStrike">
                <a:solidFill>
                  <a:srgbClr val="000000"/>
                </a:solidFill>
                <a:latin typeface="Comic Sans MS"/>
              </a:rPr>
              <a:t>Два величайших изобретения в истории: книгопечатание, усадившее нас за книги, и телевидение, оторвавшее нас от них. </a:t>
            </a: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000000"/>
                </a:solidFill>
                <a:latin typeface="Comic Sans MS"/>
              </a:rPr>
              <a:t>                    </a:t>
            </a:r>
            <a:r>
              <a:rPr b="1" lang="ru-RU" sz="3500" spc="-1" strike="noStrike">
                <a:solidFill>
                  <a:srgbClr val="000000"/>
                </a:solidFill>
                <a:latin typeface="Comic Sans MS"/>
              </a:rPr>
              <a:t>Жорж Элгози</a:t>
            </a: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"/>
          <p:cNvSpPr/>
          <p:nvPr/>
        </p:nvSpPr>
        <p:spPr>
          <a:xfrm>
            <a:off x="3203640" y="4508640"/>
            <a:ext cx="143280" cy="61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1280" rIns="71280" tIns="33480" bIns="334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24000" y="2060280"/>
            <a:ext cx="72007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99"/>
                </a:solidFill>
                <a:latin typeface="Comic Sans MS"/>
              </a:rPr>
              <a:t>Чтение – это важнейшее условие формирования мыслительных способностей.</a:t>
            </a:r>
            <a:br>
              <a:rPr sz="4500"/>
            </a:br>
            <a:endParaRPr b="0" lang="en-US" sz="45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395280" y="3068640"/>
            <a:ext cx="3097080" cy="252108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3564000" y="3860640"/>
            <a:ext cx="5111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omic Sans MS"/>
              </a:rPr>
              <a:t>Люди перестают мыслить, когда перестают читать. </a:t>
            </a:r>
            <a:br>
              <a:rPr sz="3600"/>
            </a:br>
            <a:r>
              <a:rPr b="1" i="1" lang="ru-RU" sz="3600" spc="-1" strike="noStrike">
                <a:solidFill>
                  <a:srgbClr val="000000"/>
                </a:solidFill>
                <a:latin typeface="Comic Sans MS"/>
              </a:rPr>
              <a:t>          Дени Дидр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250920" y="476280"/>
          <a:ext cx="8353440" cy="5184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476280"/>
                    <a:ext cx="8353440" cy="518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39280" y="333360"/>
            <a:ext cx="76964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75"/>
              </a:spcBef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500" spc="-1" strike="noStrike">
                <a:solidFill>
                  <a:srgbClr val="0000ff"/>
                </a:solidFill>
                <a:latin typeface="Comic Sans MS"/>
              </a:rPr>
              <a:t>Скорочтение.</a:t>
            </a:r>
            <a:endParaRPr b="0" lang="en-US" sz="55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"/>
          <p:cNvSpPr/>
          <p:nvPr/>
        </p:nvSpPr>
        <p:spPr>
          <a:xfrm>
            <a:off x="611280" y="1773360"/>
            <a:ext cx="5832360" cy="17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500" spc="-1" strike="noStrike">
                <a:solidFill>
                  <a:srgbClr val="0000ff"/>
                </a:solidFill>
                <a:latin typeface="Comic Sans MS"/>
              </a:rPr>
              <a:t>Оптимальное чтение.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2843280" y="3213000"/>
            <a:ext cx="475308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-181080" y="-459000"/>
            <a:ext cx="82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Comic Sans MS"/>
              </a:rPr>
              <a:t>120 слов в </a:t>
            </a:r>
            <a:r>
              <a:rPr b="1" lang="en-US" sz="5500" spc="-1" strike="noStrike">
                <a:solidFill>
                  <a:srgbClr val="ff0000"/>
                </a:solidFill>
                <a:latin typeface="Comic Sans MS"/>
              </a:rPr>
              <a:t>минуту</a:t>
            </a:r>
            <a:r>
              <a:rPr b="1" lang="en-US" sz="6000" spc="-1" strike="noStrike">
                <a:solidFill>
                  <a:srgbClr val="ff0000"/>
                </a:solidFill>
                <a:latin typeface="Comic Sans MS"/>
              </a:rPr>
              <a:t> !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0" y="170028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000000"/>
                </a:solidFill>
                <a:latin typeface="Comic Sans MS"/>
              </a:rPr>
              <a:t>Как выйти на этот уровень?</a:t>
            </a:r>
            <a:endParaRPr b="0" lang="en-US" sz="55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1763640" y="3357720"/>
            <a:ext cx="5329440" cy="33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8T18:19:27Z</dcterms:created>
  <dc:creator>Uzer</dc:creator>
  <dc:description/>
  <dc:language>en-US</dc:language>
  <cp:lastModifiedBy>Uzer</cp:lastModifiedBy>
  <dcterms:modified xsi:type="dcterms:W3CDTF">2011-10-19T18:43:26Z</dcterms:modified>
  <cp:revision>5</cp:revision>
  <dc:subject/>
  <dc:title>Родительское собрание  во 2 классе</dc:title>
</cp:coreProperties>
</file>