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D28-F7BF-4774-8110-0508627A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82E-91DE-44AA-BC91-772D3A6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609-32F4-4210-94EF-0BF6428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884-6932-4110-8CD8-79EA6FF9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234-9CCB-45F4-B314-3EB1422A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6902-C7E5-4A9E-9F39-AB4E197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73CD-DF04-431B-BFB6-433F14B8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48EF-AA14-4676-8FE4-D1E7AED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536-E28D-4DDA-AF26-CCD41A67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AD02-5A7C-47EE-997F-BF4C4F2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377-3370-49B7-A04B-60E00CBB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E9C-152E-451F-B192-26CDC0F1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CF6-258B-4935-AB14-9A2CDC2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ED8-EF55-4ECB-906F-49BA6D3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B37-0348-4831-8889-6826788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284F-506F-447A-AB25-4F7FA3A5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57AE-F4B2-4517-97F4-16FC6C8A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65D-2F6F-4DAE-BF64-8AD0F228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B70-7DB0-40C4-AC45-AC8FADC2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CFC-043B-4571-ABA6-2D3EBF2F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430-B9B9-440F-874E-A9BC52A1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E0E-0C2C-4225-B877-78D6906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FAB-9A86-4DD6-8A5B-D2AD783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63C-AFCD-4138-A8A2-EFAB6C5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4072-88C0-469B-BAE4-BA050BE7AB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1A2-021F-4748-A8A8-851504465C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4437000"/>
            <a:ext cx="6400800" cy="82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Comic Sans MS"/>
              </a:rPr>
              <a:t>Родительское собрание </a:t>
            </a:r>
            <a:br>
              <a:rPr sz="7000"/>
            </a:br>
            <a:r>
              <a:rPr b="1" lang="en-US" sz="7000" spc="-1" strike="noStrike">
                <a:solidFill>
                  <a:srgbClr val="ff0000"/>
                </a:solidFill>
                <a:latin typeface="Comic Sans MS"/>
              </a:rPr>
              <a:t>во 2 классе</a:t>
            </a:r>
            <a:endParaRPr b="0" lang="en-US" sz="7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юбовь к чтению –привычка. Стоит только войти во вкус, и удовольствие от результата будет поддерживать сам процесс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4365360"/>
            <a:ext cx="76960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 как же помочь ребенку «войти во вкус к чтению»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Если ребенок еще мал, и для вас эта тема кажется чем-то далеким и несущественным 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830800">
            <a:off x="395280" y="620280"/>
            <a:ext cx="4762440" cy="3333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809400">
            <a:off x="5148000" y="2997360"/>
            <a:ext cx="3079800" cy="316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629080" y="1924200"/>
            <a:ext cx="3886200" cy="3009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76341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Если ваш ребенок во втором классе, а любви к чтению все нет…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3689280"/>
            <a:ext cx="8343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381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Подавайте личный пример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Читайте сами. Вслух и про себя. Если ребенок каждый день видит родителя по три часа сидящим перед телевизором или компьютером, то нетрудно предположить, как он будет относиться к нотациям о пользе чтения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 наоборот, если ребенок часто видит родителей с книгами в руках, увлеченно обсуждающих прочитанное, то никаких дополнительных стимулов может вообще не потребовать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ократите время просмотра телевизора (и свое, и ребенка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77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200"/>
                </a:solidFill>
                <a:latin typeface="Comic Sans MS"/>
              </a:rPr>
              <a:t>Приемы, помогающие овладеть навыками беглого чтения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многократное чтение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чтение в темпе скороговорки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выразительное чтение с переходом на незнакомую часть текста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овместное чтение вслу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Чтение перед сн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Чтение аудиокни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омпьютерные иг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Буксир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Бросок – засечк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Молн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Спринт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тод Кассил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тод Искры Даунис  – детского психолог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тод педагога Шалвы Амонашв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овет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920" y="76500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В доме обязательно должна быть детская библиотека, которая периодически пополняется, учитывая интересы ребёнка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сещайте вместе книжные магазины. Пусть ребенок сам выберет понравившуюся ему книгу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Не забывайте о важности энциклопедий, словарей, справочников. Они должны найти место на книжных полках: со временем ребёнок их оценит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стоянно интересуйтесь, что читает ребёнок. Похвалите его даже если не всё “гладко” он рассказал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мните, что ваш ребёнок ещё в самом начале пути в чудесный книжный мир и очень важно не упустить время, которое так благодатно для становления ЧИТАТЕЛЯ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974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24360" y="5013000"/>
            <a:ext cx="961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Успехов вам и вашим детя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b2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нкета для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9182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чаще всего предпочитает ваш ребен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Любит читать с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Любит слушать чтение взросл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50028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Как вы поступаете, когда ч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Хвал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уг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20500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Принято ли в вашей семье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читать книги вслух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- Конечно, да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- Н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28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можете ли вы назвать книгу, которую недавно прочитал ваш ребен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Безусловно, 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Наверное, 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64000" y="3429000"/>
            <a:ext cx="3780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собр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8000" y="4869000"/>
            <a:ext cx="813600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Папа,    мама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я – читающая семья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832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Чтение – вот лучшее учение.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               А. С. Пушкин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Два величайших изобретения в истории: книгопечатание, усадившее нас за книги, и телевидение, оторвавшее нас от них.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Жорж Элгози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4508640"/>
            <a:ext cx="143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3480" bIns="33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720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Comic Sans MS"/>
              </a:rPr>
              <a:t>Чтение – это важнейшее условие формирования мыслительных способностей.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097080" cy="2521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64000" y="386064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Люди перестают мыслить, когда перестают читать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         Дени Дид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476280"/>
          <a:ext cx="835344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353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0000ff"/>
                </a:solidFill>
                <a:latin typeface="Comic Sans MS"/>
              </a:rPr>
              <a:t>Скорочтение.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773360"/>
            <a:ext cx="5832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000ff"/>
                </a:solidFill>
                <a:latin typeface="Comic Sans MS"/>
              </a:rPr>
              <a:t>Оптимальное чтение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475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81080" y="-459000"/>
            <a:ext cx="82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120 слов в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минуту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Как выйти на этот уровень?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3294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8:19:27Z</dcterms:created>
  <dc:creator>Uzer</dc:creator>
  <dc:description/>
  <dc:language>en-US</dc:language>
  <cp:lastModifiedBy>Uzer</cp:lastModifiedBy>
  <dcterms:modified xsi:type="dcterms:W3CDTF">2011-10-19T18:43:26Z</dcterms:modified>
  <cp:revision>5</cp:revision>
  <dc:subject/>
  <dc:title>Родительское собрание  во 2 классе</dc:title>
</cp:coreProperties>
</file>