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442-D651-4C5F-9F97-C9534A0F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BB8-D990-494F-9A0B-ADC13B40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761-71BB-4D2F-80DF-E0033489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5B3-5442-46C3-8771-CA4BB74F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9461-3897-4E40-AE8D-BADBCE30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AA45-F5A6-46E1-8C68-21F1D6EF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943C-B914-4205-81A3-B31AEA83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4564-D576-4CC3-A426-15BBDFF3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F017-4BFE-4FD0-B8D2-133B6A74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49B6-D472-4A53-BF21-B8D9134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5794-693F-4956-843C-B8C4BA8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600-5D15-46B2-8BF1-2B61E8D3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C4B8-E995-4DF7-B176-85689CB4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A5F6-AC81-492E-AB39-B29C431C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E516-9DB7-4D1B-9BD8-444E8175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2FEE-E605-480C-AF3E-ADF219AC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86EE-622F-4928-B33F-EB302AAD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554-9328-4544-B30B-2C054469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721-6DBB-4A31-A537-91306EC8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A2E-035A-48E6-B927-C6B498F3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2C8-4BBB-47C1-A92E-E30394B9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6BF-3758-4961-A8C8-7393BDE6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3A4-9161-4CAF-9AA7-B4331C69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40D-727F-486E-8105-7F0A7E0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66A2-16EC-4FC4-AD2C-C96A291997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3BC2-0192-4A72-9123-9866C6B456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105440" cy="360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ртфолио учителя начальных классов ГБОУ СОШ № 1351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. Москв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узьминой Натальи Дмитриевно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WordArt 4" descr=""/>
          <p:cNvPicPr/>
          <p:nvPr/>
        </p:nvPicPr>
        <p:blipFill>
          <a:blip r:embed="rId1"/>
          <a:stretch/>
        </p:blipFill>
        <p:spPr>
          <a:xfrm>
            <a:off x="963720" y="542880"/>
            <a:ext cx="77356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7161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едагогический стаж -7 лет. Вторая квалификационная категория. Образование-высшее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13" descr="E:\фото 4 класс\1 сентября 2012г\DSC_0615.JPG"/>
          <p:cNvPicPr/>
          <p:nvPr/>
        </p:nvPicPr>
        <p:blipFill>
          <a:blip r:embed="rId1"/>
          <a:stretch/>
        </p:blipFill>
        <p:spPr>
          <a:xfrm>
            <a:off x="1511280" y="2205000"/>
            <a:ext cx="6085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5578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истема повышения квалификаци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136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07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ГОУ ВПО Московского городского педагогического университета по курсу: «Учебно-воспитательная работа в группах продленного дня (1-4 классы)»- 72 часа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09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ГОУ Педагогическая академия по теме6 «Актуальные проблемы образования в начальной школе»- 72 часа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10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Институт открытого образования Московского государственного областного университета по программе «Информационные технологии в работе учителя»- 72 часа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12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Московский институт открытого образования по теме : «ФГОС НОО. Конструирование измерительных материалов для диагностики учебных достижений младших школьников".- 72 часа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8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Моя тема самообразования: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«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ИСПОЛЬЗОВАНИЕ ИНФОРМАЦИОННО-КОММУНИКАЦИОННЫХ ТЕХНОЛОГИЙ НА УРОКАХ В НАЧАЛЬНОЙ ШКОЛЕ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»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и грамоты,дипломы, благодарности за 2011-2012 учебный год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cff33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11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Диплом  победителя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Comic Sans MS"/>
              </a:rPr>
              <a:t>2011 г.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Благодарность за высокий профессионализм и активное участие в организации интеллектуальной и творческой деятельности школьников (студентов). Всероссийская дистанционная игра-конкурс «Математика со Смешариками»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Picture 11" descr="http://nsportal.ru/sites/default/files/photos/2012/08/29/thumb_2733232/240x180_crop_thumb_8734665211346258033.png"/>
          <p:cNvPicPr/>
          <p:nvPr/>
        </p:nvPicPr>
        <p:blipFill>
          <a:blip r:embed="rId1"/>
          <a:stretch/>
        </p:blipFill>
        <p:spPr>
          <a:xfrm>
            <a:off x="1763640" y="242100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http://nsportal.ru/sites/default/files/photos/2012/08/29/thumb_2733231/240x180_crop_thumb_7768916491346258033.png"/>
          <p:cNvPicPr/>
          <p:nvPr/>
        </p:nvPicPr>
        <p:blipFill>
          <a:blip r:embed="rId2"/>
          <a:stretch/>
        </p:blipFill>
        <p:spPr>
          <a:xfrm>
            <a:off x="5578560" y="2349360"/>
            <a:ext cx="17301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3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Comic Sans MS"/>
              </a:rPr>
              <a:t>2012 г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. Свидетельство о публикации в электронном СМИ творческих работ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чеников на тему : «Читаем вместе в классе и семье», «Можно ли привить  ребёнку любовь к чтению»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9" descr="http://nsportal.ru/sites/default/files/photos/2012/08/29/thumb_2733235/240x180_crop_thumb_905245261346258035.jpg"/>
          <p:cNvPicPr/>
          <p:nvPr/>
        </p:nvPicPr>
        <p:blipFill>
          <a:blip r:embed="rId1"/>
          <a:stretch/>
        </p:blipFill>
        <p:spPr>
          <a:xfrm>
            <a:off x="1116000" y="1484280"/>
            <a:ext cx="2808360" cy="396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http://nsportal.ru/sites/default/files/photos/2012/08/29/thumb_2733239/240x180_crop_thumb_7058557211346258091.jpg"/>
          <p:cNvPicPr/>
          <p:nvPr/>
        </p:nvPicPr>
        <p:blipFill>
          <a:blip r:embed="rId2"/>
          <a:stretch/>
        </p:blipFill>
        <p:spPr>
          <a:xfrm>
            <a:off x="5219640" y="1484280"/>
            <a:ext cx="2737080" cy="3960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"/>
          <p:cNvSpPr/>
          <p:nvPr/>
        </p:nvSpPr>
        <p:spPr>
          <a:xfrm>
            <a:off x="2124000" y="5661000"/>
            <a:ext cx="381636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Адреса публикаций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Comic Sans MS"/>
                <a:hlinkClick r:id="rId3" action="ppaction://hlinksldjump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//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sportal.u/node/30091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ttp://nsportal.ru/note/30109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2012 год- сертификат о создании в социальной сети работников образования своего персонального сайта и сайта класс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2012 год- свидетельство о публикации в социальной сети работников образования учебно-методического материала «Основы формирования экологического воспитания детей младшего школьного»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259640" y="59500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Picture 10" descr="http://nsportal.ru/sites/default/files/photos/2012/08/29/thumb_2733233/240x180_crop_thumb_6725603021346258034.jpg"/>
          <p:cNvPicPr/>
          <p:nvPr/>
        </p:nvPicPr>
        <p:blipFill>
          <a:blip r:embed="rId1"/>
          <a:stretch/>
        </p:blipFill>
        <p:spPr>
          <a:xfrm>
            <a:off x="395280" y="227664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http://nsportal.ru/sites/default/files/photos/2012/08/29/thumb_2733234/240x180_crop_thumb_5983579201346258035.jpg"/>
          <p:cNvPicPr/>
          <p:nvPr/>
        </p:nvPicPr>
        <p:blipFill>
          <a:blip r:embed="rId2"/>
          <a:stretch/>
        </p:blipFill>
        <p:spPr>
          <a:xfrm>
            <a:off x="6156360" y="1916280"/>
            <a:ext cx="2562120" cy="3457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http://nsportal.ru/sites/default/files/photos/2012/08/29/thumb_2733240/240x180_crop_thumb_2896446561346258092.jpg"/>
          <p:cNvPicPr/>
          <p:nvPr/>
        </p:nvPicPr>
        <p:blipFill>
          <a:blip r:embed="rId3"/>
          <a:stretch/>
        </p:blipFill>
        <p:spPr>
          <a:xfrm>
            <a:off x="3492360" y="2133720"/>
            <a:ext cx="18385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Мои печатные работы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.Основы формирования экологического воспитания детей младшего школьного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"http://nsportal.ru/kuzmina-natalya-dmitrievna"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440" y="260280"/>
            <a:ext cx="66229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дробнее о работе можно узнать на сайте по адресу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"http://nsportal.ru/kuzmina-natalya-dmitrievna"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9" descr="E:\фото 4 класс\1 сентября 2012г\DSC_0616.JPG"/>
          <p:cNvPicPr/>
          <p:nvPr/>
        </p:nvPicPr>
        <p:blipFill>
          <a:blip r:embed="rId1"/>
          <a:stretch/>
        </p:blipFill>
        <p:spPr>
          <a:xfrm>
            <a:off x="2268360" y="2400480"/>
            <a:ext cx="568836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40:33Z</dcterms:created>
  <dc:creator>ЛЁХА</dc:creator>
  <dc:description/>
  <dc:language>en-US</dc:language>
  <cp:lastModifiedBy>Кузьмина Наталья</cp:lastModifiedBy>
  <dcterms:modified xsi:type="dcterms:W3CDTF">2012-12-22T04:54:43Z</dcterms:modified>
  <cp:revision>31</cp:revision>
  <dc:subject/>
  <dc:title>PowerPoint Presentation</dc:title>
</cp:coreProperties>
</file>