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098-1EFA-4DE6-8A09-8211E535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0D1-0DAC-46D4-905D-419766C5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7FA-6C48-4839-97BE-6F1CCF9F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ECE-FFBD-4761-A51D-3E3F3EBD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5C6-F562-4545-9B75-28DC4742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CCDF-EB79-4DAB-82C3-6D230391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6813-7FE8-49A3-96FE-4A4D522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57BE-F711-4A60-BF73-71DCB659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7FCC-023A-47A6-9224-F30D57D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934-7742-426A-8DB2-95C9C19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6FB-C125-40E9-946C-6A744B4E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C2A-543C-420C-9A37-2B418A6C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C2AC-75E3-4698-BB65-0F0FD216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A234-3A53-4CCE-B2B7-2475DD9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B2AD-DE16-46F1-B299-5854005F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3C0-54B0-49C9-B0D2-E2A8D17D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947-0A09-4B26-9F3D-D11D7CA1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0F4-1E83-42FA-8B53-529E2FB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969-F764-4265-8EFC-D0F85908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560-19BE-43B5-BA6A-094C9677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516-D02E-4333-84B1-F77B3DA5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029-D6BE-4A1E-AA98-5F7727B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6F3-8D03-412B-8864-231C525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011-0883-492F-974B-6049FCB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37F-ACBC-4EF9-BDCA-A06AD63D1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9C52-8544-45B3-9139-EFFA6CBF96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105440" cy="36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ртфолио учителя начальных классов ГБОУ СОШ № 1351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. Москв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узьминой Натальи Дмитриевно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WordArt 4" descr=""/>
          <p:cNvPicPr/>
          <p:nvPr/>
        </p:nvPicPr>
        <p:blipFill>
          <a:blip r:embed="rId1"/>
          <a:stretch/>
        </p:blipFill>
        <p:spPr>
          <a:xfrm>
            <a:off x="963720" y="542880"/>
            <a:ext cx="77356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едагогический стаж -7 лет. Вторая квалификационная категория. Образование-высше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13" descr="E:\фото 4 класс\1 сентября 2012г\DSC_0615.JPG"/>
          <p:cNvPicPr/>
          <p:nvPr/>
        </p:nvPicPr>
        <p:blipFill>
          <a:blip r:embed="rId1"/>
          <a:stretch/>
        </p:blipFill>
        <p:spPr>
          <a:xfrm>
            <a:off x="1511280" y="2205000"/>
            <a:ext cx="6085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5578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стема повышения квалификац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136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07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ГОУ ВПО Московского городского педагогического университета по курсу: «Учебно-воспитательная работа в группах продленного дня (1-4 классы)»- 72 часа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09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ГОУ Педагогическая академия по теме6 «Актуальные проблемы образования в начальной школе»- 72 часа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0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Институт открытого образования Московского государственного областного университета по программе «Информационные технологии в работе учителя»- 72 часа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2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Московский институт открытого образования по теме : «ФГОС НОО. Конструирование измерительных материалов для диагностики учебных достижений младших школьников".- 72 часа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Моя тема самообразования: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«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ИСПОЛЬЗОВАНИЕ ИНФОРМАЦИОННО-КОММУНИКАЦИОННЫХ ТЕХНОЛОГИЙ НА УРОКАХ В НАЧАЛЬНОЙ ШКОЛЕ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»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и грамоты,дипломы, благодарности за 2011-2012 учебный год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cff33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1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Диплом  победителя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1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Благодарность за высокий профессионализм и активное участие в организации интеллектуальной и творческой деятельности школьников (студентов). Всероссийская дистанционная игра-конкурс «Математика со Смешариками»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11" descr="http://nsportal.ru/sites/default/files/photos/2012/08/29/thumb_2733232/240x180_crop_thumb_8734665211346258033.png"/>
          <p:cNvPicPr/>
          <p:nvPr/>
        </p:nvPicPr>
        <p:blipFill>
          <a:blip r:embed="rId1"/>
          <a:stretch/>
        </p:blipFill>
        <p:spPr>
          <a:xfrm>
            <a:off x="1763640" y="242100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http://nsportal.ru/sites/default/files/photos/2012/08/29/thumb_2733231/240x180_crop_thumb_7768916491346258033.png"/>
          <p:cNvPicPr/>
          <p:nvPr/>
        </p:nvPicPr>
        <p:blipFill>
          <a:blip r:embed="rId2"/>
          <a:stretch/>
        </p:blipFill>
        <p:spPr>
          <a:xfrm>
            <a:off x="5578560" y="2349360"/>
            <a:ext cx="1730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3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Comic Sans MS"/>
              </a:rPr>
              <a:t>2012 г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 Свидетельство о публикации в электронном СМИ творческих работ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чеников на тему : «Читаем вместе в классе и семье», «Можно ли привить  ребёнку любовь к чтению»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9" descr="http://nsportal.ru/sites/default/files/photos/2012/08/29/thumb_2733235/240x180_crop_thumb_905245261346258035.jpg"/>
          <p:cNvPicPr/>
          <p:nvPr/>
        </p:nvPicPr>
        <p:blipFill>
          <a:blip r:embed="rId1"/>
          <a:stretch/>
        </p:blipFill>
        <p:spPr>
          <a:xfrm>
            <a:off x="1116000" y="1484280"/>
            <a:ext cx="2808360" cy="396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http://nsportal.ru/sites/default/files/photos/2012/08/29/thumb_2733239/240x180_crop_thumb_7058557211346258091.jpg"/>
          <p:cNvPicPr/>
          <p:nvPr/>
        </p:nvPicPr>
        <p:blipFill>
          <a:blip r:embed="rId2"/>
          <a:stretch/>
        </p:blipFill>
        <p:spPr>
          <a:xfrm>
            <a:off x="5219640" y="1484280"/>
            <a:ext cx="2737080" cy="3960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2124000" y="5661000"/>
            <a:ext cx="38163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дреса публикаций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Comic Sans MS"/>
                <a:hlinkClick r:id="rId3" action="ppaction://hlinksldjump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/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sportal.u/node/30091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nsportal.ru/note/30109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2012 год- сертификат о создании в социальной сети работников образования своего персонального сайта и сайта класс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2012 год- свидетельство о публикации в социальной сети работников образования учебно-методического материала «Основы формирования экологического воспитания детей младшего школьного»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259640" y="59500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10" descr="http://nsportal.ru/sites/default/files/photos/2012/08/29/thumb_2733233/240x180_crop_thumb_6725603021346258034.jpg"/>
          <p:cNvPicPr/>
          <p:nvPr/>
        </p:nvPicPr>
        <p:blipFill>
          <a:blip r:embed="rId1"/>
          <a:stretch/>
        </p:blipFill>
        <p:spPr>
          <a:xfrm>
            <a:off x="395280" y="2276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http://nsportal.ru/sites/default/files/photos/2012/08/29/thumb_2733234/240x180_crop_thumb_5983579201346258035.jpg"/>
          <p:cNvPicPr/>
          <p:nvPr/>
        </p:nvPicPr>
        <p:blipFill>
          <a:blip r:embed="rId2"/>
          <a:stretch/>
        </p:blipFill>
        <p:spPr>
          <a:xfrm>
            <a:off x="6156360" y="1916280"/>
            <a:ext cx="2562120" cy="345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ttp://nsportal.ru/sites/default/files/photos/2012/08/29/thumb_2733240/240x180_crop_thumb_2896446561346258092.jpg"/>
          <p:cNvPicPr/>
          <p:nvPr/>
        </p:nvPicPr>
        <p:blipFill>
          <a:blip r:embed="rId3"/>
          <a:stretch/>
        </p:blipFill>
        <p:spPr>
          <a:xfrm>
            <a:off x="3492360" y="2133720"/>
            <a:ext cx="18385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Мои печатные работы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.Основы формирования экологического воспитания детей младшего школьного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"http://nsportal.ru/kuzmina-natalya-dmitrievna"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440" y="260280"/>
            <a:ext cx="66229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дробнее о работе можно узнать на сайте по адресу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"http://nsportal.ru/kuzmina-natalya-dmitrievna"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9" descr="E:\фото 4 класс\1 сентября 2012г\DSC_0616.JPG"/>
          <p:cNvPicPr/>
          <p:nvPr/>
        </p:nvPicPr>
        <p:blipFill>
          <a:blip r:embed="rId1"/>
          <a:stretch/>
        </p:blipFill>
        <p:spPr>
          <a:xfrm>
            <a:off x="2268360" y="2400480"/>
            <a:ext cx="568836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40:33Z</dcterms:created>
  <dc:creator>ЛЁХА</dc:creator>
  <dc:description/>
  <dc:language>en-US</dc:language>
  <cp:lastModifiedBy>Кузьмина Наталья</cp:lastModifiedBy>
  <dcterms:modified xsi:type="dcterms:W3CDTF">2012-12-22T04:54:43Z</dcterms:modified>
  <cp:revision>31</cp:revision>
  <dc:subject/>
  <dc:title>PowerPoint Presentation</dc:title>
</cp:coreProperties>
</file>