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6C12-61A4-4863-934D-C8D9B3A12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CA6B-DC3D-4B1C-A122-FCAD5B8F4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515B-0B7C-49C8-BC3C-427CC0F29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B0FA-203B-4CA8-88FA-221319BA9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EC5FA-68AA-4E6C-9AE7-FA4B2EF56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3F65D-37FC-4F0E-B717-1CF04A521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654AE-594B-4A13-8846-9A7E79D78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860E8-2141-4278-87FF-FA8A86F77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FA666-A784-43E3-B151-A48914144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9CE9E-5F46-46AE-A55C-EFEC8C11B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26B3A-ECF3-4224-A0BD-FF14A9AA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8A66-D50C-451F-AA0C-5E95DC895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8107B-8478-4087-88F7-4E9D65F3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61D97-970C-465D-A434-CDB2DA047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A1F03-A65F-4A81-8260-8064D7EA6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DB0B6-83CD-4068-BFC2-612060CF8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3A1B0-BBDF-4343-9239-5F6720D80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0EC8-8A01-495F-BEF9-834122DA2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4013-B0CC-44BD-8FAA-BB32E7A5C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67C0-5D3C-4988-8E21-99938750D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9558-68C4-46BC-A73B-914AC94AF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5995-5FC1-4FEE-A9DC-3758EC33E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697A-F7F7-4860-B2B0-B12F1AEDE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E30D-166C-4FAA-8AB5-DD34F1E8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3B477-34C5-4D09-B1BE-E1F7F5D5C3C3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59BD3-BA9A-4042-A168-D056350F7700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42000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МОУ Новобуянская СОШ</a:t>
            </a:r>
            <a:br>
              <a:rPr sz="20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Бурматнова Ольга Алексеевна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               </a:t>
            </a:r>
            <a:r>
              <a:rPr b="1" lang="ru-RU" sz="1800" spc="-1" strike="noStrike">
                <a:solidFill>
                  <a:srgbClr val="006666"/>
                </a:solidFill>
                <a:latin typeface="Arial"/>
              </a:rPr>
              <a:t>учитель географии</a:t>
            </a:r>
            <a:br>
              <a:rPr sz="1800"/>
            </a:b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нтегрированный урок географии и биологи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Arial"/>
              </a:rPr>
              <a:t>« Я- человек, я – посредине мира»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2"/>
          <p:cNvSpPr txBox="1"/>
          <p:nvPr/>
        </p:nvSpPr>
        <p:spPr>
          <a:xfrm>
            <a:off x="755640" y="620640"/>
            <a:ext cx="7489800" cy="7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Экологическая размин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1764720" y="1913040"/>
            <a:ext cx="5603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3300"/>
                </a:solidFill>
                <a:latin typeface="Times New Roman"/>
              </a:rPr>
              <a:t>Антропогенный 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3300"/>
                </a:solidFill>
                <a:latin typeface="Times New Roman"/>
              </a:rPr>
              <a:t>фактор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1501560" y="3843360"/>
            <a:ext cx="6182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Это воздействие человека на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экосистему, приводящее к ее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изменению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2"/>
          <p:cNvSpPr txBox="1"/>
          <p:nvPr/>
        </p:nvSpPr>
        <p:spPr>
          <a:xfrm>
            <a:off x="755640" y="620640"/>
            <a:ext cx="7489800" cy="7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Экологическая размин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1694880" y="1940040"/>
            <a:ext cx="2203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3300"/>
                </a:solidFill>
                <a:latin typeface="Times New Roman"/>
              </a:rPr>
              <a:t>Гумус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1403280" y="3357720"/>
            <a:ext cx="7167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Это детрит, главное вещество почв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692360" y="2276640"/>
            <a:ext cx="460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3300"/>
                </a:solidFill>
                <a:latin typeface="Times New Roman"/>
              </a:rPr>
              <a:t>Биосфера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WordArt 3"/>
          <p:cNvSpPr txBox="1"/>
          <p:nvPr/>
        </p:nvSpPr>
        <p:spPr>
          <a:xfrm>
            <a:off x="755640" y="620640"/>
            <a:ext cx="7489800" cy="7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Экологическая размин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1619640" y="3684600"/>
            <a:ext cx="5298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Это оболочка планеты,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заселенная организмами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2"/>
          <p:cNvSpPr txBox="1"/>
          <p:nvPr/>
        </p:nvSpPr>
        <p:spPr>
          <a:xfrm>
            <a:off x="755640" y="620640"/>
            <a:ext cx="7489800" cy="7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Экологическая размин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950760" y="1844640"/>
            <a:ext cx="4015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3300"/>
                </a:solidFill>
                <a:latin typeface="Times New Roman"/>
              </a:rPr>
              <a:t>Экосистема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1116000" y="3357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900000" y="3284640"/>
            <a:ext cx="7724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Это любая совокупность взаимодействующих организмов и условий сред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WordArt 4"/>
          <p:cNvSpPr txBox="1"/>
          <p:nvPr/>
        </p:nvSpPr>
        <p:spPr>
          <a:xfrm>
            <a:off x="1116000" y="981000"/>
            <a:ext cx="7488360" cy="7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Экипажи на задани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0" name="Picture 8" descr="Space__001504_1"/>
          <p:cNvPicPr/>
          <p:nvPr/>
        </p:nvPicPr>
        <p:blipFill>
          <a:blip r:embed="rId1"/>
          <a:stretch/>
        </p:blipFill>
        <p:spPr>
          <a:xfrm>
            <a:off x="1116000" y="2349360"/>
            <a:ext cx="7404120" cy="431964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9"/>
          <p:cNvSpPr/>
          <p:nvPr/>
        </p:nvSpPr>
        <p:spPr>
          <a:xfrm>
            <a:off x="3714120" y="136440"/>
            <a:ext cx="426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99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99cc99"/>
                </a:solidFill>
                <a:latin typeface="Arial"/>
              </a:rPr>
              <a:t> космическая станц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космическая пыль.mp3" descr=""/>
          <p:cNvPicPr/>
          <p:nvPr/>
        </p:nvPicPr>
        <p:blipFill>
          <a:blip r:embed="rId2"/>
          <a:stretch/>
        </p:blipFill>
        <p:spPr>
          <a:xfrm>
            <a:off x="817236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346880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WordArt 2"/>
          <p:cNvSpPr txBox="1"/>
          <p:nvPr/>
        </p:nvSpPr>
        <p:spPr>
          <a:xfrm>
            <a:off x="1116000" y="981000"/>
            <a:ext cx="7488360" cy="7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Экипажи на задани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4" name="Picture 3" descr="Space__001504_1"/>
          <p:cNvPicPr/>
          <p:nvPr/>
        </p:nvPicPr>
        <p:blipFill>
          <a:blip r:embed="rId1"/>
          <a:stretch/>
        </p:blipFill>
        <p:spPr>
          <a:xfrm>
            <a:off x="1116000" y="2349360"/>
            <a:ext cx="7404120" cy="431964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4"/>
          <p:cNvSpPr/>
          <p:nvPr/>
        </p:nvSpPr>
        <p:spPr>
          <a:xfrm>
            <a:off x="3714120" y="136440"/>
            <a:ext cx="426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99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99cc99"/>
                </a:solidFill>
                <a:latin typeface="Arial"/>
              </a:rPr>
              <a:t> космическая станц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1475280" y="5084640"/>
            <a:ext cx="350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 ст 1 экипаж.doc2 ст. 1 экипаж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1474920" y="5516640"/>
            <a:ext cx="35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2 ст. 2 экипаж.doc ст. 2 экипаж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1617840" y="5877000"/>
            <a:ext cx="35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 ст. 3 экипаж.doc2 ст. 3 экипаж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WordArt 2"/>
          <p:cNvSpPr txBox="1"/>
          <p:nvPr/>
        </p:nvSpPr>
        <p:spPr>
          <a:xfrm>
            <a:off x="1258920" y="981000"/>
            <a:ext cx="717228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озвращение  в лоно природ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835280" y="5603760"/>
            <a:ext cx="62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ahoma"/>
              </a:rPr>
              <a:t>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ahoma"/>
              </a:rPr>
              <a:t>           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3564000" y="18900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99"/>
                </a:solidFill>
                <a:latin typeface="Arial"/>
              </a:rPr>
              <a:t>3</a:t>
            </a:r>
            <a:r>
              <a:rPr b="1" lang="ru-RU" sz="3200" spc="-1" strike="noStrike">
                <a:solidFill>
                  <a:srgbClr val="99cc99"/>
                </a:solidFill>
                <a:latin typeface="Arial"/>
              </a:rPr>
              <a:t> космическая станция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2" name="космическая прогулка.mp3" descr=""/>
          <p:cNvPicPr/>
          <p:nvPr/>
        </p:nvPicPr>
        <p:blipFill>
          <a:blip r:embed="rId1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0" descr=""/>
          <p:cNvPicPr/>
          <p:nvPr/>
        </p:nvPicPr>
        <p:blipFill>
          <a:blip r:embed="rId2"/>
          <a:stretch/>
        </p:blipFill>
        <p:spPr>
          <a:xfrm>
            <a:off x="900000" y="2349360"/>
            <a:ext cx="7344000" cy="42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224413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WordArt 2"/>
          <p:cNvSpPr txBox="1"/>
          <p:nvPr/>
        </p:nvSpPr>
        <p:spPr>
          <a:xfrm>
            <a:off x="1258920" y="981000"/>
            <a:ext cx="717228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озвращение  в лоно природ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835280" y="5603760"/>
            <a:ext cx="62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ahoma"/>
              </a:rPr>
              <a:t>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ahoma"/>
              </a:rPr>
              <a:t>           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3564000" y="18900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99"/>
                </a:solidFill>
                <a:latin typeface="Arial"/>
              </a:rPr>
              <a:t>3</a:t>
            </a:r>
            <a:r>
              <a:rPr b="1" lang="ru-RU" sz="3200" spc="-1" strike="noStrike">
                <a:solidFill>
                  <a:srgbClr val="99cc99"/>
                </a:solidFill>
                <a:latin typeface="Arial"/>
              </a:rPr>
              <a:t> космическая станция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7" name="Picture 6" descr=""/>
          <p:cNvPicPr/>
          <p:nvPr/>
        </p:nvPicPr>
        <p:blipFill>
          <a:blip r:embed="rId1"/>
          <a:stretch/>
        </p:blipFill>
        <p:spPr>
          <a:xfrm>
            <a:off x="900000" y="2349360"/>
            <a:ext cx="7344000" cy="42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1327680" y="297360"/>
            <a:ext cx="7707240" cy="149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cc99"/>
                </a:solidFill>
                <a:latin typeface="Arial"/>
              </a:rPr>
              <a:t>                       </a:t>
            </a:r>
            <a:br>
              <a:rPr sz="3600"/>
            </a:br>
            <a:r>
              <a:rPr b="1" lang="ru-RU" sz="3600" spc="-1" strike="noStrike">
                <a:solidFill>
                  <a:srgbClr val="99cc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99cc99"/>
                </a:solidFill>
                <a:latin typeface="Arial"/>
              </a:rPr>
              <a:t>4 космическая станц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WordArt 3"/>
          <p:cNvSpPr txBox="1"/>
          <p:nvPr/>
        </p:nvSpPr>
        <p:spPr>
          <a:xfrm>
            <a:off x="1187280" y="2492280"/>
            <a:ext cx="655344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Экологические факт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0" name="02-dzheims_last_-_odinokii_pastuh.mp3" descr=""/>
          <p:cNvPicPr/>
          <p:nvPr/>
        </p:nvPicPr>
        <p:blipFill>
          <a:blip r:embed="rId1"/>
          <a:stretch/>
        </p:blipFill>
        <p:spPr>
          <a:xfrm>
            <a:off x="8532720" y="6381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7"/>
          <p:cNvSpPr/>
          <p:nvPr/>
        </p:nvSpPr>
        <p:spPr>
          <a:xfrm>
            <a:off x="1185840" y="4149720"/>
            <a:ext cx="35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4 ст. 14 ст. 1 экипаж.doc экипаж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1185840" y="4508640"/>
            <a:ext cx="337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4 ст.2 экипаж.doc ст. 2 экипаж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1185840" y="4869000"/>
            <a:ext cx="35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4 ст. 4 ст. 3 экипаж.doc3 экипаж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1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5" descr="de24$003"/>
          <p:cNvPicPr/>
          <p:nvPr/>
        </p:nvPicPr>
        <p:blipFill>
          <a:blip r:embed="rId1"/>
          <a:stretch/>
        </p:blipFill>
        <p:spPr>
          <a:xfrm>
            <a:off x="250920" y="189000"/>
            <a:ext cx="8569080" cy="6391080"/>
          </a:xfrm>
          <a:prstGeom prst="rect">
            <a:avLst/>
          </a:prstGeom>
          <a:ln w="0">
            <a:noFill/>
          </a:ln>
        </p:spPr>
      </p:pic>
      <p:sp>
        <p:nvSpPr>
          <p:cNvPr id="155" name="Ink 3"/>
          <p:cNvSpPr/>
          <p:nvPr/>
        </p:nvSpPr>
        <p:spPr>
          <a:xfrm>
            <a:off x="4357800" y="1535040"/>
            <a:ext cx="187200" cy="501840"/>
          </a:xfrm>
          <a:custGeom>
            <a:avLst/>
            <a:gdLst/>
            <a:ahLst/>
            <a:rect l="l" t="t" r="r" b="b"/>
            <a:pathLst>
              <a:path w="522" h="1390">
                <a:moveTo>
                  <a:pt x="12105" y="4812"/>
                </a:moveTo>
                <a:cubicBezTo>
                  <a:pt x="12149" y="4790"/>
                  <a:pt x="12204" y="4763"/>
                  <a:pt x="12254" y="4738"/>
                </a:cubicBezTo>
                <a:cubicBezTo>
                  <a:pt x="12325" y="4702"/>
                  <a:pt x="12379" y="4650"/>
                  <a:pt x="12452" y="4614"/>
                </a:cubicBezTo>
                <a:cubicBezTo>
                  <a:pt x="12510" y="4585"/>
                  <a:pt x="12478" y="4589"/>
                  <a:pt x="12502" y="4539"/>
                </a:cubicBezTo>
                <a:cubicBezTo>
                  <a:pt x="12504" y="4534"/>
                  <a:pt x="12516" y="4485"/>
                  <a:pt x="12526" y="4465"/>
                </a:cubicBezTo>
                <a:cubicBezTo>
                  <a:pt x="12536" y="4446"/>
                  <a:pt x="12538" y="4410"/>
                  <a:pt x="12551" y="4366"/>
                </a:cubicBezTo>
                <a:cubicBezTo>
                  <a:pt x="12562" y="4331"/>
                  <a:pt x="12564" y="4231"/>
                  <a:pt x="12576" y="4266"/>
                </a:cubicBezTo>
                <a:cubicBezTo>
                  <a:pt x="12587" y="4299"/>
                  <a:pt x="12576" y="4355"/>
                  <a:pt x="12576" y="4390"/>
                </a:cubicBezTo>
                <a:cubicBezTo>
                  <a:pt x="12647" y="4426"/>
                  <a:pt x="12616" y="4392"/>
                  <a:pt x="12626" y="4490"/>
                </a:cubicBezTo>
                <a:cubicBezTo>
                  <a:pt x="12662" y="4844"/>
                  <a:pt x="12626" y="5358"/>
                  <a:pt x="12626" y="56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Ink 4"/>
          <p:cNvSpPr/>
          <p:nvPr/>
        </p:nvSpPr>
        <p:spPr>
          <a:xfrm>
            <a:off x="5081760" y="1571760"/>
            <a:ext cx="187200" cy="473040"/>
          </a:xfrm>
          <a:custGeom>
            <a:avLst/>
            <a:gdLst/>
            <a:ahLst/>
            <a:rect l="l" t="t" r="r" b="b"/>
            <a:pathLst>
              <a:path w="522" h="1315">
                <a:moveTo>
                  <a:pt x="14114" y="4366"/>
                </a:moveTo>
                <a:cubicBezTo>
                  <a:pt x="14221" y="4366"/>
                  <a:pt x="14329" y="4366"/>
                  <a:pt x="14436" y="4366"/>
                </a:cubicBezTo>
                <a:cubicBezTo>
                  <a:pt x="14436" y="4469"/>
                  <a:pt x="14474" y="4684"/>
                  <a:pt x="14412" y="4762"/>
                </a:cubicBezTo>
                <a:cubicBezTo>
                  <a:pt x="14375" y="4809"/>
                  <a:pt x="14396" y="4805"/>
                  <a:pt x="14337" y="4812"/>
                </a:cubicBezTo>
                <a:cubicBezTo>
                  <a:pt x="14326" y="4813"/>
                  <a:pt x="14221" y="4812"/>
                  <a:pt x="14288" y="4812"/>
                </a:cubicBezTo>
                <a:cubicBezTo>
                  <a:pt x="14395" y="4812"/>
                  <a:pt x="14503" y="4812"/>
                  <a:pt x="14610" y="4812"/>
                </a:cubicBezTo>
                <a:cubicBezTo>
                  <a:pt x="14616" y="4853"/>
                  <a:pt x="14629" y="4873"/>
                  <a:pt x="14635" y="4911"/>
                </a:cubicBezTo>
                <a:cubicBezTo>
                  <a:pt x="14672" y="5129"/>
                  <a:pt x="14635" y="5385"/>
                  <a:pt x="14635" y="5606"/>
                </a:cubicBezTo>
                <a:cubicBezTo>
                  <a:pt x="14582" y="5614"/>
                  <a:pt x="14577" y="5614"/>
                  <a:pt x="14536" y="5655"/>
                </a:cubicBezTo>
                <a:cubicBezTo>
                  <a:pt x="14502" y="5689"/>
                  <a:pt x="14482" y="5677"/>
                  <a:pt x="14436" y="5680"/>
                </a:cubicBezTo>
                <a:cubicBezTo>
                  <a:pt x="14379" y="5683"/>
                  <a:pt x="14320" y="5680"/>
                  <a:pt x="14263" y="5680"/>
                </a:cubicBezTo>
                <a:cubicBezTo>
                  <a:pt x="14257" y="5631"/>
                  <a:pt x="14270" y="5621"/>
                  <a:pt x="14238" y="5581"/>
                </a:cubicBezTo>
                <a:cubicBezTo>
                  <a:pt x="14216" y="5554"/>
                  <a:pt x="14231" y="5543"/>
                  <a:pt x="14213" y="5507"/>
                </a:cubicBezTo>
                <a:cubicBezTo>
                  <a:pt x="14196" y="5473"/>
                  <a:pt x="14191" y="5482"/>
                  <a:pt x="14188" y="5432"/>
                </a:cubicBezTo>
                <a:cubicBezTo>
                  <a:pt x="14187" y="5408"/>
                  <a:pt x="14188" y="5382"/>
                  <a:pt x="14188" y="535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Ink 5"/>
          <p:cNvSpPr/>
          <p:nvPr/>
        </p:nvSpPr>
        <p:spPr>
          <a:xfrm>
            <a:off x="1347840" y="1473120"/>
            <a:ext cx="216000" cy="438120"/>
          </a:xfrm>
          <a:custGeom>
            <a:avLst/>
            <a:gdLst/>
            <a:ahLst/>
            <a:rect l="l" t="t" r="r" b="b"/>
            <a:pathLst>
              <a:path w="596" h="1216">
                <a:moveTo>
                  <a:pt x="4266" y="4093"/>
                </a:moveTo>
                <a:cubicBezTo>
                  <a:pt x="4291" y="4093"/>
                  <a:pt x="4299" y="4093"/>
                  <a:pt x="4316" y="4093"/>
                </a:cubicBezTo>
                <a:cubicBezTo>
                  <a:pt x="4316" y="4498"/>
                  <a:pt x="4316" y="4903"/>
                  <a:pt x="4316" y="5308"/>
                </a:cubicBezTo>
              </a:path>
              <a:path w="596" h="1216">
                <a:moveTo>
                  <a:pt x="3746" y="4192"/>
                </a:moveTo>
                <a:cubicBezTo>
                  <a:pt x="3770" y="4192"/>
                  <a:pt x="3779" y="4192"/>
                  <a:pt x="3795" y="4192"/>
                </a:cubicBezTo>
                <a:cubicBezTo>
                  <a:pt x="3795" y="4440"/>
                  <a:pt x="3795" y="4688"/>
                  <a:pt x="3795" y="4936"/>
                </a:cubicBezTo>
                <a:cubicBezTo>
                  <a:pt x="3977" y="4936"/>
                  <a:pt x="4159" y="4936"/>
                  <a:pt x="4341" y="49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Ink 6"/>
          <p:cNvSpPr/>
          <p:nvPr/>
        </p:nvSpPr>
        <p:spPr>
          <a:xfrm>
            <a:off x="5438880" y="6296040"/>
            <a:ext cx="285480" cy="276120"/>
          </a:xfrm>
          <a:custGeom>
            <a:avLst/>
            <a:gdLst/>
            <a:ahLst/>
            <a:rect l="l" t="t" r="r" b="b"/>
            <a:pathLst>
              <a:path w="795" h="770">
                <a:moveTo>
                  <a:pt x="15280" y="17686"/>
                </a:moveTo>
                <a:cubicBezTo>
                  <a:pt x="15280" y="17731"/>
                  <a:pt x="15260" y="17744"/>
                  <a:pt x="15255" y="17785"/>
                </a:cubicBezTo>
                <a:cubicBezTo>
                  <a:pt x="15250" y="17834"/>
                  <a:pt x="15241" y="17838"/>
                  <a:pt x="15230" y="17859"/>
                </a:cubicBezTo>
                <a:cubicBezTo>
                  <a:pt x="15214" y="17891"/>
                  <a:pt x="15205" y="17919"/>
                  <a:pt x="15205" y="17959"/>
                </a:cubicBezTo>
                <a:cubicBezTo>
                  <a:pt x="15205" y="17984"/>
                  <a:pt x="15205" y="18008"/>
                  <a:pt x="15205" y="18033"/>
                </a:cubicBezTo>
                <a:cubicBezTo>
                  <a:pt x="15240" y="18021"/>
                  <a:pt x="15234" y="17979"/>
                  <a:pt x="15280" y="17959"/>
                </a:cubicBezTo>
                <a:cubicBezTo>
                  <a:pt x="15314" y="17944"/>
                  <a:pt x="15340" y="17925"/>
                  <a:pt x="15354" y="17884"/>
                </a:cubicBezTo>
                <a:cubicBezTo>
                  <a:pt x="15364" y="17855"/>
                  <a:pt x="15388" y="17839"/>
                  <a:pt x="15429" y="17835"/>
                </a:cubicBezTo>
                <a:cubicBezTo>
                  <a:pt x="15493" y="17828"/>
                  <a:pt x="15546" y="17844"/>
                  <a:pt x="15577" y="17859"/>
                </a:cubicBezTo>
                <a:cubicBezTo>
                  <a:pt x="15641" y="17890"/>
                  <a:pt x="15594" y="17849"/>
                  <a:pt x="15627" y="17909"/>
                </a:cubicBezTo>
                <a:cubicBezTo>
                  <a:pt x="15650" y="17950"/>
                  <a:pt x="15652" y="17957"/>
                  <a:pt x="15652" y="18008"/>
                </a:cubicBezTo>
                <a:cubicBezTo>
                  <a:pt x="15652" y="18060"/>
                  <a:pt x="15679" y="18230"/>
                  <a:pt x="15627" y="18256"/>
                </a:cubicBezTo>
                <a:cubicBezTo>
                  <a:pt x="15513" y="18312"/>
                  <a:pt x="15237" y="18256"/>
                  <a:pt x="15106" y="18256"/>
                </a:cubicBezTo>
              </a:path>
              <a:path w="795" h="770">
                <a:moveTo>
                  <a:pt x="15354" y="17636"/>
                </a:moveTo>
                <a:cubicBezTo>
                  <a:pt x="15354" y="17586"/>
                  <a:pt x="15354" y="17537"/>
                  <a:pt x="15354" y="17487"/>
                </a:cubicBezTo>
                <a:cubicBezTo>
                  <a:pt x="15536" y="17487"/>
                  <a:pt x="15718" y="17487"/>
                  <a:pt x="15900" y="1748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Ink 7"/>
          <p:cNvSpPr/>
          <p:nvPr/>
        </p:nvSpPr>
        <p:spPr>
          <a:xfrm>
            <a:off x="6402240" y="1990800"/>
            <a:ext cx="206640" cy="465120"/>
          </a:xfrm>
          <a:custGeom>
            <a:avLst/>
            <a:gdLst/>
            <a:ahLst/>
            <a:rect l="l" t="t" r="r" b="b"/>
            <a:pathLst>
              <a:path w="571" h="1291">
                <a:moveTo>
                  <a:pt x="17785" y="5631"/>
                </a:moveTo>
                <a:cubicBezTo>
                  <a:pt x="17785" y="5598"/>
                  <a:pt x="17785" y="5564"/>
                  <a:pt x="17785" y="5531"/>
                </a:cubicBezTo>
              </a:path>
              <a:path w="571" h="1291">
                <a:moveTo>
                  <a:pt x="17835" y="5705"/>
                </a:moveTo>
                <a:cubicBezTo>
                  <a:pt x="17835" y="5672"/>
                  <a:pt x="17835" y="5639"/>
                  <a:pt x="17835" y="5606"/>
                </a:cubicBezTo>
                <a:cubicBezTo>
                  <a:pt x="17883" y="5592"/>
                  <a:pt x="17870" y="5567"/>
                  <a:pt x="17909" y="5556"/>
                </a:cubicBezTo>
                <a:cubicBezTo>
                  <a:pt x="17952" y="5544"/>
                  <a:pt x="17951" y="5537"/>
                  <a:pt x="17983" y="5531"/>
                </a:cubicBezTo>
                <a:cubicBezTo>
                  <a:pt x="18062" y="5515"/>
                  <a:pt x="18143" y="5543"/>
                  <a:pt x="18207" y="5556"/>
                </a:cubicBezTo>
                <a:cubicBezTo>
                  <a:pt x="18243" y="5563"/>
                  <a:pt x="18313" y="5534"/>
                  <a:pt x="18331" y="5581"/>
                </a:cubicBezTo>
                <a:cubicBezTo>
                  <a:pt x="18370" y="5682"/>
                  <a:pt x="18352" y="6096"/>
                  <a:pt x="18306" y="6152"/>
                </a:cubicBezTo>
                <a:cubicBezTo>
                  <a:pt x="18282" y="6181"/>
                  <a:pt x="18283" y="6173"/>
                  <a:pt x="18231" y="6176"/>
                </a:cubicBezTo>
                <a:cubicBezTo>
                  <a:pt x="18148" y="6181"/>
                  <a:pt x="18023" y="6149"/>
                  <a:pt x="17959" y="6201"/>
                </a:cubicBezTo>
                <a:cubicBezTo>
                  <a:pt x="17934" y="6221"/>
                  <a:pt x="17923" y="6207"/>
                  <a:pt x="17884" y="6226"/>
                </a:cubicBezTo>
                <a:cubicBezTo>
                  <a:pt x="17849" y="6244"/>
                  <a:pt x="17853" y="6300"/>
                  <a:pt x="17835" y="6325"/>
                </a:cubicBezTo>
                <a:cubicBezTo>
                  <a:pt x="17807" y="6366"/>
                  <a:pt x="17829" y="6384"/>
                  <a:pt x="17810" y="6424"/>
                </a:cubicBezTo>
                <a:cubicBezTo>
                  <a:pt x="17790" y="6467"/>
                  <a:pt x="17788" y="6473"/>
                  <a:pt x="17785" y="6524"/>
                </a:cubicBezTo>
                <a:cubicBezTo>
                  <a:pt x="17779" y="6622"/>
                  <a:pt x="17785" y="6723"/>
                  <a:pt x="17785" y="6821"/>
                </a:cubicBezTo>
                <a:cubicBezTo>
                  <a:pt x="17975" y="6821"/>
                  <a:pt x="18165" y="6821"/>
                  <a:pt x="18355" y="68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Ink 8"/>
          <p:cNvSpPr/>
          <p:nvPr/>
        </p:nvSpPr>
        <p:spPr>
          <a:xfrm>
            <a:off x="4786200" y="57690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3295" y="16024"/>
                </a:moveTo>
                <a:lnTo>
                  <a:pt x="13295" y="16024"/>
                </a:ln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Ink 9"/>
          <p:cNvSpPr/>
          <p:nvPr/>
        </p:nvSpPr>
        <p:spPr>
          <a:xfrm>
            <a:off x="1535040" y="1919160"/>
            <a:ext cx="1800" cy="9720"/>
          </a:xfrm>
          <a:custGeom>
            <a:avLst/>
            <a:gdLst/>
            <a:ahLst/>
            <a:rect l="l" t="t" r="r" b="b"/>
            <a:pathLst>
              <a:path w="1" h="26">
                <a:moveTo>
                  <a:pt x="4266" y="5358"/>
                </a:moveTo>
                <a:cubicBezTo>
                  <a:pt x="4266" y="5350"/>
                  <a:pt x="4266" y="5341"/>
                  <a:pt x="4266" y="5333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Ink 10"/>
          <p:cNvSpPr/>
          <p:nvPr/>
        </p:nvSpPr>
        <p:spPr>
          <a:xfrm>
            <a:off x="1535040" y="1874880"/>
            <a:ext cx="1800" cy="19080"/>
          </a:xfrm>
          <a:custGeom>
            <a:avLst/>
            <a:gdLst/>
            <a:ahLst/>
            <a:rect l="l" t="t" r="r" b="b"/>
            <a:pathLst>
              <a:path w="1" h="51">
                <a:moveTo>
                  <a:pt x="4266" y="5259"/>
                </a:moveTo>
                <a:cubicBezTo>
                  <a:pt x="4266" y="5234"/>
                  <a:pt x="4266" y="5226"/>
                  <a:pt x="4266" y="5209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Ink 11"/>
          <p:cNvSpPr/>
          <p:nvPr/>
        </p:nvSpPr>
        <p:spPr>
          <a:xfrm>
            <a:off x="1535040" y="1847880"/>
            <a:ext cx="1800" cy="9360"/>
          </a:xfrm>
          <a:custGeom>
            <a:avLst/>
            <a:gdLst/>
            <a:ahLst/>
            <a:rect l="l" t="t" r="r" b="b"/>
            <a:pathLst>
              <a:path w="1" h="25">
                <a:moveTo>
                  <a:pt x="4266" y="5159"/>
                </a:moveTo>
                <a:cubicBezTo>
                  <a:pt x="4266" y="5151"/>
                  <a:pt x="4266" y="5143"/>
                  <a:pt x="4266" y="5135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Ink 12"/>
          <p:cNvSpPr/>
          <p:nvPr/>
        </p:nvSpPr>
        <p:spPr>
          <a:xfrm>
            <a:off x="1527120" y="1847880"/>
            <a:ext cx="9720" cy="1440"/>
          </a:xfrm>
          <a:custGeom>
            <a:avLst/>
            <a:gdLst/>
            <a:ahLst/>
            <a:rect l="l" t="t" r="r" b="b"/>
            <a:pathLst>
              <a:path w="25" h="1">
                <a:moveTo>
                  <a:pt x="4266" y="5135"/>
                </a:moveTo>
                <a:cubicBezTo>
                  <a:pt x="4258" y="5135"/>
                  <a:pt x="4250" y="5135"/>
                  <a:pt x="4242" y="5135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9" descr=""/>
          <p:cNvPicPr/>
          <p:nvPr/>
        </p:nvPicPr>
        <p:blipFill>
          <a:blip r:embed="rId1"/>
          <a:stretch/>
        </p:blipFill>
        <p:spPr>
          <a:xfrm>
            <a:off x="1332000" y="333360"/>
            <a:ext cx="6913440" cy="6200640"/>
          </a:xfrm>
          <a:prstGeom prst="rect">
            <a:avLst/>
          </a:prstGeom>
          <a:ln w="0">
            <a:noFill/>
          </a:ln>
        </p:spPr>
      </p:pic>
      <p:pic>
        <p:nvPicPr>
          <p:cNvPr id="98" name="1.wav" descr=""/>
          <p:cNvPicPr/>
          <p:nvPr/>
        </p:nvPicPr>
        <p:blipFill>
          <a:blip r:embed="rId2"/>
          <a:stretch/>
        </p:blipFill>
        <p:spPr>
          <a:xfrm>
            <a:off x="831708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38625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5" descr="de24$003"/>
          <p:cNvPicPr/>
          <p:nvPr/>
        </p:nvPicPr>
        <p:blipFill>
          <a:blip r:embed="rId1"/>
          <a:stretch/>
        </p:blipFill>
        <p:spPr>
          <a:xfrm>
            <a:off x="250920" y="189000"/>
            <a:ext cx="8569080" cy="6391080"/>
          </a:xfrm>
          <a:prstGeom prst="rect">
            <a:avLst/>
          </a:prstGeom>
          <a:ln w="0">
            <a:noFill/>
          </a:ln>
        </p:spPr>
      </p:pic>
      <p:sp>
        <p:nvSpPr>
          <p:cNvPr id="166" name="Ink 3"/>
          <p:cNvSpPr/>
          <p:nvPr/>
        </p:nvSpPr>
        <p:spPr>
          <a:xfrm>
            <a:off x="6634080" y="2241720"/>
            <a:ext cx="260280" cy="598320"/>
          </a:xfrm>
          <a:custGeom>
            <a:avLst/>
            <a:gdLst/>
            <a:ahLst/>
            <a:rect l="l" t="t" r="r" b="b"/>
            <a:pathLst>
              <a:path w="720" h="1663">
                <a:moveTo>
                  <a:pt x="18430" y="6648"/>
                </a:moveTo>
                <a:cubicBezTo>
                  <a:pt x="18430" y="6524"/>
                  <a:pt x="18430" y="6400"/>
                  <a:pt x="18430" y="6276"/>
                </a:cubicBezTo>
                <a:cubicBezTo>
                  <a:pt x="18475" y="6270"/>
                  <a:pt x="18489" y="6270"/>
                  <a:pt x="18529" y="6251"/>
                </a:cubicBezTo>
                <a:cubicBezTo>
                  <a:pt x="18549" y="6242"/>
                  <a:pt x="18555" y="6229"/>
                  <a:pt x="18604" y="6226"/>
                </a:cubicBezTo>
                <a:cubicBezTo>
                  <a:pt x="18661" y="6223"/>
                  <a:pt x="18720" y="6226"/>
                  <a:pt x="18777" y="6226"/>
                </a:cubicBezTo>
                <a:cubicBezTo>
                  <a:pt x="18777" y="6335"/>
                  <a:pt x="18788" y="6478"/>
                  <a:pt x="18802" y="6548"/>
                </a:cubicBezTo>
                <a:cubicBezTo>
                  <a:pt x="18820" y="6637"/>
                  <a:pt x="18842" y="7099"/>
                  <a:pt x="18777" y="7144"/>
                </a:cubicBezTo>
                <a:cubicBezTo>
                  <a:pt x="18721" y="7183"/>
                  <a:pt x="18645" y="7116"/>
                  <a:pt x="18604" y="7169"/>
                </a:cubicBezTo>
                <a:cubicBezTo>
                  <a:pt x="18582" y="7198"/>
                  <a:pt x="18563" y="7208"/>
                  <a:pt x="18554" y="7243"/>
                </a:cubicBezTo>
                <a:cubicBezTo>
                  <a:pt x="18505" y="7428"/>
                  <a:pt x="18554" y="7696"/>
                  <a:pt x="18554" y="7888"/>
                </a:cubicBezTo>
                <a:cubicBezTo>
                  <a:pt x="18752" y="7888"/>
                  <a:pt x="18951" y="7888"/>
                  <a:pt x="19149" y="78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Ink 4"/>
          <p:cNvSpPr/>
          <p:nvPr/>
        </p:nvSpPr>
        <p:spPr>
          <a:xfrm>
            <a:off x="1071720" y="1401840"/>
            <a:ext cx="179280" cy="544320"/>
          </a:xfrm>
          <a:custGeom>
            <a:avLst/>
            <a:gdLst/>
            <a:ahLst/>
            <a:rect l="l" t="t" r="r" b="b"/>
            <a:pathLst>
              <a:path w="497" h="1514">
                <a:moveTo>
                  <a:pt x="3125" y="3894"/>
                </a:moveTo>
                <a:cubicBezTo>
                  <a:pt x="3216" y="3894"/>
                  <a:pt x="3307" y="3894"/>
                  <a:pt x="3398" y="3894"/>
                </a:cubicBezTo>
                <a:cubicBezTo>
                  <a:pt x="3398" y="4066"/>
                  <a:pt x="3400" y="4282"/>
                  <a:pt x="3373" y="4415"/>
                </a:cubicBezTo>
                <a:cubicBezTo>
                  <a:pt x="3358" y="4491"/>
                  <a:pt x="3360" y="4426"/>
                  <a:pt x="3324" y="4465"/>
                </a:cubicBezTo>
                <a:cubicBezTo>
                  <a:pt x="3292" y="4500"/>
                  <a:pt x="3312" y="4510"/>
                  <a:pt x="3249" y="4514"/>
                </a:cubicBezTo>
                <a:cubicBezTo>
                  <a:pt x="3216" y="4516"/>
                  <a:pt x="3183" y="4514"/>
                  <a:pt x="3150" y="4514"/>
                </a:cubicBezTo>
                <a:cubicBezTo>
                  <a:pt x="3169" y="4527"/>
                  <a:pt x="3210" y="4540"/>
                  <a:pt x="3249" y="4564"/>
                </a:cubicBezTo>
                <a:cubicBezTo>
                  <a:pt x="3274" y="4579"/>
                  <a:pt x="3271" y="4586"/>
                  <a:pt x="3324" y="4589"/>
                </a:cubicBezTo>
                <a:cubicBezTo>
                  <a:pt x="3358" y="4591"/>
                  <a:pt x="3397" y="4614"/>
                  <a:pt x="3398" y="4614"/>
                </a:cubicBezTo>
                <a:cubicBezTo>
                  <a:pt x="3454" y="4625"/>
                  <a:pt x="3441" y="4604"/>
                  <a:pt x="3448" y="4663"/>
                </a:cubicBezTo>
                <a:cubicBezTo>
                  <a:pt x="3455" y="4717"/>
                  <a:pt x="3464" y="4767"/>
                  <a:pt x="3473" y="4812"/>
                </a:cubicBezTo>
                <a:cubicBezTo>
                  <a:pt x="3495" y="4924"/>
                  <a:pt x="3515" y="5301"/>
                  <a:pt x="3448" y="5383"/>
                </a:cubicBezTo>
                <a:cubicBezTo>
                  <a:pt x="3419" y="5419"/>
                  <a:pt x="3390" y="5405"/>
                  <a:pt x="3349" y="5407"/>
                </a:cubicBezTo>
                <a:cubicBezTo>
                  <a:pt x="3226" y="5414"/>
                  <a:pt x="3100" y="5407"/>
                  <a:pt x="2977" y="5407"/>
                </a:cubicBezTo>
                <a:cubicBezTo>
                  <a:pt x="2977" y="5374"/>
                  <a:pt x="2977" y="5341"/>
                  <a:pt x="2977" y="53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Ink 5"/>
          <p:cNvSpPr/>
          <p:nvPr/>
        </p:nvSpPr>
        <p:spPr>
          <a:xfrm>
            <a:off x="1768320" y="3786120"/>
            <a:ext cx="152640" cy="438120"/>
          </a:xfrm>
          <a:custGeom>
            <a:avLst/>
            <a:gdLst/>
            <a:ahLst/>
            <a:rect l="l" t="t" r="r" b="b"/>
            <a:pathLst>
              <a:path w="423" h="1217">
                <a:moveTo>
                  <a:pt x="4986" y="10542"/>
                </a:moveTo>
                <a:cubicBezTo>
                  <a:pt x="4999" y="10502"/>
                  <a:pt x="5034" y="10517"/>
                  <a:pt x="5085" y="10517"/>
                </a:cubicBezTo>
                <a:cubicBezTo>
                  <a:pt x="5168" y="10517"/>
                  <a:pt x="5250" y="10517"/>
                  <a:pt x="5333" y="10517"/>
                </a:cubicBezTo>
                <a:cubicBezTo>
                  <a:pt x="5333" y="10715"/>
                  <a:pt x="5333" y="10914"/>
                  <a:pt x="5333" y="11112"/>
                </a:cubicBezTo>
                <a:cubicBezTo>
                  <a:pt x="5235" y="11112"/>
                  <a:pt x="5144" y="11109"/>
                  <a:pt x="5060" y="11137"/>
                </a:cubicBezTo>
                <a:cubicBezTo>
                  <a:pt x="5051" y="11140"/>
                  <a:pt x="4942" y="11137"/>
                  <a:pt x="5011" y="11137"/>
                </a:cubicBezTo>
                <a:cubicBezTo>
                  <a:pt x="5071" y="11137"/>
                  <a:pt x="5273" y="11105"/>
                  <a:pt x="5308" y="11162"/>
                </a:cubicBezTo>
                <a:cubicBezTo>
                  <a:pt x="5371" y="11263"/>
                  <a:pt x="5308" y="11609"/>
                  <a:pt x="5308" y="11733"/>
                </a:cubicBezTo>
                <a:cubicBezTo>
                  <a:pt x="5176" y="11733"/>
                  <a:pt x="5043" y="11733"/>
                  <a:pt x="4911" y="1173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Ink 6"/>
          <p:cNvSpPr/>
          <p:nvPr/>
        </p:nvSpPr>
        <p:spPr>
          <a:xfrm>
            <a:off x="8178840" y="4670280"/>
            <a:ext cx="171360" cy="527040"/>
          </a:xfrm>
          <a:custGeom>
            <a:avLst/>
            <a:gdLst/>
            <a:ahLst/>
            <a:rect l="l" t="t" r="r" b="b"/>
            <a:pathLst>
              <a:path w="472" h="1464">
                <a:moveTo>
                  <a:pt x="22721" y="12973"/>
                </a:moveTo>
                <a:cubicBezTo>
                  <a:pt x="22721" y="13180"/>
                  <a:pt x="22721" y="13386"/>
                  <a:pt x="22721" y="13593"/>
                </a:cubicBezTo>
                <a:cubicBezTo>
                  <a:pt x="22870" y="13593"/>
                  <a:pt x="23019" y="13593"/>
                  <a:pt x="23168" y="13593"/>
                </a:cubicBezTo>
              </a:path>
              <a:path w="472" h="1464">
                <a:moveTo>
                  <a:pt x="23192" y="13097"/>
                </a:moveTo>
                <a:cubicBezTo>
                  <a:pt x="23192" y="13543"/>
                  <a:pt x="23192" y="13990"/>
                  <a:pt x="23192" y="144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Ink 7"/>
          <p:cNvSpPr/>
          <p:nvPr/>
        </p:nvSpPr>
        <p:spPr>
          <a:xfrm>
            <a:off x="4313160" y="2652840"/>
            <a:ext cx="142920" cy="571320"/>
          </a:xfrm>
          <a:custGeom>
            <a:avLst/>
            <a:gdLst/>
            <a:ahLst/>
            <a:rect l="l" t="t" r="r" b="b"/>
            <a:pathLst>
              <a:path w="398" h="1588">
                <a:moveTo>
                  <a:pt x="11981" y="8136"/>
                </a:moveTo>
                <a:cubicBezTo>
                  <a:pt x="12072" y="8136"/>
                  <a:pt x="12152" y="8127"/>
                  <a:pt x="12229" y="8111"/>
                </a:cubicBezTo>
                <a:cubicBezTo>
                  <a:pt x="12273" y="8102"/>
                  <a:pt x="12275" y="8108"/>
                  <a:pt x="12303" y="8086"/>
                </a:cubicBezTo>
                <a:cubicBezTo>
                  <a:pt x="12315" y="8077"/>
                  <a:pt x="12369" y="8044"/>
                  <a:pt x="12378" y="8012"/>
                </a:cubicBezTo>
                <a:cubicBezTo>
                  <a:pt x="12430" y="7830"/>
                  <a:pt x="12378" y="7559"/>
                  <a:pt x="12378" y="7367"/>
                </a:cubicBezTo>
                <a:cubicBezTo>
                  <a:pt x="12378" y="7896"/>
                  <a:pt x="12378" y="8425"/>
                  <a:pt x="12378" y="89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5" descr="de24$003"/>
          <p:cNvPicPr/>
          <p:nvPr/>
        </p:nvPicPr>
        <p:blipFill>
          <a:blip r:embed="rId1"/>
          <a:stretch/>
        </p:blipFill>
        <p:spPr>
          <a:xfrm>
            <a:off x="250920" y="189000"/>
            <a:ext cx="8569080" cy="6391080"/>
          </a:xfrm>
          <a:prstGeom prst="rect">
            <a:avLst/>
          </a:prstGeom>
          <a:ln w="0">
            <a:noFill/>
          </a:ln>
        </p:spPr>
      </p:pic>
      <p:sp>
        <p:nvSpPr>
          <p:cNvPr id="172" name="Ink 4"/>
          <p:cNvSpPr/>
          <p:nvPr/>
        </p:nvSpPr>
        <p:spPr>
          <a:xfrm>
            <a:off x="4545000" y="1527120"/>
            <a:ext cx="250920" cy="411120"/>
          </a:xfrm>
          <a:custGeom>
            <a:avLst/>
            <a:gdLst/>
            <a:ahLst/>
            <a:rect l="l" t="t" r="r" b="b"/>
            <a:pathLst>
              <a:path w="695" h="1142">
                <a:moveTo>
                  <a:pt x="12650" y="4341"/>
                </a:moveTo>
                <a:cubicBezTo>
                  <a:pt x="12691" y="4326"/>
                  <a:pt x="12708" y="4302"/>
                  <a:pt x="12750" y="4291"/>
                </a:cubicBezTo>
                <a:cubicBezTo>
                  <a:pt x="12797" y="4279"/>
                  <a:pt x="12790" y="4284"/>
                  <a:pt x="12824" y="4266"/>
                </a:cubicBezTo>
                <a:cubicBezTo>
                  <a:pt x="12855" y="4250"/>
                  <a:pt x="12884" y="4244"/>
                  <a:pt x="12923" y="4242"/>
                </a:cubicBezTo>
                <a:cubicBezTo>
                  <a:pt x="12948" y="4241"/>
                  <a:pt x="12973" y="4242"/>
                  <a:pt x="12998" y="4242"/>
                </a:cubicBezTo>
                <a:cubicBezTo>
                  <a:pt x="13003" y="4279"/>
                  <a:pt x="13004" y="4311"/>
                  <a:pt x="13022" y="4341"/>
                </a:cubicBezTo>
                <a:cubicBezTo>
                  <a:pt x="13037" y="4365"/>
                  <a:pt x="13044" y="4363"/>
                  <a:pt x="13047" y="4415"/>
                </a:cubicBezTo>
                <a:cubicBezTo>
                  <a:pt x="13054" y="4540"/>
                  <a:pt x="13081" y="4813"/>
                  <a:pt x="13022" y="4887"/>
                </a:cubicBezTo>
                <a:cubicBezTo>
                  <a:pt x="12993" y="4923"/>
                  <a:pt x="12964" y="4909"/>
                  <a:pt x="12923" y="4911"/>
                </a:cubicBezTo>
                <a:cubicBezTo>
                  <a:pt x="12825" y="4916"/>
                  <a:pt x="12725" y="4911"/>
                  <a:pt x="12626" y="4911"/>
                </a:cubicBezTo>
                <a:cubicBezTo>
                  <a:pt x="12626" y="5068"/>
                  <a:pt x="12626" y="5226"/>
                  <a:pt x="12626" y="5383"/>
                </a:cubicBezTo>
                <a:cubicBezTo>
                  <a:pt x="12857" y="5383"/>
                  <a:pt x="13089" y="5383"/>
                  <a:pt x="13320" y="538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Ink 5"/>
          <p:cNvSpPr/>
          <p:nvPr/>
        </p:nvSpPr>
        <p:spPr>
          <a:xfrm>
            <a:off x="4340160" y="2732040"/>
            <a:ext cx="303120" cy="608040"/>
          </a:xfrm>
          <a:custGeom>
            <a:avLst/>
            <a:gdLst/>
            <a:ahLst/>
            <a:rect l="l" t="t" r="r" b="b"/>
            <a:pathLst>
              <a:path w="844" h="1688">
                <a:moveTo>
                  <a:pt x="12055" y="8235"/>
                </a:moveTo>
                <a:cubicBezTo>
                  <a:pt x="12220" y="8235"/>
                  <a:pt x="12603" y="8308"/>
                  <a:pt x="12725" y="8210"/>
                </a:cubicBezTo>
                <a:cubicBezTo>
                  <a:pt x="12743" y="8195"/>
                  <a:pt x="12769" y="8134"/>
                  <a:pt x="12799" y="8111"/>
                </a:cubicBezTo>
                <a:cubicBezTo>
                  <a:pt x="12864" y="8061"/>
                  <a:pt x="12841" y="8085"/>
                  <a:pt x="12849" y="8012"/>
                </a:cubicBezTo>
                <a:cubicBezTo>
                  <a:pt x="12854" y="7965"/>
                  <a:pt x="12860" y="7932"/>
                  <a:pt x="12874" y="7888"/>
                </a:cubicBezTo>
                <a:cubicBezTo>
                  <a:pt x="12890" y="7840"/>
                  <a:pt x="12895" y="7821"/>
                  <a:pt x="12898" y="7764"/>
                </a:cubicBezTo>
                <a:cubicBezTo>
                  <a:pt x="12900" y="7728"/>
                  <a:pt x="12898" y="7569"/>
                  <a:pt x="12898" y="7615"/>
                </a:cubicBezTo>
                <a:cubicBezTo>
                  <a:pt x="12898" y="8169"/>
                  <a:pt x="12898" y="8723"/>
                  <a:pt x="12898" y="927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Ink 6"/>
          <p:cNvSpPr/>
          <p:nvPr/>
        </p:nvSpPr>
        <p:spPr>
          <a:xfrm>
            <a:off x="6680160" y="2232000"/>
            <a:ext cx="214200" cy="536760"/>
          </a:xfrm>
          <a:custGeom>
            <a:avLst/>
            <a:gdLst/>
            <a:ahLst/>
            <a:rect l="l" t="t" r="r" b="b"/>
            <a:pathLst>
              <a:path w="596" h="1489">
                <a:moveTo>
                  <a:pt x="18554" y="6276"/>
                </a:moveTo>
                <a:cubicBezTo>
                  <a:pt x="18615" y="6276"/>
                  <a:pt x="18649" y="6274"/>
                  <a:pt x="18678" y="6251"/>
                </a:cubicBezTo>
                <a:cubicBezTo>
                  <a:pt x="18714" y="6222"/>
                  <a:pt x="18754" y="6210"/>
                  <a:pt x="18802" y="6201"/>
                </a:cubicBezTo>
                <a:cubicBezTo>
                  <a:pt x="18857" y="6191"/>
                  <a:pt x="18885" y="6218"/>
                  <a:pt x="18926" y="6226"/>
                </a:cubicBezTo>
                <a:cubicBezTo>
                  <a:pt x="18988" y="6238"/>
                  <a:pt x="18996" y="6221"/>
                  <a:pt x="19000" y="6300"/>
                </a:cubicBezTo>
                <a:cubicBezTo>
                  <a:pt x="19006" y="6399"/>
                  <a:pt x="19021" y="6592"/>
                  <a:pt x="18976" y="6648"/>
                </a:cubicBezTo>
                <a:cubicBezTo>
                  <a:pt x="18952" y="6677"/>
                  <a:pt x="18953" y="6669"/>
                  <a:pt x="18901" y="6672"/>
                </a:cubicBezTo>
                <a:cubicBezTo>
                  <a:pt x="18836" y="6676"/>
                  <a:pt x="18769" y="6672"/>
                  <a:pt x="18703" y="6672"/>
                </a:cubicBezTo>
                <a:cubicBezTo>
                  <a:pt x="18754" y="6672"/>
                  <a:pt x="19053" y="6639"/>
                  <a:pt x="19075" y="6697"/>
                </a:cubicBezTo>
                <a:cubicBezTo>
                  <a:pt x="19104" y="6772"/>
                  <a:pt x="19052" y="6731"/>
                  <a:pt x="19124" y="6796"/>
                </a:cubicBezTo>
                <a:cubicBezTo>
                  <a:pt x="19160" y="6828"/>
                  <a:pt x="19147" y="6852"/>
                  <a:pt x="19149" y="6896"/>
                </a:cubicBezTo>
                <a:cubicBezTo>
                  <a:pt x="19164" y="7159"/>
                  <a:pt x="19149" y="7426"/>
                  <a:pt x="19149" y="7689"/>
                </a:cubicBezTo>
                <a:cubicBezTo>
                  <a:pt x="18975" y="7689"/>
                  <a:pt x="18802" y="7689"/>
                  <a:pt x="18628" y="7689"/>
                </a:cubicBezTo>
                <a:cubicBezTo>
                  <a:pt x="18623" y="7650"/>
                  <a:pt x="18610" y="7620"/>
                  <a:pt x="18604" y="7590"/>
                </a:cubicBezTo>
                <a:cubicBezTo>
                  <a:pt x="18598" y="7559"/>
                  <a:pt x="18600" y="7512"/>
                  <a:pt x="18579" y="7491"/>
                </a:cubicBezTo>
                <a:cubicBezTo>
                  <a:pt x="18571" y="7491"/>
                  <a:pt x="18562" y="7491"/>
                  <a:pt x="18554" y="74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Ink 7"/>
          <p:cNvSpPr/>
          <p:nvPr/>
        </p:nvSpPr>
        <p:spPr>
          <a:xfrm>
            <a:off x="8358120" y="4741920"/>
            <a:ext cx="214560" cy="500040"/>
          </a:xfrm>
          <a:custGeom>
            <a:avLst/>
            <a:gdLst/>
            <a:ahLst/>
            <a:rect l="l" t="t" r="r" b="b"/>
            <a:pathLst>
              <a:path w="596" h="1390">
                <a:moveTo>
                  <a:pt x="23217" y="13171"/>
                </a:moveTo>
                <a:cubicBezTo>
                  <a:pt x="23217" y="13452"/>
                  <a:pt x="23217" y="13734"/>
                  <a:pt x="23217" y="14015"/>
                </a:cubicBezTo>
                <a:cubicBezTo>
                  <a:pt x="23329" y="14015"/>
                  <a:pt x="23443" y="14023"/>
                  <a:pt x="23540" y="13990"/>
                </a:cubicBezTo>
                <a:cubicBezTo>
                  <a:pt x="23613" y="13965"/>
                  <a:pt x="23733" y="13990"/>
                  <a:pt x="23812" y="13990"/>
                </a:cubicBezTo>
              </a:path>
              <a:path w="596" h="1390">
                <a:moveTo>
                  <a:pt x="23812" y="13469"/>
                </a:moveTo>
                <a:cubicBezTo>
                  <a:pt x="23812" y="13833"/>
                  <a:pt x="23812" y="14196"/>
                  <a:pt x="23812" y="1456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Домашнее задание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дготовить сообщение об одной из экологических катастроф 21 век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Цель урока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нять необходимость знания экологических закономерностей для предотвращения исчезновения всего живого на Земл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4" descr="Лесные пожары в Калифорнии (16 Фото)"/>
          <p:cNvPicPr/>
          <p:nvPr/>
        </p:nvPicPr>
        <p:blipFill>
          <a:blip r:embed="rId1"/>
          <a:stretch/>
        </p:blipFill>
        <p:spPr>
          <a:xfrm>
            <a:off x="250920" y="404640"/>
            <a:ext cx="8497800" cy="597564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5"/>
          <p:cNvSpPr/>
          <p:nvPr/>
        </p:nvSpPr>
        <p:spPr>
          <a:xfrm>
            <a:off x="1686600" y="5491080"/>
            <a:ext cx="664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ы, человек, любя природу, хоть иногда ее жалей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mainpic" descr="В чистом поле васильки&#10;---------&#10; (кликните по изображению, чтобы открыть его в полный экран)"/>
          <p:cNvPicPr/>
          <p:nvPr/>
        </p:nvPicPr>
        <p:blipFill>
          <a:blip r:embed="rId1"/>
          <a:stretch/>
        </p:blipFill>
        <p:spPr>
          <a:xfrm>
            <a:off x="250920" y="404640"/>
            <a:ext cx="8569080" cy="604872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14"/>
          <p:cNvSpPr/>
          <p:nvPr/>
        </p:nvSpPr>
        <p:spPr>
          <a:xfrm>
            <a:off x="1901160" y="5589720"/>
            <a:ext cx="66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увеселительных походах не растопчи ее полей !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Лесные пожары в Калифорнии (16 Фото)"/>
          <p:cNvPicPr/>
          <p:nvPr/>
        </p:nvPicPr>
        <p:blipFill>
          <a:blip r:embed="rId1"/>
          <a:stretch/>
        </p:blipFill>
        <p:spPr>
          <a:xfrm>
            <a:off x="250920" y="476280"/>
            <a:ext cx="8497800" cy="604836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5"/>
          <p:cNvSpPr/>
          <p:nvPr/>
        </p:nvSpPr>
        <p:spPr>
          <a:xfrm>
            <a:off x="3419640" y="5661000"/>
            <a:ext cx="39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 жги ее напропалую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6" descr="озеро"/>
          <p:cNvPicPr/>
          <p:nvPr/>
        </p:nvPicPr>
        <p:blipFill>
          <a:blip r:embed="rId1"/>
          <a:stretch/>
        </p:blipFill>
        <p:spPr>
          <a:xfrm>
            <a:off x="250920" y="549360"/>
            <a:ext cx="8497800" cy="59101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7"/>
          <p:cNvSpPr/>
          <p:nvPr/>
        </p:nvSpPr>
        <p:spPr>
          <a:xfrm>
            <a:off x="1238040" y="5222880"/>
            <a:ext cx="335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не исчерпывай до дна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4" descr="Китай. Много людей (20 Фото)"/>
          <p:cNvPicPr/>
          <p:nvPr/>
        </p:nvPicPr>
        <p:blipFill>
          <a:blip r:embed="rId1"/>
          <a:stretch/>
        </p:blipFill>
        <p:spPr>
          <a:xfrm>
            <a:off x="250920" y="404640"/>
            <a:ext cx="8424720" cy="604872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5"/>
          <p:cNvSpPr/>
          <p:nvPr/>
        </p:nvSpPr>
        <p:spPr>
          <a:xfrm>
            <a:off x="1615320" y="5300640"/>
            <a:ext cx="3435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помни истину простую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с много, а она – одна!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Двое на берегу Вселенно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WordArt 3"/>
          <p:cNvSpPr txBox="1"/>
          <p:nvPr/>
        </p:nvSpPr>
        <p:spPr>
          <a:xfrm>
            <a:off x="179280" y="5516640"/>
            <a:ext cx="8713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 Я- человек, я- посредине мира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6" descr="Двое на берегу Вселенно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WordArt 7"/>
          <p:cNvSpPr txBox="1"/>
          <p:nvPr/>
        </p:nvSpPr>
        <p:spPr>
          <a:xfrm>
            <a:off x="179280" y="5516640"/>
            <a:ext cx="8713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 Я- человек, я- посредине мира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Двое на берегу Вселенно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WordArt 3"/>
          <p:cNvSpPr txBox="1"/>
          <p:nvPr/>
        </p:nvSpPr>
        <p:spPr>
          <a:xfrm>
            <a:off x="179280" y="5516640"/>
            <a:ext cx="8713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еловек - природа - экологи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Цель урока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нять необходимость знания экологических закономерностей для предотвращения исчезновения всего живого на Земл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Фантастические миры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космический полет.mp3" descr=""/>
          <p:cNvPicPr/>
          <p:nvPr/>
        </p:nvPicPr>
        <p:blipFill>
          <a:blip r:embed="rId2"/>
          <a:stretch/>
        </p:blipFill>
        <p:spPr>
          <a:xfrm>
            <a:off x="883908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41008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4"/>
          <p:cNvSpPr txBox="1"/>
          <p:nvPr/>
        </p:nvSpPr>
        <p:spPr>
          <a:xfrm>
            <a:off x="826920" y="1197000"/>
            <a:ext cx="7490160" cy="7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Экологическая размин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602360" y="2793960"/>
            <a:ext cx="676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Дать определения терминам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3468600" y="108000"/>
            <a:ext cx="485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cc99"/>
                </a:solidFill>
                <a:latin typeface="Arial"/>
              </a:rPr>
              <a:t>1 космическая станция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2"/>
          <p:cNvSpPr txBox="1"/>
          <p:nvPr/>
        </p:nvSpPr>
        <p:spPr>
          <a:xfrm>
            <a:off x="755640" y="620640"/>
            <a:ext cx="7489800" cy="7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Экологическая размин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954000" y="2060640"/>
            <a:ext cx="819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3300"/>
                </a:solidFill>
                <a:latin typeface="Times New Roman"/>
              </a:rPr>
              <a:t>Географическая среда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654120" y="3195720"/>
            <a:ext cx="8707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Это та часть земной природы, с которой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человеческое общество  взаимодействуе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в своей жизни и производственной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деятельности на данном этапе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исторического развития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WordArt 2"/>
          <p:cNvSpPr txBox="1"/>
          <p:nvPr/>
        </p:nvSpPr>
        <p:spPr>
          <a:xfrm>
            <a:off x="755640" y="620640"/>
            <a:ext cx="7489800" cy="7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Экологическая размин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630720" y="2084400"/>
            <a:ext cx="789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3300"/>
                </a:solidFill>
                <a:latin typeface="Times New Roman"/>
              </a:rPr>
              <a:t>Ресурсообеспеченность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634680" y="3500280"/>
            <a:ext cx="7558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Это соотношение между величиной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природных ресурсов  и размерами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их использования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8:06:31Z</dcterms:created>
  <dc:creator>Admin</dc:creator>
  <dc:description/>
  <dc:language>en-US</dc:language>
  <cp:lastModifiedBy>Ольга</cp:lastModifiedBy>
  <dcterms:modified xsi:type="dcterms:W3CDTF">2012-12-19T14:40:42Z</dcterms:modified>
  <cp:revision>23</cp:revision>
  <dc:subject/>
  <dc:title>Слайд 1</dc:title>
</cp:coreProperties>
</file>