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BC6-69AB-43B2-B411-39F141C9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92F4-6E3A-4076-A2AB-F147A7BF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075-FCE3-4014-85C2-7B4D709C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F05-949E-42E7-8001-BF477EA7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5EC8-6E3A-49B5-82C0-65BDD13B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DA14-2AD0-41E3-B36A-20ECF844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5DA3-9A7C-44B2-BD5F-C631E831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27D5-591B-4E10-8E5D-A7AD48DC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E0EA-C5C6-4A95-ADE3-FCA03149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673A-4E9C-43BD-AB81-3F8F32B8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F3D4-8393-4265-BFF1-C49576D4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2A9-C37E-46C7-8A91-9E6E8D57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F32C-F60C-4F32-8E86-1C6DF14A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42DB-3595-415E-A557-F5B60DFD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EB24-832B-4F79-8135-8FA6CE21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654E-8ABF-4094-B58F-A493CC6A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1F43-062B-4416-AF72-37EF56FE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E88-D0B5-452C-B351-5474B6D9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53A-160F-4F5F-8034-BB29D893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536-69CF-4EF8-87BB-CB3A79A7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956E-6956-44AB-B12B-8BAC2351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06C-86DF-47F2-9E2F-1CC06A0C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36D9-3F3A-4543-90B2-F818FF08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F60-CC27-4EC5-BA7E-C05ABD9E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1" name="Group 8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2" name="Group 9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3" name="Freeform 10"/>
                <p:cNvSpPr/>
                <p:nvPr/>
              </p:nvSpPr>
              <p:spPr>
                <a:xfrm>
                  <a:off x="2908080" y="4680"/>
                  <a:ext cx="331920" cy="68486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" name="Freeform 11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" name="Group 12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6" name="Freeform 13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" name="Freeform 14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" name="Group 15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9" name="Freeform 16"/>
                <p:cNvSpPr/>
                <p:nvPr/>
              </p:nvSpPr>
              <p:spPr>
                <a:xfrm>
                  <a:off x="1816200" y="6120"/>
                  <a:ext cx="585720" cy="415080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" name="Freeform 17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prstGeom prst="pie">
                  <a:avLst/>
                </a:pr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" name="Freeform 18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" name="Freeform 19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" name="Group 20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4" name="Freeform 21"/>
                <p:cNvSpPr/>
                <p:nvPr/>
              </p:nvSpPr>
              <p:spPr>
                <a:xfrm>
                  <a:off x="677880" y="4680"/>
                  <a:ext cx="63972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" name="Freeform 22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6" name="Group 23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7" name="Freeform 24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" name="Freeform 25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9" name="Freeform 26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0" name="Freeform 27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1" name="Freeform 28"/>
              <p:cNvSpPr/>
              <p:nvPr/>
            </p:nvSpPr>
            <p:spPr>
              <a:xfrm>
                <a:off x="5057640" y="3900240"/>
                <a:ext cx="1552680" cy="52704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2" name="Freeform 29"/>
              <p:cNvSpPr/>
              <p:nvPr/>
            </p:nvSpPr>
            <p:spPr>
              <a:xfrm rot="20854800">
                <a:off x="5227560" y="4335120"/>
                <a:ext cx="1120680" cy="1609560"/>
              </a:xfrm>
              <a:prstGeom prst="pie">
                <a:avLst/>
              </a:pr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3" name="Freeform 30"/>
              <p:cNvSpPr/>
              <p:nvPr/>
            </p:nvSpPr>
            <p:spPr>
              <a:xfrm>
                <a:off x="4748040" y="4713120"/>
                <a:ext cx="752760" cy="18478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24" name="Group 31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25" name="Freeform 32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6" name="Freeform 33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7" name="Freeform 34"/>
                <p:cNvSpPr/>
                <p:nvPr/>
              </p:nvSpPr>
              <p:spPr>
                <a:xfrm>
                  <a:off x="5020920" y="4680"/>
                  <a:ext cx="1552320" cy="527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8" name="Freeform 35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9" name="Freeform 36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0" name="Group 37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31" name="Freeform 38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2" name="Freeform 39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3" name="Freeform 40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4" name="Freeform 41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5" name="Freeform 42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6" name="Group 43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37" name="Freeform 44"/>
                <p:cNvSpPr/>
                <p:nvPr/>
              </p:nvSpPr>
              <p:spPr>
                <a:xfrm>
                  <a:off x="7419960" y="4680"/>
                  <a:ext cx="585720" cy="4145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8" name="Freeform 45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prstGeom prst="pie">
                  <a:avLst/>
                </a:pr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9" name="Freeform 46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0" name="Freeform 47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1" name="Group 48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42" name="Freeform 49"/>
                <p:cNvSpPr/>
                <p:nvPr/>
              </p:nvSpPr>
              <p:spPr>
                <a:xfrm>
                  <a:off x="5553000" y="15480"/>
                  <a:ext cx="660240" cy="683568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3" name="Freeform 50"/>
                <p:cNvSpPr/>
                <p:nvPr/>
              </p:nvSpPr>
              <p:spPr>
                <a:xfrm>
                  <a:off x="6040080" y="4680"/>
                  <a:ext cx="297000" cy="6838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4" name="Group 51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45" name="Freeform 52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6" name="Freeform 53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7" name="Freeform 54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48" name="Freeform 55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9" name="Freeform 56"/>
              <p:cNvSpPr/>
              <p:nvPr/>
            </p:nvSpPr>
            <p:spPr>
              <a:xfrm>
                <a:off x="8793000" y="915840"/>
                <a:ext cx="343080" cy="5796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0" name="Freeform 57"/>
              <p:cNvSpPr/>
              <p:nvPr/>
            </p:nvSpPr>
            <p:spPr>
              <a:xfrm>
                <a:off x="8526240" y="1093680"/>
                <a:ext cx="530280" cy="13003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51" name="Group 58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52" name="Freeform 59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3" name="Freeform 60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4" name="Freeform 61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5" name="Group 62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56" name="Freeform 63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7" name="Freeform 64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8" name="Freeform 65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59" name="Freeform 66"/>
              <p:cNvSpPr/>
              <p:nvPr/>
            </p:nvSpPr>
            <p:spPr>
              <a:xfrm rot="20854800">
                <a:off x="1295280" y="4991040"/>
                <a:ext cx="836640" cy="120024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0" name="Freeform 67"/>
              <p:cNvSpPr/>
              <p:nvPr/>
            </p:nvSpPr>
            <p:spPr>
              <a:xfrm>
                <a:off x="955440" y="5325840"/>
                <a:ext cx="560520" cy="13780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1" name="Freeform 68"/>
              <p:cNvSpPr/>
              <p:nvPr/>
            </p:nvSpPr>
            <p:spPr>
              <a:xfrm>
                <a:off x="1141200" y="4684680"/>
                <a:ext cx="1157400" cy="39348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2" name="Freeform 69"/>
              <p:cNvSpPr/>
              <p:nvPr/>
            </p:nvSpPr>
            <p:spPr>
              <a:xfrm>
                <a:off x="-3240" y="5208480"/>
                <a:ext cx="852480" cy="98280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3" name="Freeform 70"/>
              <p:cNvSpPr/>
              <p:nvPr/>
            </p:nvSpPr>
            <p:spPr>
              <a:xfrm>
                <a:off x="-3240" y="4867200"/>
                <a:ext cx="803160" cy="3841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4" name="Freeform 71"/>
              <p:cNvSpPr/>
              <p:nvPr/>
            </p:nvSpPr>
            <p:spPr>
              <a:xfrm rot="20854800">
                <a:off x="1284120" y="39600"/>
                <a:ext cx="836640" cy="120024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5" name="Freeform 72"/>
              <p:cNvSpPr/>
              <p:nvPr/>
            </p:nvSpPr>
            <p:spPr>
              <a:xfrm>
                <a:off x="944640" y="374400"/>
                <a:ext cx="560160" cy="13780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6" name="Freeform 73"/>
              <p:cNvSpPr/>
              <p:nvPr/>
            </p:nvSpPr>
            <p:spPr>
              <a:xfrm>
                <a:off x="1055520" y="4680"/>
                <a:ext cx="1397160" cy="1206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7" name="Freeform 74"/>
              <p:cNvSpPr/>
              <p:nvPr/>
            </p:nvSpPr>
            <p:spPr>
              <a:xfrm>
                <a:off x="-25560" y="260280"/>
                <a:ext cx="863640" cy="100656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8" name="Freeform 75"/>
              <p:cNvSpPr/>
              <p:nvPr/>
            </p:nvSpPr>
            <p:spPr>
              <a:xfrm>
                <a:off x="-3240" y="4680"/>
                <a:ext cx="792000" cy="2952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69" name="Group 76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70" name="Freeform 77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1" name="Freeform 78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2" name="Freeform 79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73" name="Group 80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74" name="Freeform 81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5" name="Freeform 82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6" name="Freeform 83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77" name="Freeform 84"/>
              <p:cNvSpPr/>
              <p:nvPr/>
            </p:nvSpPr>
            <p:spPr>
              <a:xfrm>
                <a:off x="4755960" y="5686200"/>
                <a:ext cx="1076400" cy="11718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8" name="Freeform 85"/>
              <p:cNvSpPr/>
              <p:nvPr/>
            </p:nvSpPr>
            <p:spPr>
              <a:xfrm rot="20854800">
                <a:off x="6339960" y="5365800"/>
                <a:ext cx="1157400" cy="16621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9" name="Freeform 86"/>
              <p:cNvSpPr/>
              <p:nvPr/>
            </p:nvSpPr>
            <p:spPr>
              <a:xfrm>
                <a:off x="5846760" y="5756040"/>
                <a:ext cx="749160" cy="11527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80" name="Group 87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81" name="Freeform 88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2" name="Freeform 89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3" name="Freeform 90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4" name="Freeform 91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5" name="Freeform 92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6" name="Group 93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87" name="Freeform 94"/>
                <p:cNvSpPr/>
                <p:nvPr/>
              </p:nvSpPr>
              <p:spPr>
                <a:xfrm>
                  <a:off x="236520" y="4680"/>
                  <a:ext cx="331920" cy="68486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8" name="Freeform 95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89" name="Rectangle 96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90" name="Rectangle 97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DE92-11E0-485E-B7A6-E8585F8232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97"/>
          <p:cNvGrpSpPr/>
          <p:nvPr/>
        </p:nvGrpSpPr>
        <p:grpSpPr>
          <a:xfrm>
            <a:off x="-25560" y="-56880"/>
            <a:ext cx="9163080" cy="7189920"/>
            <a:chOff x="-25560" y="-56880"/>
            <a:chExt cx="9163080" cy="7189920"/>
          </a:xfrm>
        </p:grpSpPr>
        <p:grpSp>
          <p:nvGrpSpPr>
            <p:cNvPr id="133" name="Group 98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134" name="Group 99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135" name="Freeform 100"/>
                <p:cNvSpPr/>
                <p:nvPr/>
              </p:nvSpPr>
              <p:spPr>
                <a:xfrm>
                  <a:off x="2908080" y="4680"/>
                  <a:ext cx="331920" cy="68486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6" name="Freeform 101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7" name="Group 102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138" name="Freeform 103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9" name="Freeform 104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0" name="Group 105"/>
              <p:cNvGrpSpPr/>
              <p:nvPr/>
            </p:nvGrpSpPr>
            <p:grpSpPr>
              <a:xfrm>
                <a:off x="1790640" y="6120"/>
                <a:ext cx="611280" cy="6849720"/>
                <a:chOff x="1790640" y="6120"/>
                <a:chExt cx="611280" cy="6849720"/>
              </a:xfrm>
            </p:grpSpPr>
            <p:sp>
              <p:nvSpPr>
                <p:cNvPr id="141" name="Freeform 106"/>
                <p:cNvSpPr/>
                <p:nvPr/>
              </p:nvSpPr>
              <p:spPr>
                <a:xfrm>
                  <a:off x="1816200" y="6120"/>
                  <a:ext cx="585720" cy="41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2" name="Freeform 107"/>
                <p:cNvSpPr/>
                <p:nvPr/>
              </p:nvSpPr>
              <p:spPr>
                <a:xfrm>
                  <a:off x="1960560" y="3461400"/>
                  <a:ext cx="398520" cy="619920"/>
                </a:xfrm>
                <a:prstGeom prst="pie">
                  <a:avLst/>
                </a:pr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3" name="Freeform 108"/>
                <p:cNvSpPr/>
                <p:nvPr/>
              </p:nvSpPr>
              <p:spPr>
                <a:xfrm>
                  <a:off x="1790640" y="4130640"/>
                  <a:ext cx="600120" cy="272520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4" name="Freeform 109"/>
                <p:cNvSpPr/>
                <p:nvPr/>
              </p:nvSpPr>
              <p:spPr>
                <a:xfrm>
                  <a:off x="1989000" y="4208760"/>
                  <a:ext cx="231840" cy="2448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5" name="Group 110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46" name="Freeform 111"/>
                <p:cNvSpPr/>
                <p:nvPr/>
              </p:nvSpPr>
              <p:spPr>
                <a:xfrm>
                  <a:off x="677880" y="4680"/>
                  <a:ext cx="63972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7" name="Freeform 112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8" name="Group 113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49" name="Freeform 114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0" name="Freeform 115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51" name="Freeform 116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2" name="Freeform 117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3" name="Freeform 118"/>
              <p:cNvSpPr/>
              <p:nvPr/>
            </p:nvSpPr>
            <p:spPr>
              <a:xfrm>
                <a:off x="5057640" y="3900240"/>
                <a:ext cx="1552680" cy="52704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4" name="Freeform 119"/>
              <p:cNvSpPr/>
              <p:nvPr/>
            </p:nvSpPr>
            <p:spPr>
              <a:xfrm rot="20854800">
                <a:off x="5227560" y="4335120"/>
                <a:ext cx="1120680" cy="1609560"/>
              </a:xfrm>
              <a:prstGeom prst="pie">
                <a:avLst/>
              </a:pr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5" name="Freeform 120"/>
              <p:cNvSpPr/>
              <p:nvPr/>
            </p:nvSpPr>
            <p:spPr>
              <a:xfrm>
                <a:off x="4748040" y="4713120"/>
                <a:ext cx="752760" cy="18478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56" name="Group 121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157" name="Freeform 122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8" name="Freeform 123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9" name="Freeform 124"/>
                <p:cNvSpPr/>
                <p:nvPr/>
              </p:nvSpPr>
              <p:spPr>
                <a:xfrm>
                  <a:off x="5020920" y="4680"/>
                  <a:ext cx="1552320" cy="527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0" name="Freeform 125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1" name="Freeform 126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62" name="Group 127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163" name="Freeform 128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4" name="Freeform 129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5" name="Freeform 130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6" name="Freeform 131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7" name="Freeform 132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68" name="Group 133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169" name="Freeform 134"/>
                <p:cNvSpPr/>
                <p:nvPr/>
              </p:nvSpPr>
              <p:spPr>
                <a:xfrm>
                  <a:off x="7419960" y="4680"/>
                  <a:ext cx="585720" cy="4145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0" name="Freeform 135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prstGeom prst="pie">
                  <a:avLst/>
                </a:pr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1" name="Freeform 136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2" name="Freeform 137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73" name="Group 138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174" name="Freeform 139"/>
                <p:cNvSpPr/>
                <p:nvPr/>
              </p:nvSpPr>
              <p:spPr>
                <a:xfrm>
                  <a:off x="5553000" y="15480"/>
                  <a:ext cx="660240" cy="683568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5" name="Freeform 140"/>
                <p:cNvSpPr/>
                <p:nvPr/>
              </p:nvSpPr>
              <p:spPr>
                <a:xfrm>
                  <a:off x="6040080" y="4680"/>
                  <a:ext cx="297000" cy="6838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76" name="Group 141"/>
              <p:cNvGrpSpPr/>
              <p:nvPr/>
            </p:nvGrpSpPr>
            <p:grpSpPr>
              <a:xfrm>
                <a:off x="4651560" y="1806480"/>
                <a:ext cx="3004560" cy="2403000"/>
                <a:chOff x="4651560" y="1806480"/>
                <a:chExt cx="3004560" cy="2403000"/>
              </a:xfrm>
            </p:grpSpPr>
            <p:sp>
              <p:nvSpPr>
                <p:cNvPr id="177" name="Freeform 142"/>
                <p:cNvSpPr/>
                <p:nvPr/>
              </p:nvSpPr>
              <p:spPr>
                <a:xfrm flipH="1" rot="21429000">
                  <a:off x="4691880" y="2240640"/>
                  <a:ext cx="1157400" cy="16621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8" name="Freeform 143"/>
                <p:cNvSpPr/>
                <p:nvPr/>
              </p:nvSpPr>
              <p:spPr>
                <a:xfrm rot="20854800">
                  <a:off x="6333120" y="1911240"/>
                  <a:ext cx="1157400" cy="16621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9" name="Freeform 144"/>
                <p:cNvSpPr/>
                <p:nvPr/>
              </p:nvSpPr>
              <p:spPr>
                <a:xfrm>
                  <a:off x="5838480" y="2301120"/>
                  <a:ext cx="776880" cy="19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80" name="Freeform 145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81" name="Freeform 146"/>
              <p:cNvSpPr/>
              <p:nvPr/>
            </p:nvSpPr>
            <p:spPr>
              <a:xfrm>
                <a:off x="8793000" y="915840"/>
                <a:ext cx="343080" cy="5796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82" name="Freeform 147"/>
              <p:cNvSpPr/>
              <p:nvPr/>
            </p:nvSpPr>
            <p:spPr>
              <a:xfrm>
                <a:off x="8526240" y="1093680"/>
                <a:ext cx="530280" cy="13003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83" name="Group 148"/>
              <p:cNvGrpSpPr/>
              <p:nvPr/>
            </p:nvGrpSpPr>
            <p:grpSpPr>
              <a:xfrm>
                <a:off x="6883920" y="4246560"/>
                <a:ext cx="2043360" cy="1635120"/>
                <a:chOff x="6883920" y="4246560"/>
                <a:chExt cx="2043360" cy="1635120"/>
              </a:xfrm>
            </p:grpSpPr>
            <p:sp>
              <p:nvSpPr>
                <p:cNvPr id="184" name="Freeform 149"/>
                <p:cNvSpPr/>
                <p:nvPr/>
              </p:nvSpPr>
              <p:spPr>
                <a:xfrm flipH="1" rot="21429000">
                  <a:off x="6911640" y="4541760"/>
                  <a:ext cx="786960" cy="11307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5" name="Freeform 150"/>
                <p:cNvSpPr/>
                <p:nvPr/>
              </p:nvSpPr>
              <p:spPr>
                <a:xfrm rot="20854800">
                  <a:off x="8028000" y="4317840"/>
                  <a:ext cx="786960" cy="11307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6" name="Freeform 151"/>
                <p:cNvSpPr/>
                <p:nvPr/>
              </p:nvSpPr>
              <p:spPr>
                <a:xfrm>
                  <a:off x="7691040" y="4583160"/>
                  <a:ext cx="528480" cy="12985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87" name="Group 152"/>
              <p:cNvGrpSpPr/>
              <p:nvPr/>
            </p:nvGrpSpPr>
            <p:grpSpPr>
              <a:xfrm>
                <a:off x="2324520" y="5473800"/>
                <a:ext cx="1587240" cy="1269720"/>
                <a:chOff x="2324520" y="5473800"/>
                <a:chExt cx="1587240" cy="1269720"/>
              </a:xfrm>
            </p:grpSpPr>
            <p:sp>
              <p:nvSpPr>
                <p:cNvPr id="188" name="Freeform 153"/>
                <p:cNvSpPr/>
                <p:nvPr/>
              </p:nvSpPr>
              <p:spPr>
                <a:xfrm flipH="1" rot="21429000">
                  <a:off x="2345400" y="5702760"/>
                  <a:ext cx="611280" cy="878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9" name="Freeform 154"/>
                <p:cNvSpPr/>
                <p:nvPr/>
              </p:nvSpPr>
              <p:spPr>
                <a:xfrm rot="20854800">
                  <a:off x="3213000" y="5528880"/>
                  <a:ext cx="611280" cy="878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90" name="Freeform 155"/>
                <p:cNvSpPr/>
                <p:nvPr/>
              </p:nvSpPr>
              <p:spPr>
                <a:xfrm>
                  <a:off x="2951280" y="5735160"/>
                  <a:ext cx="410400" cy="10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91" name="Freeform 156"/>
              <p:cNvSpPr/>
              <p:nvPr/>
            </p:nvSpPr>
            <p:spPr>
              <a:xfrm rot="20854800">
                <a:off x="1295280" y="4991040"/>
                <a:ext cx="836640" cy="120024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2" name="Freeform 157"/>
              <p:cNvSpPr/>
              <p:nvPr/>
            </p:nvSpPr>
            <p:spPr>
              <a:xfrm>
                <a:off x="955440" y="5325840"/>
                <a:ext cx="560520" cy="13780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3" name="Freeform 158"/>
              <p:cNvSpPr/>
              <p:nvPr/>
            </p:nvSpPr>
            <p:spPr>
              <a:xfrm>
                <a:off x="1141200" y="4684680"/>
                <a:ext cx="1157400" cy="39348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4" name="Freeform 159"/>
              <p:cNvSpPr/>
              <p:nvPr/>
            </p:nvSpPr>
            <p:spPr>
              <a:xfrm>
                <a:off x="-3240" y="5208480"/>
                <a:ext cx="852480" cy="98280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5" name="Freeform 160"/>
              <p:cNvSpPr/>
              <p:nvPr/>
            </p:nvSpPr>
            <p:spPr>
              <a:xfrm>
                <a:off x="-3240" y="4867200"/>
                <a:ext cx="803160" cy="3841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6" name="Freeform 161"/>
              <p:cNvSpPr/>
              <p:nvPr/>
            </p:nvSpPr>
            <p:spPr>
              <a:xfrm rot="20854800">
                <a:off x="1284120" y="39600"/>
                <a:ext cx="836640" cy="120024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7" name="Freeform 162"/>
              <p:cNvSpPr/>
              <p:nvPr/>
            </p:nvSpPr>
            <p:spPr>
              <a:xfrm>
                <a:off x="944640" y="374400"/>
                <a:ext cx="560160" cy="13780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8" name="Freeform 163"/>
              <p:cNvSpPr/>
              <p:nvPr/>
            </p:nvSpPr>
            <p:spPr>
              <a:xfrm>
                <a:off x="1055520" y="4680"/>
                <a:ext cx="1397160" cy="1206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9" name="Freeform 164"/>
              <p:cNvSpPr/>
              <p:nvPr/>
            </p:nvSpPr>
            <p:spPr>
              <a:xfrm>
                <a:off x="-25560" y="260280"/>
                <a:ext cx="863640" cy="100656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00" name="Freeform 165"/>
              <p:cNvSpPr/>
              <p:nvPr/>
            </p:nvSpPr>
            <p:spPr>
              <a:xfrm>
                <a:off x="-3240" y="4680"/>
                <a:ext cx="792000" cy="2952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201" name="Group 166"/>
              <p:cNvGrpSpPr/>
              <p:nvPr/>
            </p:nvGrpSpPr>
            <p:grpSpPr>
              <a:xfrm>
                <a:off x="2335680" y="3870360"/>
                <a:ext cx="1587240" cy="1269720"/>
                <a:chOff x="2335680" y="3870360"/>
                <a:chExt cx="1587240" cy="1269720"/>
              </a:xfrm>
            </p:grpSpPr>
            <p:sp>
              <p:nvSpPr>
                <p:cNvPr id="202" name="Freeform 167"/>
                <p:cNvSpPr/>
                <p:nvPr/>
              </p:nvSpPr>
              <p:spPr>
                <a:xfrm flipH="1" rot="21429000">
                  <a:off x="2356560" y="4099320"/>
                  <a:ext cx="611280" cy="878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3" name="Freeform 168"/>
                <p:cNvSpPr/>
                <p:nvPr/>
              </p:nvSpPr>
              <p:spPr>
                <a:xfrm rot="20854800">
                  <a:off x="3224160" y="3925440"/>
                  <a:ext cx="611280" cy="878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4" name="Freeform 169"/>
                <p:cNvSpPr/>
                <p:nvPr/>
              </p:nvSpPr>
              <p:spPr>
                <a:xfrm>
                  <a:off x="2962440" y="4131720"/>
                  <a:ext cx="410400" cy="10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05" name="Group 170"/>
              <p:cNvGrpSpPr/>
              <p:nvPr/>
            </p:nvGrpSpPr>
            <p:grpSpPr>
              <a:xfrm>
                <a:off x="2359440" y="93600"/>
                <a:ext cx="1586880" cy="1269720"/>
                <a:chOff x="2359440" y="93600"/>
                <a:chExt cx="1586880" cy="1269720"/>
              </a:xfrm>
            </p:grpSpPr>
            <p:sp>
              <p:nvSpPr>
                <p:cNvPr id="206" name="Freeform 171"/>
                <p:cNvSpPr/>
                <p:nvPr/>
              </p:nvSpPr>
              <p:spPr>
                <a:xfrm flipH="1" rot="21429000">
                  <a:off x="2380320" y="322560"/>
                  <a:ext cx="611280" cy="87840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7" name="Freeform 172"/>
                <p:cNvSpPr/>
                <p:nvPr/>
              </p:nvSpPr>
              <p:spPr>
                <a:xfrm rot="20854800">
                  <a:off x="3247560" y="148680"/>
                  <a:ext cx="611280" cy="87840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8" name="Freeform 173"/>
                <p:cNvSpPr/>
                <p:nvPr/>
              </p:nvSpPr>
              <p:spPr>
                <a:xfrm>
                  <a:off x="2986200" y="354960"/>
                  <a:ext cx="410400" cy="10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209" name="Freeform 174"/>
              <p:cNvSpPr/>
              <p:nvPr/>
            </p:nvSpPr>
            <p:spPr>
              <a:xfrm>
                <a:off x="4755960" y="5686200"/>
                <a:ext cx="1076400" cy="11718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10" name="Freeform 175"/>
              <p:cNvSpPr/>
              <p:nvPr/>
            </p:nvSpPr>
            <p:spPr>
              <a:xfrm rot="20854800">
                <a:off x="6339960" y="5365800"/>
                <a:ext cx="1157400" cy="16621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11" name="Freeform 176"/>
              <p:cNvSpPr/>
              <p:nvPr/>
            </p:nvSpPr>
            <p:spPr>
              <a:xfrm>
                <a:off x="5846760" y="5756040"/>
                <a:ext cx="749160" cy="11527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212" name="Group 177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213" name="Freeform 178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4" name="Freeform 179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5" name="Freeform 180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6" name="Freeform 181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7" name="Freeform 182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18" name="Group 183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219" name="Freeform 184"/>
                <p:cNvSpPr/>
                <p:nvPr/>
              </p:nvSpPr>
              <p:spPr>
                <a:xfrm>
                  <a:off x="236520" y="4680"/>
                  <a:ext cx="331920" cy="68486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20" name="Freeform 185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221" name="Rectangle 186"/>
            <p:cNvSpPr/>
            <p:nvPr/>
          </p:nvSpPr>
          <p:spPr>
            <a:xfrm>
              <a:off x="1174680" y="3430440"/>
              <a:ext cx="7962840" cy="7776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2197-EB42-4264-A5D4-096905A09DD6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ranzitx.ru/index.php?dn=photos&amp;to=image&amp;id=8" TargetMode="External"/><Relationship Id="rId2" Type="http://schemas.openxmlformats.org/officeDocument/2006/relationships/hyperlink" Target="http://www.tranzitx.ru/index.php?dn=photos&amp;to=image&amp;id=8" TargetMode="External"/><Relationship Id="rId3" Type="http://schemas.openxmlformats.org/officeDocument/2006/relationships/hyperlink" Target="http://www.tranzitx.ru/index.php?dn=photos&amp;to=image&amp;id=8" TargetMode="External"/><Relationship Id="rId4" Type="http://schemas.openxmlformats.org/officeDocument/2006/relationships/hyperlink" Target="http://www.tranzitx.ru/index.php?dn=photos&amp;to=image&amp;id=8" TargetMode="External"/><Relationship Id="rId5" Type="http://schemas.openxmlformats.org/officeDocument/2006/relationships/hyperlink" Target="http://flowerplaces.ru/poleznaya-informacya/110-sady-na-vode?start=1" TargetMode="External"/><Relationship Id="rId6" Type="http://schemas.openxmlformats.org/officeDocument/2006/relationships/hyperlink" Target="http://flowerplaces.ru/poleznaya-informacya/110-sady-na-vode?start=1" TargetMode="External"/><Relationship Id="rId7" Type="http://schemas.openxmlformats.org/officeDocument/2006/relationships/hyperlink" Target="http://flowerplaces.ru/poleznaya-informacya/110-sady-na-vode?start=1" TargetMode="External"/><Relationship Id="rId8" Type="http://schemas.openxmlformats.org/officeDocument/2006/relationships/hyperlink" Target="http://flowerplaces.ru/poleznaya-informacya/110-sady-na-vode?start=1" TargetMode="External"/><Relationship Id="rId9" Type="http://schemas.openxmlformats.org/officeDocument/2006/relationships/hyperlink" Target="http://flowerplaces.ru/poleznaya-informacya/110-sady-na-vode?start=1" TargetMode="External"/><Relationship Id="rId10" Type="http://schemas.openxmlformats.org/officeDocument/2006/relationships/hyperlink" Target="http://flowerplaces.ru/poleznaya-informacya/110-sady-na-vode?start=1" TargetMode="External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25032"/>
                </a:solidFill>
                <a:latin typeface="Palatino Linotype"/>
              </a:rPr>
              <a:t>Учебный проект</a:t>
            </a:r>
            <a:br>
              <a:rPr sz="7500"/>
            </a:br>
            <a:r>
              <a:rPr b="1" lang="ru-RU" sz="7500" spc="-1" strike="noStrike">
                <a:solidFill>
                  <a:srgbClr val="800e02"/>
                </a:solidFill>
                <a:latin typeface="Palatino Linotype"/>
              </a:rPr>
              <a:t> «Красная книга,</a:t>
            </a:r>
            <a:br>
              <a:rPr sz="7500"/>
            </a:br>
            <a:r>
              <a:rPr b="1" lang="ru-RU" sz="7500" spc="-1" strike="noStrike">
                <a:solidFill>
                  <a:srgbClr val="800e02"/>
                </a:solidFill>
                <a:latin typeface="Palatino Linotype"/>
              </a:rPr>
              <a:t> или Возьмём </a:t>
            </a:r>
            <a:br>
              <a:rPr sz="7500"/>
            </a:br>
            <a:r>
              <a:rPr b="1" lang="ru-RU" sz="7500" spc="-1" strike="noStrike">
                <a:solidFill>
                  <a:srgbClr val="800e02"/>
                </a:solidFill>
                <a:latin typeface="Palatino Linotype"/>
              </a:rPr>
              <a:t>под защиту»</a:t>
            </a:r>
            <a:endParaRPr b="0" lang="en-US" sz="75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-22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425032"/>
                </a:solidFill>
                <a:latin typeface="Palatino Linotype"/>
              </a:rPr>
              <a:t>Не дадим им исчезнуть </a:t>
            </a:r>
            <a:br>
              <a:rPr sz="8800"/>
            </a:br>
            <a:r>
              <a:rPr b="1" lang="ru-RU" sz="8800" spc="-1" strike="noStrike">
                <a:solidFill>
                  <a:srgbClr val="425032"/>
                </a:solidFill>
                <a:latin typeface="Palatino Linotype"/>
              </a:rPr>
              <a:t>с лица Земли!</a:t>
            </a:r>
            <a:endParaRPr b="0" lang="en-US" sz="88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-17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5032"/>
                </a:solidFill>
                <a:latin typeface="Palatino Linotype"/>
              </a:rPr>
              <a:t>Источники: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89040"/>
                </a:solidFill>
                <a:latin typeface="Palatino Linotype"/>
              </a:rPr>
              <a:t>Красная книга Владимирской области / Администрация Владим. обл., Департамент природопользования и охраны окружающ. среды, Гос. автоном. учреждение «Единая дирекция особо охран. прир. территорий Владим. обл.» ; [Р.Е. Азбукина и др.]. – Владимир : Транзит-ИКС, 2010. – 400 с. </a:t>
            </a:r>
            <a:endParaRPr b="0" lang="en-US" sz="2000" spc="-1" strike="noStrike">
              <a:solidFill>
                <a:srgbClr val="425032"/>
              </a:solidFill>
              <a:latin typeface="Palatino Linotype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4250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b8904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b8904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b89040"/>
                </a:solidFill>
                <a:uFillTx/>
                <a:latin typeface="Arial"/>
                <a:hlinkClick r:id="rId3"/>
              </a:rPr>
              <a:t>www.tranzitx.ru</a:t>
            </a:r>
            <a:r>
              <a:rPr b="0" lang="ru-RU" sz="2000" spc="-1" strike="noStrike" u="sng">
                <a:solidFill>
                  <a:srgbClr val="b89040"/>
                </a:solidFill>
                <a:uFillTx/>
                <a:latin typeface="Arial"/>
                <a:hlinkClick r:id="rId4"/>
              </a:rPr>
              <a:t>/index.php?dn=photos&amp;to=image&amp;id=8</a:t>
            </a:r>
            <a:r>
              <a:rPr b="0" lang="ru-RU" sz="20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425032"/>
              </a:solidFill>
              <a:latin typeface="Palatino Linotype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b89040"/>
                </a:solidFill>
                <a:uFillTx/>
                <a:latin typeface="Palatino Linotype"/>
                <a:hlinkClick r:id="rId5"/>
              </a:rPr>
              <a:t>http</a:t>
            </a:r>
            <a:r>
              <a:rPr b="0" lang="ru-RU" sz="2000" spc="-1" strike="noStrike" u="sng">
                <a:solidFill>
                  <a:srgbClr val="b89040"/>
                </a:solidFill>
                <a:uFillTx/>
                <a:latin typeface="Palatino Linotype"/>
                <a:hlinkClick r:id="rId6"/>
              </a:rPr>
              <a:t>://</a:t>
            </a:r>
            <a:r>
              <a:rPr b="0" lang="ru-RU" sz="2000" spc="-1" strike="noStrike" u="sng">
                <a:solidFill>
                  <a:srgbClr val="b89040"/>
                </a:solidFill>
                <a:uFillTx/>
                <a:latin typeface="Palatino Linotype"/>
                <a:hlinkClick r:id="rId7"/>
              </a:rPr>
              <a:t>flowerplaces.ru</a:t>
            </a:r>
            <a:r>
              <a:rPr b="0" lang="ru-RU" sz="2000" spc="-1" strike="noStrike" u="sng">
                <a:solidFill>
                  <a:srgbClr val="b89040"/>
                </a:solidFill>
                <a:uFillTx/>
                <a:latin typeface="Palatino Linotype"/>
                <a:hlinkClick r:id="rId8"/>
              </a:rPr>
              <a:t>/</a:t>
            </a:r>
            <a:r>
              <a:rPr b="0" lang="ru-RU" sz="2000" spc="-1" strike="noStrike" u="sng">
                <a:solidFill>
                  <a:srgbClr val="b89040"/>
                </a:solidFill>
                <a:uFillTx/>
                <a:latin typeface="Palatino Linotype"/>
                <a:hlinkClick r:id="rId9"/>
              </a:rPr>
              <a:t>poleznaya-informacya</a:t>
            </a:r>
            <a:r>
              <a:rPr b="0" lang="ru-RU" sz="2000" spc="-1" strike="noStrike" u="sng">
                <a:solidFill>
                  <a:srgbClr val="b89040"/>
                </a:solidFill>
                <a:uFillTx/>
                <a:latin typeface="Palatino Linotype"/>
                <a:hlinkClick r:id="rId10"/>
              </a:rPr>
              <a:t>/110-sady-na-vode?start=1</a:t>
            </a:r>
            <a:r>
              <a:rPr b="0" lang="ru-RU" sz="20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425032"/>
              </a:solidFill>
              <a:latin typeface="Palatino Linotype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5032"/>
                </a:solidFill>
                <a:latin typeface="Palatino Linotype"/>
              </a:rPr>
              <a:t>http://www.gbmt.ru/ru/expositions/orchids-photos/photo_detail.php?ID=1040 </a:t>
            </a:r>
            <a:endParaRPr b="0" lang="en-US" sz="2000" spc="-1" strike="noStrike">
              <a:solidFill>
                <a:srgbClr val="425032"/>
              </a:solidFill>
              <a:latin typeface="Palatino Linotype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5032"/>
                </a:solidFill>
                <a:latin typeface="Palatino Linotype"/>
              </a:rPr>
              <a:t>http://robinsony.ru/lesnaya-kuxnya/chilim </a:t>
            </a:r>
            <a:endParaRPr b="0" lang="en-US" sz="2000" spc="-1" strike="noStrike">
              <a:solidFill>
                <a:srgbClr val="425032"/>
              </a:solidFill>
              <a:latin typeface="Palatino Linotype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5032"/>
                </a:solidFill>
                <a:latin typeface="Palatino Linotype"/>
              </a:rPr>
              <a:t>http://annin.ru/?p=6699 </a:t>
            </a:r>
            <a:endParaRPr b="0" lang="en-US" sz="2000" spc="-1" strike="noStrike">
              <a:solidFill>
                <a:srgbClr val="425032"/>
              </a:solidFill>
              <a:latin typeface="Palatino Linotype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5032"/>
                </a:solidFill>
                <a:latin typeface="Palatino Linotype"/>
              </a:rPr>
              <a:t>http://otvetin.ru/animalrasten/5571-kogda-cvetet-bashmachok.html </a:t>
            </a:r>
            <a:endParaRPr b="0" lang="en-US" sz="2000" spc="-1" strike="noStrike">
              <a:solidFill>
                <a:srgbClr val="425032"/>
              </a:solidFill>
              <a:latin typeface="Palatino Linotype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5032"/>
                </a:solidFill>
                <a:latin typeface="Palatino Linotype"/>
              </a:rPr>
              <a:t>http://www.skbeta.ru/medicina/sontrava.html </a:t>
            </a:r>
            <a:endParaRPr b="0" lang="en-US" sz="2000" spc="-1" strike="noStrike">
              <a:solidFill>
                <a:srgbClr val="425032"/>
              </a:solidFill>
              <a:latin typeface="Palatino Linotype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5032"/>
                </a:solidFill>
                <a:latin typeface="Palatino Linotype"/>
              </a:rPr>
              <a:t>http://www.1000listnik.ru/lekarstvennie-travi/02/227-baranec.html </a:t>
            </a:r>
            <a:endParaRPr b="0" lang="en-US" sz="20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5032"/>
                </a:solidFill>
                <a:latin typeface="Arial"/>
              </a:rPr>
              <a:t>Вопрос: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25032"/>
                </a:solidFill>
                <a:latin typeface="Palatino Linotype"/>
              </a:rPr>
              <a:t>  </a:t>
            </a:r>
            <a:r>
              <a:rPr b="1" i="1" lang="ru-RU" sz="6000" spc="-1" strike="noStrike">
                <a:solidFill>
                  <a:srgbClr val="425032"/>
                </a:solidFill>
                <a:latin typeface="Palatino Linotype"/>
              </a:rPr>
              <a:t>Какие растения Владимирской области занесены в Красную книгу?</a:t>
            </a:r>
            <a:endParaRPr b="0" lang="en-US" sz="60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425032"/>
                </a:solidFill>
                <a:latin typeface="Palatino Linotype"/>
              </a:rPr>
              <a:t>Растения</a:t>
            </a:r>
            <a:br>
              <a:rPr sz="7500"/>
            </a:br>
            <a:r>
              <a:rPr b="1" lang="ru-RU" sz="7500" spc="-1" strike="noStrike">
                <a:solidFill>
                  <a:srgbClr val="425032"/>
                </a:solidFill>
                <a:latin typeface="Palatino Linotype"/>
              </a:rPr>
              <a:t>Красной книги Владимирской области</a:t>
            </a:r>
            <a:endParaRPr b="0" lang="en-US" sz="75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24000" y="5013360"/>
            <a:ext cx="43192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5032"/>
                </a:solidFill>
                <a:latin typeface="Arial"/>
              </a:rPr>
              <a:t>Работа группы ботаников.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736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57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25032"/>
                </a:solidFill>
                <a:latin typeface="Palatino Linotype"/>
              </a:rPr>
              <a:t>Кубышка жёлтая</a:t>
            </a:r>
            <a:endParaRPr b="0" lang="en-US" sz="5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356000" y="188640"/>
            <a:ext cx="4608720" cy="63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5032"/>
                </a:solidFill>
                <a:latin typeface="Palatino Linotype"/>
              </a:rPr>
              <a:t>   </a:t>
            </a:r>
            <a:r>
              <a:rPr b="1" lang="ru-RU" sz="3200" spc="-1" strike="noStrike">
                <a:solidFill>
                  <a:srgbClr val="425032"/>
                </a:solidFill>
                <a:latin typeface="Palatino Linotype"/>
              </a:rPr>
              <a:t>Многолетнее водяное травянистое растение с плавающими листьями. Растёт в водоемах в спокойной воде или с тихим течением воды. Очень декоративна, цветёт с июля по сентябрь.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08000" y="2133720"/>
            <a:ext cx="439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40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5032"/>
                </a:solidFill>
                <a:latin typeface="Palatino Linotype"/>
              </a:rPr>
              <a:t>Ятрышник шлемоносный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779640" y="333360"/>
            <a:ext cx="511308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25032"/>
                </a:solidFill>
                <a:latin typeface="Palatino Linotype"/>
              </a:rPr>
              <a:t>    </a:t>
            </a:r>
            <a:r>
              <a:rPr b="1" lang="ru-RU" sz="3000" spc="-1" strike="noStrike">
                <a:solidFill>
                  <a:srgbClr val="425032"/>
                </a:solidFill>
                <a:latin typeface="Palatino Linotype"/>
              </a:rPr>
              <a:t>Ятрышник шлемоносный - многолетнее травянистое растение, «дальний родственник» экзотической орхидеи. Растение достигает в высоту 20—45 см. Околоцветник имеет листики, скученные по форме воинского шлема. Плод ятрышника шлемоносного — небольшая коробочка с пылевидными семенами. </a:t>
            </a:r>
            <a:br>
              <a:rPr sz="2000"/>
            </a:br>
            <a:br>
              <a:rPr sz="1500"/>
            </a:br>
            <a:endParaRPr b="0" lang="en-US" sz="30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816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25032"/>
                </a:solidFill>
                <a:latin typeface="Palatino Linotype"/>
              </a:rPr>
              <a:t> </a:t>
            </a:r>
            <a:r>
              <a:rPr b="1" lang="ru-RU" sz="3000" spc="-1" strike="noStrike">
                <a:solidFill>
                  <a:srgbClr val="425032"/>
                </a:solidFill>
                <a:latin typeface="Palatino Linotype"/>
              </a:rPr>
              <a:t>Рогульник плавающий</a:t>
            </a:r>
            <a:br>
              <a:rPr sz="3000"/>
            </a:br>
            <a:r>
              <a:rPr b="1" lang="ru-RU" sz="3000" spc="-1" strike="noStrike">
                <a:solidFill>
                  <a:srgbClr val="425032"/>
                </a:solidFill>
                <a:latin typeface="Palatino Linotype"/>
              </a:rPr>
              <a:t>(водяной орех, чилим)</a:t>
            </a:r>
            <a:r>
              <a:rPr b="0" lang="ru-RU" sz="40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43280" y="189000"/>
            <a:ext cx="4321440" cy="59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5032"/>
                </a:solidFill>
                <a:latin typeface="Palatino Linotype"/>
              </a:rPr>
              <a:t>    </a:t>
            </a:r>
            <a:r>
              <a:rPr b="1" lang="ru-RU" sz="2800" spc="-1" strike="noStrike">
                <a:solidFill>
                  <a:srgbClr val="425032"/>
                </a:solidFill>
                <a:latin typeface="Palatino Linotype"/>
              </a:rPr>
              <a:t>Однолетнее растение с длинным подводным стеблем, на котором расположены нитевидные корни, прикрепляющие растение к грунту. Цветёт во второй половине лета. Плод - орех с коническим основанием и четырьмя попарно-супротивными "рогами". Распространен в стоячих и медленно текущих водах рек, озер.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78" name="" descr="130.49 КБ"/>
          <p:cNvPicPr/>
          <p:nvPr/>
        </p:nvPicPr>
        <p:blipFill>
          <a:blip r:embed="rId1"/>
          <a:stretch/>
        </p:blipFill>
        <p:spPr>
          <a:xfrm>
            <a:off x="250920" y="1128600"/>
            <a:ext cx="3313080" cy="32148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332000" y="4365720"/>
            <a:ext cx="34192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5032"/>
                </a:solidFill>
                <a:latin typeface="Palatino Linotype"/>
              </a:rPr>
              <a:t>Венерин</a:t>
            </a:r>
            <a:br>
              <a:rPr sz="4000"/>
            </a:br>
            <a:r>
              <a:rPr b="1" lang="ru-RU" sz="4000" spc="-1" strike="noStrike">
                <a:solidFill>
                  <a:srgbClr val="425032"/>
                </a:solidFill>
                <a:latin typeface="Palatino Linotype"/>
              </a:rPr>
              <a:t>башмачок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7280" y="260280"/>
            <a:ext cx="5076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     </a:t>
            </a: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Венерин башмачок настоящий— красивейший цветок семейства орхидных. </a:t>
            </a:r>
            <a:endParaRPr b="0" lang="en-US" sz="2400" spc="-1" strike="noStrike">
              <a:solidFill>
                <a:srgbClr val="425032"/>
              </a:solidFill>
              <a:latin typeface="Palatino Linotype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     </a:t>
            </a: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Легенда говорит, что некогда, спасаясь в северных лесах от преследования, богиня красоты Венера оступилась среди топких болот и кочек, и с ноги её слетел башмачок. Прекрасная туфелька богини тут же превратилась в цветок – так и появился башмачок Венеры. </a:t>
            </a:r>
            <a:endParaRPr b="0" lang="en-US" sz="2400" spc="-1" strike="noStrike">
              <a:solidFill>
                <a:srgbClr val="425032"/>
              </a:solidFill>
              <a:latin typeface="Palatino Linotype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     </a:t>
            </a: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Форма лепестка-чашечки этой редкой орхидеи действительно напоминает башмачок, а остальные лепестки – бархатные ленты. </a:t>
            </a:r>
            <a:endParaRPr b="0" lang="en-US" sz="24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054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5032"/>
                </a:solidFill>
                <a:latin typeface="Palatino Linotype"/>
              </a:rPr>
              <a:t>Прострел</a:t>
            </a:r>
            <a:br>
              <a:rPr sz="4000"/>
            </a:br>
            <a:r>
              <a:rPr b="1" lang="ru-RU" sz="4000" spc="-1" strike="noStrike">
                <a:solidFill>
                  <a:srgbClr val="425032"/>
                </a:solidFill>
                <a:latin typeface="Palatino Linotype"/>
              </a:rPr>
              <a:t>(сон-трава)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3280" y="260280"/>
            <a:ext cx="450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     </a:t>
            </a: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Растение с волосистыми стеблями от 7 см до 50 см высотой, молодые листья сильно волосистые, в очертании округло-сердцевидные. Цветки до 8 см в диаметре, сине-фиолетовые. На хорошо развитых кустиках одновременно распускаются до 40-50 цветков. Цветёт в апреле — мае 20-25 дней.  </a:t>
            </a:r>
            <a:endParaRPr b="0" lang="en-US" sz="2400" spc="-1" strike="noStrike">
              <a:solidFill>
                <a:srgbClr val="425032"/>
              </a:solidFill>
              <a:latin typeface="Palatino Linotype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     </a:t>
            </a: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Растения зимуют с зелёными листьями.. </a:t>
            </a:r>
            <a:br>
              <a:rPr sz="2400"/>
            </a:br>
            <a:r>
              <a:rPr b="1" lang="ru-RU" sz="2400" spc="-1" strike="noStrike">
                <a:solidFill>
                  <a:srgbClr val="425032"/>
                </a:solidFill>
                <a:latin typeface="Palatino Linotype"/>
              </a:rPr>
              <a:t>Для прострела характерно раннее зацветание.</a:t>
            </a:r>
            <a:endParaRPr b="0" lang="en-US" sz="24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468000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5032"/>
                </a:solidFill>
                <a:latin typeface="Palatino Linotype"/>
              </a:rPr>
              <a:t>Плаун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00720" y="333000"/>
            <a:ext cx="446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5032"/>
                </a:solidFill>
                <a:latin typeface="Palatino Linotype"/>
              </a:rPr>
              <a:t>   </a:t>
            </a:r>
            <a:r>
              <a:rPr b="1" lang="ru-RU" sz="2800" spc="-1" strike="noStrike">
                <a:solidFill>
                  <a:srgbClr val="425032"/>
                </a:solidFill>
                <a:latin typeface="Palatino Linotype"/>
              </a:rPr>
              <a:t> </a:t>
            </a:r>
            <a:r>
              <a:rPr b="1" lang="ru-RU" sz="2800" spc="-1" strike="noStrike">
                <a:solidFill>
                  <a:srgbClr val="425032"/>
                </a:solidFill>
                <a:latin typeface="Palatino Linotype"/>
              </a:rPr>
              <a:t>Многолетнее травянистое вечнозеленое растение высотой до 20 см. Зрелые споры разлетаются в июле-августе.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5032"/>
                </a:solidFill>
                <a:latin typeface="Palatino Linotype"/>
              </a:rPr>
              <a:t>    </a:t>
            </a:r>
            <a:r>
              <a:rPr b="1" lang="ru-RU" sz="2800" spc="-1" strike="noStrike">
                <a:solidFill>
                  <a:srgbClr val="425032"/>
                </a:solidFill>
                <a:latin typeface="Palatino Linotype"/>
              </a:rPr>
              <a:t>Распространён плаун в лесной и тундровой зонах России. Растёт в моховом покрове хвойных (чаще еловых) лесов. 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5032"/>
                </a:solidFill>
                <a:latin typeface="Palatino Linotype"/>
              </a:rPr>
              <a:t>    </a:t>
            </a:r>
            <a:r>
              <a:rPr b="1" lang="ru-RU" sz="2800" spc="-1" strike="noStrike">
                <a:solidFill>
                  <a:srgbClr val="425032"/>
                </a:solidFill>
                <a:latin typeface="Palatino Linotype"/>
              </a:rPr>
              <a:t>Плаун издавна используют в народной медицине.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46256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5:53:53Z</dcterms:created>
  <dc:creator>Uzer</dc:creator>
  <dc:description/>
  <cp:keywords/>
  <dc:language>en-US</dc:language>
  <cp:lastModifiedBy>Uzer</cp:lastModifiedBy>
  <dcterms:modified xsi:type="dcterms:W3CDTF">2012-02-08T15:54:32Z</dcterms:modified>
  <cp:revision>5</cp:revision>
  <dc:subject/>
  <dc:title>По страницам Красной книги Владимирской обла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11049</vt:lpwstr>
  </property>
</Properties>
</file>