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7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28E-A98D-48B2-A975-0DDA2A0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B15-2013-4B6B-AF9F-2B33EA2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E0C-984F-43DC-BA00-225D9E28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C3F-5CAB-4F30-9E53-DA40B859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DE6-E81D-47B3-8413-B01A878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727-30AB-4737-8E8D-019F4AB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C11-51FC-456C-A672-303D66C3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9258-E202-42BE-8962-CDA977C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870-ABBD-41C6-8BD3-84A5580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DC0-E910-4B5A-863A-979893A4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28F-DE49-47B3-B839-24F5219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B14-5D21-407E-AD97-FED37D71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3ABC-B62B-47CB-9A8E-7EC68C8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B532-18CA-422E-854E-B33B33F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2D3-2157-446E-884F-9C1AC20E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CA24-2D14-4C4E-AC7E-8B151342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7F8-2B41-4B64-B6A0-36D6E2EA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5C8-7B29-4306-BBC4-FDF0B86A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5DA-14B7-4A73-A8E3-C9FCE4A7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F76-9248-4BB4-99EB-1BA5CE2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BF8-1B4D-4D3A-9C4B-445E97F6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037-8601-42A1-B6C8-D72A54B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A47-123F-496C-8E19-21D6B14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A46-F94C-4BD3-BA3F-E976F52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90D5-612F-4BE0-8A6E-10C19CC0F92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286-487A-4D67-993F-782016D711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arfu.ru/lomonosov/about/images/biography/5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arfu.ru/lomonosov/about/images/biography/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7280" y="423360"/>
            <a:ext cx="774432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Разрешите представить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846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слаханова Эльза Умаровна,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ница 4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ОУООШ №1 п. Спиров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орянова Ольга Петров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ОУООШ №1 п. Спирово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765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7236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Врата учёности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673440" cy="209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3890880" cy="2206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9232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Грамматика» Смотрицк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37264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Арифметика» Магницк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236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шком в Москв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361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0684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33800" y="587592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у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ожник Н. Н. Кисляк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3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Спасские школы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365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529080" cy="427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88000" y="36432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сковская         славяно-греко-латинская      академ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тербургская Академ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369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Ломоносов за границ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366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3311640" cy="41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27640" y="4075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ом, в котором Ломоносов жил в Марбург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рвый русский профессор химии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368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4824360" cy="407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8200" y="400284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плом профессора химии М.В. Ломоносо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15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рвая русская химическая лаборатор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9138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Слово похвальное императрице Елизавете Петровне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399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753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236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Полтавская баталия».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840360" cy="35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54200" y="6021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озаика М. В. Ломоносова в здании Академии Наук.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Санкт-Петербур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ом М. В. Ломоносова на Мой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382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Тема: М.В.Ломоносов – великий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русский учё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253692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Ломоносов в своей лаборатор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40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8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Труды М.В.Ломоносо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Титульный лист работы Ломоносова «Химические и оптические записки». Рукописью 1762 г. Архив АН ССС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492280"/>
            <a:ext cx="2376360" cy="33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213000"/>
            <a:ext cx="2363760" cy="345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271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4836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15 апреля 1765 год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370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600360" cy="417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39315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гила              М.В.Ломоносова в Александро-Невской лавр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283040" y="90036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В памяти народной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2359080" cy="331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257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" descr="http://s1226.net.ru/literature/biograph/lomonosov.jpg"/>
          <p:cNvPicPr/>
          <p:nvPr/>
        </p:nvPicPr>
        <p:blipFill>
          <a:blip r:embed="rId3"/>
          <a:stretch/>
        </p:blipFill>
        <p:spPr>
          <a:xfrm>
            <a:off x="971640" y="2492280"/>
            <a:ext cx="2520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Актуальность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хаил Васильевич Ломоносов является одним из великих учёных, которого без сомнений можно поставить на одно из первых мест среди разносторонне одаренных людей в истории человеч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84720" y="4541760"/>
            <a:ext cx="28800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Анке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Как ты относишься к знаменитому русскому учёному М.В.Ломоносов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Чем поразил тебя этот учёный, великий персонаж русской истори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Цель работы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знакомиться с творчеством, великими открытиями М. В. Ломоносова, уяснить его место и роль в нау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3133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528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изучить биографию Михаила Васильевича Ломоносо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ознакомиться с основными открытиями и этапами научно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5040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83640" y="837000"/>
            <a:ext cx="7488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еревня Мишанинская, ныне село  Ломоносово — родина учёного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360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727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48720" y="908640"/>
            <a:ext cx="6696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дин из девяти островов дельты Северной Двин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363" descr="Карта мест между Архангельском и Холмогорами из книги «Путешествия академика Ивана Лепехина». 1805 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492280"/>
            <a:ext cx="71294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50640" y="971280"/>
            <a:ext cx="82609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Гукор – модель парусного рыбацкого судна,</a:t>
            </a:r>
            <a:br>
              <a:rPr sz="2400"/>
            </a:b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 котором плавали М. В. Ломоносов с отцом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985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53:51Z</dcterms:created>
  <dc:creator>КМ</dc:creator>
  <dc:description/>
  <dc:language>en-US</dc:language>
  <cp:lastModifiedBy>КМ</cp:lastModifiedBy>
  <dcterms:modified xsi:type="dcterms:W3CDTF">2012-12-22T12:54:38Z</dcterms:modified>
  <cp:revision>7</cp:revision>
  <dc:subject/>
  <dc:title>Слайд 1</dc:title>
</cp:coreProperties>
</file>