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7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93E-9ADD-4167-9AD2-9E0499B6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050-837B-4772-9065-27BF6F0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343-C26F-43E0-825C-7A47CBE3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603-8AF6-4F5D-81C8-81D07540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B600-071D-4182-9011-0A80C89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6511-51CD-4417-A135-C4EFAA42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3828-7A89-4BE3-BD85-2B92B60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7B74-4FFD-4DA0-94AF-323550D1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C55-E7B1-45D7-8E6F-F2488A2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5B2-4CAF-4964-928F-983B4FD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4AEC-53D1-4DE1-A6FE-2CAD5DC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EF5-C789-476D-8017-A9C996E2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89F-C729-4886-85E7-DAA0C99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772C-568B-4763-9373-EC205F9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833-274A-4843-8EAF-B8C34ADE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D35-6366-429C-BCAF-04A30F83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6C13-0A60-488A-A31F-43FF7E5C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61A-FF44-44FB-A62D-9BA012D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9A0-454A-43F1-984B-26F4FAC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A64-F321-47CA-9144-3CCA6340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4A9-5809-4B0D-B996-438D9D8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73B-6386-4EEF-91CE-6293939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398-45E3-4A4F-9336-7197D8D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B1A-0D2C-4B51-AA53-09D76E0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54F1-F5A5-4EFC-90D6-6E8DE42CBE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878-6AAF-4AD7-BAB5-9F5EF8AFDA2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arfu.ru/lomonosov/about/images/biography/5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arfu.ru/lomonosov/about/images/biography/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7280" y="423360"/>
            <a:ext cx="774432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Разрешите представить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846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слаханова Эльза Умаровна,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ница 4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ОУООШ №1 п. Спиров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орянова Ольга Петров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ОУООШ №1 п. Спирово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765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7236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Врата учёности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673440" cy="209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3890880" cy="2206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9232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Грамматика» Смотрицк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37264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Арифметика» Магницк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236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шком в Москв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361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0684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33800" y="587592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у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ожник Н. Н. Кисляк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3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Спасские школы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365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529080" cy="427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88000" y="36432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сковская         славяно-греко-латинская      академ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тербургская Академ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369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Ломоносов за границ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366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3311640" cy="41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27640" y="4075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ом, в котором Ломоносов жил в Марбург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рвый русский профессор химии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368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4824360" cy="407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8200" y="400284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плом профессора химии М.В. Ломоносо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15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ервая русская химическая лаборатор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9138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Слово похвальное императрице Елизавете Петровне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399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753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236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«Полтавская баталия».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840360" cy="35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54200" y="6021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Мозаика М. В. Ломоносова в здании Академии Наук.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Санкт-Петербур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ом М. В. Ломоносова на Мой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382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Тема: М.В.Ломоносов – великий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русский учё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253692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Ломоносов в своей лаборатор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40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8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Труды М.В.Ломоносо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Титульный лист работы Ломоносова «Химические и оптические записки». Рукописью 1762 г. Архив АН ССС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492280"/>
            <a:ext cx="2376360" cy="33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213000"/>
            <a:ext cx="2363760" cy="345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271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4836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15 апреля 1765 год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370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600360" cy="417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39315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гила              М.В.Ломоносова в Александро-Невской лавр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283040" y="90036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В памяти народной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2359080" cy="331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257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" descr="http://s1226.net.ru/literature/biograph/lomonosov.jpg"/>
          <p:cNvPicPr/>
          <p:nvPr/>
        </p:nvPicPr>
        <p:blipFill>
          <a:blip r:embed="rId3"/>
          <a:stretch/>
        </p:blipFill>
        <p:spPr>
          <a:xfrm>
            <a:off x="971640" y="2492280"/>
            <a:ext cx="2520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Актуальность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хаил Васильевич Ломоносов является одним из великих учёных, которого без сомнений можно поставить на одно из первых мест среди разносторонне одаренных людей в истории человеч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84720" y="4541760"/>
            <a:ext cx="28800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9132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Анке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Как ты относишься к знаменитому русскому учёному М.В.Ломоносов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Чем поразил тебя этот учёный, великий персонаж русской истори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Цель работы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знакомиться с творчеством, великими открытиями М. В. Ломоносова, уяснить его место и роль в нау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3133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528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изучить биографию Михаила Васильевича Ломоносо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ознакомиться с основными открытиями и этапами научно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5040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83640" y="837000"/>
            <a:ext cx="7488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еревня Мишанинская, ныне село  Ломоносово — родина учёного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360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727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48720" y="908640"/>
            <a:ext cx="6696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дин из девяти островов дельты Северной Двин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363" descr="Карта мест между Архангельском и Холмогорами из книги «Путешествия академика Ивана Лепехина». 1805 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492280"/>
            <a:ext cx="71294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50640" y="971280"/>
            <a:ext cx="82609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Гукор – модель парусного рыбацкого судна,</a:t>
            </a:r>
            <a:br>
              <a:rPr sz="2400"/>
            </a:b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 котором плавали М. В. Ломоносов с отцом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985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53:51Z</dcterms:created>
  <dc:creator>КМ</dc:creator>
  <dc:description/>
  <dc:language>en-US</dc:language>
  <cp:lastModifiedBy>КМ</cp:lastModifiedBy>
  <dcterms:modified xsi:type="dcterms:W3CDTF">2012-12-22T12:54:38Z</dcterms:modified>
  <cp:revision>7</cp:revision>
  <dc:subject/>
  <dc:title>Слайд 1</dc:title>
</cp:coreProperties>
</file>