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01C-0EC6-4214-8302-29835C33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D90-BD2C-4CFC-9259-86E3C463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9F3-BEDD-471A-930D-829AD5EE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253-87D4-487C-8D5E-6EED123D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3E9B-E073-4CAB-924A-F5CB1F29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88DD-7747-483D-A18F-769F0279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3BD0-E927-4749-B37E-15E06E92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2687-F04E-4C5C-AC65-C5266D4F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B746-86A3-43D9-B118-08E58258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49FD-7969-4940-AA4D-82D668FD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4743-3454-42F0-A5DB-44D3BE65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5BA-055B-4BFD-893B-66D55DAD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AAF4-E33C-4953-BFD7-089FF8F9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CC1B-29BE-4BF3-A12A-0B04D90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E149-48D7-45FC-8250-9AE97BD1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78B3-AB33-4462-B473-FFB1B3D3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4DEE-CE81-4FFD-BA86-C8539AF6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3AE3-A2D8-4B1F-B355-71E984F6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01660-83E6-4152-A408-860B969F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51FBF-EAE9-479A-8C99-61BF445E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FF8C-5305-4B23-BE8E-F5779D8B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D9CF-8469-4691-8C31-21F1DB24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6E8-6B9C-49F7-9C7E-7D034E80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1C3C-E1D7-442D-B40B-80041885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BF730-8D15-45A5-A3B5-3B28302E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7DE7-E35A-4D53-A8B6-3F813E5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0A5E0-045F-4786-90F0-C2A3A707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4D56-35AE-41F5-9F4C-57C9A201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8F45-C839-4C64-8A0E-A765A0BA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060B-7863-4C41-82E0-0A47A4BC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7D54-686A-463E-BEB4-C1C8F48F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CC64D-5147-4A76-9525-D6B3CD76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8249F-4067-4A77-B878-4172DD3F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D68-3EA4-4991-8C9D-F57746C6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1ECA-9824-4793-B6FE-17048CD9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BEBD6-BAC6-41A1-9A9F-205E1C2C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28A7F-B6C7-4AF2-8134-A970BE6E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A400A-E5FB-428F-843F-2CC68CA0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9A039-6E31-4446-9F24-2288FD08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47CB-DE99-45C0-8708-743F253A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4536-0747-4FD6-977B-0C82AA30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B3662-317C-4A77-9DE7-06FA8A65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B090E-B613-40AD-A48B-5D620783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2395A-962D-4169-8607-50982A3F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BA0-E876-4706-AE31-46377672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97BD7-6470-46FC-A107-CC90014E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0BD13-91CA-4FB6-BB45-74BF1EBF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0EFE7-C7B6-4500-BD21-C4C16D12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3512-B061-4CCB-A072-43833F40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C3351-D502-4534-86E6-1647712A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172C9-4229-4101-9463-5FEAE58B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01251-55EA-4736-8C74-ACC9818C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2A238-CBEB-4EFC-8727-1F14FC8C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250E7-764D-4224-8C15-26689AFC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5D58E-C7DF-4CD5-BC37-46824976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EB7-694F-410E-AEBD-4FE82612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E085C-C396-4FD8-ACAB-EC81FF41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C9B-D98F-4FEC-AF6E-226C6F4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54E-FA66-4B07-AD17-00186A36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11F-94DD-41C1-A768-A2953F9D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7253-AE9F-47E4-B7E0-74898BBA84C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38C7-1F4C-4590-80B0-41D9C1B9A313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EBB6-0731-44AD-AD71-5994C146B01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E9F1-F5CA-4604-83DB-5313E4B65472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C7B7-48A6-4F13-891D-85CF74DB2E2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8474040" cy="2828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952880" y="2971440"/>
            <a:ext cx="37339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общ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учитель - логопед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Герасимцева И.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-231840" y="-85680"/>
            <a:ext cx="9382320" cy="1238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22860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1. Ограничить степень "рабочей" заботы. Контролировать проявления своих эмоций. Сделать это принципом - таким же, как ежедневно надевать на работу чистую рубашку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2. Сменить (на время) род деятельности. Например, перейти к физическому труду, покопаться в саду, огороде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3. Разнообразить спектр деятельности: как физической, так и умственной. Занятия спортом, чтение книг помогут справиться с рутиной - еще одной причиной профессионального выгорания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4. Активная позиция. Когда, казалось бы, все о тебе забыли, и ты сам уже ничего не хочешь, поступай от обратного. Закати шумную вечеринку. Напеки пирогов. Поешь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225360" y="-725400"/>
            <a:ext cx="7480440" cy="23349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380520" y="175212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величение объема двигательной актив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рациональная организация учебного процесса и изменение нормирования, учебной нагрузки школьников и учителей не столько по увеличению или уменьшению ее объема, сколько по изменению характера учебной деятельности в сторону преобладания активности ребенка и взрослого в самообразовании, самопознании, самодеятельност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включение в образовательный процесс систематической информации (практической и теоретической) о здоровье человека на разных этапах его жизни формирования ценности здоровья и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повышение роли психологической помощи педагогам и учащимся в обучении, в создании среды, благоприятной относительно физического психического и социального благополучия участников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организация систематической научно-методической работы с педагогами и специалистами, направленной на повышение уровня их знаний и умений в области здоровь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"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Мы не можем быть большим, чем мы есть, но то, что мы есть, намного больше, чем мы думаем"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ари Чернисс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25360" y="-23760"/>
            <a:ext cx="7480440" cy="1785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высокая оплата труд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циальная незащищенность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доступность медико-психологических консультаций по вопросам собственной сохранности в условиях работы современной школ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высокий уровень психологической грамотности, не позволяющий сохранять внутреннее равновесие в многочисленных проблемных ситуациях школьной жизн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Сердечно-сосудистые заболевания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ЛОР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Зрение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Желудочно-кишечные заболевания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Заболевания органов дыхания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Опорно-двигательные заболевания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Нервно-психические заболевания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м. Другие (гинекологические, кожные, диабет, онкология и др.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171360" y="-55440"/>
            <a:ext cx="8521920" cy="2146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Обеспечение сохранения здоровья тех, кто в этом отношении более благополучен (молодые, физические крепкие, ведущие здоровый образ жизни)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Проведение целенаправленной профилактической работы с теми, кто имеет хронические заболев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-231840" y="36360"/>
            <a:ext cx="9382320" cy="2335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Это состояние физического утомления и разочарования, которое возникает у людей, занятых в альтруистических профессиональных областях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165240" y="219240"/>
            <a:ext cx="8454960" cy="1695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стресс, вызванный множеством требований, которые непрерывно суммируются в разных сферах нашей жизнедеятельност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беспокойная обстановка на работе, требующая устойчивого внимания и напряжения, единственным постоянством которой является ее постоянная изменчивость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не всегда разумная организации труд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невнимание к своему здоровь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225360" y="49320"/>
            <a:ext cx="7480440" cy="1785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2133360"/>
            <a:ext cx="72388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щее чувство усталости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приязни к работе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увства беспокойства, разбитости и раздражения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гативная установка на жизненные перспективы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елание сменить профессию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пресси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ги себе са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фессиональна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щ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6" descr="888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288040" y="1295280"/>
            <a:ext cx="3571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мия по итогам года и участия в методической работ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лагодарность в приказ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ценный подарок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тгул (ходатайство перед администрацией школ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правление на престижные курсы переподготовки и повышения квалифика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ворческий отпуск в каникулярное время (ходатайство перед администрацией школ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ополнительные дни к отпуску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дставление к награждению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12-22T17:34:5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