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84E0-4FD5-41CA-A18C-4D615195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468-0FDF-4D5C-806C-1A321764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755A-1211-4618-877B-42E247EF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6669-65CA-49F6-B7AE-3723A4BB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F565-BF9B-4831-81E4-AE658DAB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F1CB-9021-4AF5-8E2E-E7DFD8B0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1687-EB3D-49BF-8D48-1863C3FC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90F5-6473-4480-BC26-3EB989A6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3672-3D08-4C5A-B21E-45A872C4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7520-1D98-4EEA-B7D9-2414E008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2711-E8F9-4D8C-B2F8-87D216DE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9A8-AFB5-4CDF-A9D4-7F26175F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859A-3E4F-496D-9AE0-8C92D3B7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A300-20AC-4FAF-8516-2DC33737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0124-A57D-48E8-AA44-904C69B1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A977-6AD0-47F2-B983-03C800C8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2F2B-875B-4C68-86AE-B82D1306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FD688-CD9F-4D36-AE00-AB616CA4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F689A-E748-4ADE-88C0-03414DF2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8BB9D-43EC-4C5D-BD3C-166A4344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3E360-1BB7-4F7B-9D4F-91D83405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12B38-CE4C-4FCD-A7FE-F9F79E0F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8510-7890-41B4-801D-33ADC04B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131DE-3F18-4497-8E8C-EEC570B8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666DF-B95A-47F0-888C-9D17195F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CBD83-DF81-4821-A929-5AA5EAC7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C50FF-2522-467C-A03E-0A1501CD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061A0-B4BE-40DD-B1F4-1606485D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E04B4-F702-4EC9-907B-6172FE22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E2238-646F-4741-9463-E919E8B9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70C95-65D6-4B63-9314-9DCE0EC3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920B3-9550-4DAA-B573-61BC2FA9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E0E49-3462-4E33-AF85-0C19B88F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FD51-CE25-4FA7-ABF7-E884DBD5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8B97C-F1CA-469E-98AB-584DBD91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D4DFC-B5FC-4102-BCB8-CE331316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B6C28-5BD3-44EF-9F28-DB2A93A6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588C3-B269-4976-9EA8-33A99CCE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E40A2-DD71-48D3-8D92-13169B61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F71B8-CFE7-4599-A8C2-AEE850EA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3168C-F0DD-416A-B941-0D871742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8E05C-19E6-4D27-A768-1BB17C93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ACE19-49CC-4551-8AB8-2A76B9C1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CBA7B-B356-47A4-82BC-5C2B3C28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9E56-C37B-44B3-A8EE-69000438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8D70E-C0AE-4724-8CDA-E1C0CB6D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0D967-C6A2-41CD-B7E0-6A5D7195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6EFD4-8D7F-4BA3-86FD-6A149DCC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C3C45-845D-4A59-87D5-983311B0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FCC22-7FB1-4430-B176-23B3810A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E398A-6E11-4C8F-AF53-738155EA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B0416-8C72-4BB2-A0DF-D7C5E8DC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8BCAC-7044-4E12-B980-19E9DC09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BF8D4-062A-4043-9535-89C74EE8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21925-C09C-4E1A-930E-7084B141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90E-D484-4052-B044-A8EB84CE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DE498-4E76-4DC6-B368-B6CF7A11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5B2D-AB6F-4161-BEC6-141D60D9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C82-641A-4F61-A85F-55406077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53A-606D-4E91-AD0F-7A8173F1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2829-E81B-4A5E-A713-2FA6F139CE25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60D1-72C7-46CF-A28C-ADFDCE768884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4426-81D2-413B-BFD2-AF771E85449C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8D54-6EB1-47A4-B4DE-CFE5DAA42046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FF53-A201-4361-92F7-DB88525088E9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-6480" y="1139760"/>
            <a:ext cx="8474040" cy="2828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952880" y="2971440"/>
            <a:ext cx="373392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обще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одготовила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учитель - логопед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Герасимцева И.В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-231840" y="-85680"/>
            <a:ext cx="9382320" cy="12380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22860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1. Ограничить степень "рабочей" заботы. Контролировать проявления своих эмоций. Сделать это принципом - таким же, как ежедневно надевать на работу чистую рубашку.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2. Сменить (на время) род деятельности. Например, перейти к физическому труду, покопаться в саду, огороде.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3. Разнообразить спектр деятельности: как физической, так и умственной. Занятия спортом, чтение книг помогут справиться с рутиной - еще одной причиной профессионального выгорания.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4. Активная позиция. Когда, казалось бы, все о тебе забыли, и ты сам уже ничего не хочешь, поступай от обратного. Закати шумную вечеринку. Напеки пирогов. Поешь.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225360" y="-725400"/>
            <a:ext cx="7480440" cy="23349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380520" y="175212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величение объема двигательной активност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рациональная организация учебного процесса и изменение нормирования, учебной нагрузки школьников и учителей не столько по увеличению или уменьшению ее объема, сколько по изменению характера учебной деятельности в сторону преобладания активности ребенка и взрослого в самообразовании, самопознании, самодеятельност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включение в образовательный процесс систематической информации (практической и теоретической) о здоровье человека на разных этапах его жизни формирования ценности здоровья и здорового образа жизн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повышение роли психологической помощи педагогам и учащимся в обучении, в создании среды, благоприятной относительно физического психического и социального благополучия участников образовательного процесс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организация систематической научно-методической работы с педагогами и специалистами, направленной на повышение уровня их знаний и умений в области здоровь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"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Мы не можем быть большим, чем мы есть, но то, что мы есть, намного больше, чем мы думаем".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ари Чернисс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225360" y="-23760"/>
            <a:ext cx="7480440" cy="1785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2010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евысокая оплата труда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оциальная незащищенность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едоступность медико-психологических консультаций по вопросам собственной сохранности в условиях работы современной школы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евысокий уровень психологической грамотности, не позволяющий сохранять внутреннее равновесие в многочисленных проблемных ситуациях школьной жизн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м. Сердечно-сосудистые заболевания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м. ЛОР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м. Зрение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м. Желудочно-кишечные заболевания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м. Заболевания органов дыхания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м. Опорно-двигательные заболевания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I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м. Нервно-психические заболевания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II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м. Другие (гинекологические, кожные, диабет, онкология и др.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171360" y="-55440"/>
            <a:ext cx="8521920" cy="2146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Обеспечение сохранения здоровья тех, кто в этом отношении более благополучен (молодые, физические крепкие, ведущие здоровый образ жизни)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Проведение целенаправленной профилактической работы с теми, кто имеет хронические заболева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-231840" y="36360"/>
            <a:ext cx="9382320" cy="23353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Это состояние физического утомления и разочарования, которое возникает у людей, занятых в альтруистических профессиональных областях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165240" y="219240"/>
            <a:ext cx="8454960" cy="16952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стресс, вызванный множеством требований, которые непрерывно суммируются в разных сферах нашей жизнедеятельност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беспокойная обстановка на работе, требующая устойчивого внимания и напряжения, единственным постоянством которой является ее постоянная изменчивость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не всегда разумная организации труда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невнимание к своему здоровью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225360" y="49320"/>
            <a:ext cx="7480440" cy="17859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2133360"/>
            <a:ext cx="72388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щее чувство усталости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приязни к работе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увства беспокойства, разбитости и раздражения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гативная установка на жизненные перспективы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желание сменить профессию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епресси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моги себе сам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фессиональна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мощ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6" descr="888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288040" y="1295280"/>
            <a:ext cx="3571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емия по итогам года и участия в методической работ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благодарность в приказ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ценный подарок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тгул (ходатайство перед администрацией школ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аправление на престижные курсы переподготовки и повышения квалифика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творческий отпуск в каникулярное время (ходатайство перед администрацией школ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ополнительные дни к отпуску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едставление к награждению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2-12-22T17:34:5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