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4CF-FFDC-4372-908F-D2272899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CCA-1136-452A-8AF5-224D56E9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142-9B19-4108-A023-BE5731B8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A17-ABB6-4EF1-AAFB-1F479808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A8A1-2567-486F-B54C-1AE546DD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61BE-4813-45E4-8CFF-03574378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6525-3DA2-4CBA-8A4C-54B34AEA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0A7C-D80D-4F17-8F1F-FFE52965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5DC6-35CD-4A92-A664-93CDE8C3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AB4-F863-43FB-953D-FD1721C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D7D2-F543-4B3B-ABFE-D0B4373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4FB-EC0B-4B48-9B54-AFC8D4AA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B50-6851-4D89-99CF-572FEAD8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5B84-85E4-491C-890E-FB4213B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E1D-4951-4ECA-99C4-B2ACFC89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FBD7-2129-4AEA-BE00-1D53BAC1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8C6B-D581-492D-AEF1-397CA98A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137-CBD2-4050-94E5-2774B2AD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C4A-CFB7-4F86-A10A-8394B36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3B9-CA37-4A43-A2B3-9F731A2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59F-4F9C-43C7-82F9-C1ED4B32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2D1-80E3-4349-A997-2CE1A5B3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16C-0CA8-4BBE-8185-44B3AE9C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B01-666D-4C95-A009-42BC68C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02D3-0032-4B3B-9F17-FECA82D84A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ACAD-733C-44CB-A3C1-310499D885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miles.33b.ru/smile.29414.html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кольные трудности и психологическое здоровье обучающихся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готовила педагог-психолог Лисова С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едагогические причины неуспеваем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Ю.К. Бабанский предлагает следующую классификацию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Причины внутреннего плана(главные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генотип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циальный статус  семь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ровень материально-технического обеспечения окружающего социум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Причины внешнего план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амо образовательное учреждение, его установ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материально-техническое оснащение О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енограмма семьи 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реднестатистическо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4365720"/>
            <a:ext cx="2016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3141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4292640"/>
            <a:ext cx="2016000" cy="987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ибер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пустительски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844640"/>
            <a:ext cx="27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демократический сти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беждение, диск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2448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авторитарный сти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казание,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48000" y="407664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148000" y="40762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8136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219280" y="2852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209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При соблюдении всей структуры ребенок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ируется как многополярная личность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 современной семье данная структура нарушена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400536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1844640"/>
            <a:ext cx="3240000" cy="1224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грессивно-нед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2205000"/>
            <a:ext cx="2448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ст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642920" y="2637000"/>
            <a:ext cx="180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4365720"/>
            <a:ext cx="2016000" cy="987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ст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500360" y="3141720"/>
            <a:ext cx="165564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306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сихологические причины школьных трудностей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Московская психологическая школ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Недостаточность ресурсов развития психических познавательных процессов: внимания, памяти, мыш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неумение пользоваться ресурсами внимания, памяти, мыш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Отсутствие или недостаточность мотив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Социальная незрелость лич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труктура ученических коллективов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Волгоградская психологическая школ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828440"/>
            <a:ext cx="835344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группа  «конструктивные» - могут и хотят учи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группа Конфликтные – могут, но не хотят учить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группа Конформные –хотят, но не могут учи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 группа Амбивалентные –не хотят и не могу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1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+4- класс «психологической поддержки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1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+4- класс «психологическ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ыт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404640"/>
            <a:ext cx="316872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обучение прием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мственн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обучение прием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бн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обучение целеполаг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04640"/>
            <a:ext cx="3816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изменение содержания обу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изменение темпов изучения матери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увеличение меры методической помощ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оказание психологической помощи учени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«Учись учиться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781360"/>
            <a:ext cx="251928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уч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0360" y="2421000"/>
            <a:ext cx="3024360" cy="18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Треб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содержание , мето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истема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учебного процес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Концепци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365720"/>
            <a:ext cx="3457440" cy="1728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переживание успе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лияющее на мотив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мотивация достижения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учебные интер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4869000"/>
            <a:ext cx="2665440" cy="16570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авторитарный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гуманистиче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могающ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2708280"/>
            <a:ext cx="1944720" cy="914400"/>
          </a:xfrm>
          <a:prstGeom prst="rect">
            <a:avLst/>
          </a:prstGeom>
          <a:solidFill>
            <a:srgbClr val="ffb8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спева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83528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2852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59280" y="342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92360" y="285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29272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206028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164000" y="436572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«ПСИХОТЕРАПИЯ»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неуспеваем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«Не бей лежачего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Хвалить личность исполнителя, критиковать – исполн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Учитывать гендерные различия в восприятии речевого потока( у мальчика по гендеру темп речи и ее восприятия- 1 предложение в минуту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В море трудностей личности – найти островок безопасности –в чем он успешен,  действовать с опорой на не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Ребенка сравнивать только с самим собой- его вчерашние и сегодняшние успех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Ребенок должен быть соучастником оценив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11280" y="152280"/>
            <a:ext cx="5145120" cy="17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ая успеш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76360" y="2133360"/>
            <a:ext cx="6905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жнейшими составляющими школьной успешности являются: здоровье, творческая самореализация, позитивность мышления, активность, адекватная самооценка, осведомленность, произвольность психических процессов, сформированность базовых учебных навыков, высокий адаптивный ресурс (возможность адаптироваться в сложной ситуации), мотивационные факторы и т.д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" descr="G:\Рисунки - дети\607815457.gif"/>
          <p:cNvPicPr/>
          <p:nvPr/>
        </p:nvPicPr>
        <p:blipFill>
          <a:blip r:embed="rId1"/>
          <a:stretch/>
        </p:blipFill>
        <p:spPr>
          <a:xfrm>
            <a:off x="0" y="0"/>
            <a:ext cx="2556000" cy="2092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12384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неуспешным школьник становится только тогда, когда вовремя не были преодолены «школьные трудности»,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од которыми понимается весь комплекс проблем, возникших у ребенка при систематическом обучении и постепенно приводящих к ухудшению состояния здоровья, к нарушению социально-психологической адаптации и только в последнюю очередь — к снижению успешности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60093"/>
                </a:solidFill>
                <a:latin typeface="Comic Sans MS"/>
              </a:rPr>
              <a:t>Спасибо за внимание !</a:t>
            </a: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ичин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, определяющие нарушение процесса адаптации и появление школьных пробл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7" descr="703a1a7b021366888b6ef1243654601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149720"/>
            <a:ext cx="254772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экзогенные (социокультурные условия, в которых растет и развивается ребенок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нешнесредовые, в том числе экологическ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едагогические или школьные факторы риск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828440"/>
            <a:ext cx="755496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ндогенные (генетические влияния, нарушения в раннем периоде развития, состояние здоровья, уровень функционального развития, мозговые дисфункции, степень зрелости структурно-функциональной организации мозга и сформированности высших психических функций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физиологические механизмы — трудности обучения, возникающие при несформированности или негрубых нарушениях комплекса познавательных функций, лежащих в основе обучения базовым школьным навык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80360" y="5084640"/>
            <a:ext cx="133200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НЯТИЕ НЕУСПЕВАЕМ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успеваемость –это несоответствие подготовки учащегося требованиям содержания образования, фиксируемое по истечении какого-либо значительного отрезка процесса обучения (тема, четверть, полугоди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ОТСТА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выполнение требований или одного из них, которое имеет место на одном из промежуточных этапов внутри учебного процес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едует разделять понятия "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кольные трудности" и "неуспеваемость"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Трудности обучения многих детей не приводят к неуспеваемости, наоборот, высокая успеваемость, особенно на первом году обучения, достигается огромным напряжением и чрезвычайно высокой функциональной ценой, а нередко и ценой здоровья. Сложность и в том, что именно эти дети не привлекают внимание педагогов и родителей, а "функциональная цена" школьных успехов не сразу проявля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6360" y="620640"/>
            <a:ext cx="6905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еуспеваемост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следует рассматривать как результат фактического снижения эффективности обучения и тех трудностей, которые вовремя не были выявлены, скомпенсированы, которые не корригировались вообще или работа по коррекции проводилась неправильно. Результатом невнимания к школьным трудностям является нарушение физического и психического здоровь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7:44:08Z</dcterms:created>
  <dc:creator>QQRZX</dc:creator>
  <dc:description/>
  <dc:language>en-US</dc:language>
  <cp:lastModifiedBy>Лисова С.В.</cp:lastModifiedBy>
  <dcterms:modified xsi:type="dcterms:W3CDTF">2005-11-06T22:31:02Z</dcterms:modified>
  <cp:revision>5</cp:revision>
  <dc:subject/>
  <dc:title>Школьные трудности и психологическое здоровье обучающихся.</dc:title>
</cp:coreProperties>
</file>