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BEE-A8DD-44A7-8602-E71E4295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F31-0897-480A-87EA-CB16DA7E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225-59B5-4D6F-A7E8-659F39F7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0C9-7030-45B2-95FB-30479618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658C-4A55-4AAE-BFA5-52789ABD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7720-6E16-4645-AFA4-799D290B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46A3-04DC-4588-BBDC-349E1835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C344-3F3F-4339-BEF8-19939B99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E71A-0373-4DFE-9220-B9E21334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295C-C8A1-4895-91DA-8246D545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09B4-6323-44E5-8F0C-E891B242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B24-7FFA-4DD2-9478-C0005197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1F10-767E-4D72-9FAF-0D4BF8D5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4EA2-E69C-42F5-9A61-3F7F7101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800E-5AA3-4B7A-AC9F-D997994D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396F-E278-4359-BC90-E24F7FC8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746E-E9D5-4461-83B0-E96468D6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EA8-54C9-4F06-BF42-561C636D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951-BB23-485E-937F-33A4D444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6EE-D3AB-48FB-9A6F-E3D2075B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F2E-1C37-4783-BC01-21211A8C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F38-EDA8-42EA-8E93-B9EA2E58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430-3672-4F56-BEF1-D9F4E53D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4C8-CA52-41A5-A2BB-1FD73306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9519-38D4-480B-AD1D-472965E2DA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D4A5-E3EF-4C48-8EBD-54B00139152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miles.33b.ru/smile.29414.html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Школьные трудности и психологическое здоровье обучающихся.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дготовила педагог-психолог Лисова С.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440000" cy="14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едагогические причины неуспеваем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0256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Ю.К. Бабанский предлагает следующую классификацию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Причины внутреннего плана(главные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генотип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оциальный статус  семь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уровень материально-технического обеспечения окружающего социум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Причины внешнего план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амо образовательное учреждение, его установк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материально-техническое оснащение О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енограмма семьи 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реднестатистической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4365720"/>
            <a:ext cx="20160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д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3141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4292640"/>
            <a:ext cx="2016000" cy="9874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аб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ибер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пустительский ст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1844640"/>
            <a:ext cx="27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демократический сти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беждение, диску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1844640"/>
            <a:ext cx="24480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а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авторитарный сти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казание, при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348000" y="407664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148000" y="407628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78136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219280" y="285264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2090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При соблюдении всей структуры ребенок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формируется как многополярная личность.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 современной семье данная структура нарушена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828800"/>
            <a:ext cx="769608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400536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2000" y="1844640"/>
            <a:ext cx="3240000" cy="1224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грессивно-нед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2205000"/>
            <a:ext cx="24480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а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ст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642920" y="2637000"/>
            <a:ext cx="180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4365720"/>
            <a:ext cx="2016000" cy="9874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аб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д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ст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4500360" y="3141720"/>
            <a:ext cx="165564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3068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сихологические причины школьных трудностей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Московская психологическая школ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Недостаточность ресурсов развития психических познавательных процессов: внимания, памяти, мыш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неумение пользоваться ресурсами внимания, памяти, мыш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Отсутствие или недостаточность мотив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Социальная незрелость лич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Структура ученических коллективов</a:t>
            </a:r>
            <a:br>
              <a:rPr sz="40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Волгоградская психологическая школ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828440"/>
            <a:ext cx="835344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группа  «конструктивные» - могут и хотят учить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 группа Конфликтные – могут, но не хотят учить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 группа Конформные –хотят, но не могут учи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 группа Амбивалентные –не хотят и не могу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1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+4- класс «психологической поддержки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1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+4- класс «психологическо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ытк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95280" y="404640"/>
            <a:ext cx="316872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обучение прием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мственн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обучение прием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бн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обучение целеполаг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04640"/>
            <a:ext cx="3816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изменение содержания обу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изменение темпов изучения материа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увеличение меры методической помощ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оказание психологической помощи учени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«Учись учиться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2781360"/>
            <a:ext cx="251928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уч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е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0360" y="2421000"/>
            <a:ext cx="3024360" cy="187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Треб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содержание , метод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система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учебного процес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Концепции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4365720"/>
            <a:ext cx="3457440" cy="17287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переживание успех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лияющее на мотива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мотивация достижения успе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учебные интере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0360" y="4869000"/>
            <a:ext cx="2665440" cy="16570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авторитарный подх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гуманистичес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могающи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2708280"/>
            <a:ext cx="1944720" cy="914400"/>
          </a:xfrm>
          <a:prstGeom prst="rect">
            <a:avLst/>
          </a:prstGeom>
          <a:solidFill>
            <a:srgbClr val="ffb8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спева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83528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59280" y="2852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59280" y="3429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92360" y="2852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29272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363640" y="206028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164000" y="436572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«ПСИХОТЕРАПИЯ»</a:t>
            </a:r>
            <a:br>
              <a:rPr sz="4000"/>
            </a:b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неуспеваем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«Не бей лежачего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Хвалить личность исполнителя, критиковать – исполн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Учитывать гендерные различия в восприятии речевого потока( у мальчика по гендеру темп речи и ее восприятия- 1 предложение в минуту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 В море трудностей личности – найти островок безопасности –в чем он успешен,  действовать с опорой на нег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Ребенка сравнивать только с самим собой- его вчерашние и сегодняшние успех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 Ребенок должен быть соучастником оценив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11280" y="152280"/>
            <a:ext cx="5145120" cy="17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школьная успеш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76360" y="2133360"/>
            <a:ext cx="6905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жнейшими составляющими школьной успешности являются: здоровье, творческая самореализация, позитивность мышления, активность, адекватная самооценка, осведомленность, произвольность психических процессов, сформированность базовых учебных навыков, высокий адаптивный ресурс (возможность адаптироваться в сложной ситуации), мотивационные факторы и т.д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1" descr="G:\Рисунки - дети\607815457.gif"/>
          <p:cNvPicPr/>
          <p:nvPr/>
        </p:nvPicPr>
        <p:blipFill>
          <a:blip r:embed="rId1"/>
          <a:stretch/>
        </p:blipFill>
        <p:spPr>
          <a:xfrm>
            <a:off x="0" y="0"/>
            <a:ext cx="2556000" cy="2092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12384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неуспешным школьник становится только тогда, когда вовремя не были преодолены «школьные трудности»,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под которыми понимается весь комплекс проблем, возникших у ребенка при систематическом обучении и постепенно приводящих к ухудшению состояния здоровья, к нарушению социально-психологической адаптации и только в последнюю очередь — к снижению успешности обуч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60093"/>
                </a:solidFill>
                <a:latin typeface="Comic Sans MS"/>
              </a:rPr>
              <a:t>Спасибо за внимание !</a:t>
            </a:r>
            <a:endParaRPr b="0" lang="en-US" sz="7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Школьные труд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ичины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, определяющие нарушение процесса адаптации и появление школьных пробл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17" descr="703a1a7b021366888b6ef1243654601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4149720"/>
            <a:ext cx="2547720" cy="23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Школьные труд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экзогенные (социокультурные условия, в которых растет и развивается ребенок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нешнесредовые, в том числе экологическ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едагогические или школьные факторы риск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Школьные труд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1828440"/>
            <a:ext cx="755496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ндогенные (генетические влияния, нарушения в раннем периоде развития, состояние здоровья, уровень функционального развития, мозговые дисфункции, степень зрелости структурно-функциональной организации мозга и сформированности высших психических функций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Школьные труд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сихофизиологические механизмы — трудности обучения, возникающие при несформированности или негрубых нарушениях комплекса познавательных функций, лежащих в основе обучения базовым школьным навыка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80360" y="5084640"/>
            <a:ext cx="1332000" cy="12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ОНЯТИЕ НЕУСПЕВАЕМ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успеваемость –это несоответствие подготовки учащегося требованиям содержания образования, фиксируемое по истечении какого-либо значительного отрезка процесса обучения (тема, четверть, полугодие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ОТСТА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выполнение требований или одного из них, которое имеет место на одном из промежуточных этапов внутри учебного процесс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96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едует разделять понятия "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школьные трудности" и "неуспеваемость"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Трудности обучения многих детей не приводят к неуспеваемости, наоборот, высокая успеваемость, особенно на первом году обучения, достигается огромным напряжением и чрезвычайно высокой функциональной ценой, а нередко и ценой здоровья. Сложность и в том, что именно эти дети не привлекают внимание педагогов и родителей, а "функциональная цена" школьных успехов не сразу проявляетс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6360" y="620640"/>
            <a:ext cx="6905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еуспеваемость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следует рассматривать как результат фактического снижения эффективности обучения и тех трудностей, которые вовремя не были выявлены, скомпенсированы, которые не корригировались вообще или работа по коррекции проводилась неправильно. Результатом невнимания к школьным трудностям является нарушение физического и психического здоровь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7:44:08Z</dcterms:created>
  <dc:creator>QQRZX</dc:creator>
  <dc:description/>
  <dc:language>en-US</dc:language>
  <cp:lastModifiedBy>Лисова С.В.</cp:lastModifiedBy>
  <dcterms:modified xsi:type="dcterms:W3CDTF">2005-11-06T22:31:02Z</dcterms:modified>
  <cp:revision>5</cp:revision>
  <dc:subject/>
  <dc:title>Школьные трудности и психологическое здоровье обучающихся.</dc:title>
</cp:coreProperties>
</file>