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2373-B6E4-4992-8998-1BA369EF1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AEDF-A119-4357-B909-9A7F90793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56AC-B7E1-4845-B2E7-EBDB5AFCF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696E-EF7E-42AF-9B1A-2CE47855E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AE9E0-2874-402D-9510-F3980BD43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182F3-3C58-4151-9B42-2F92678FB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06BC3-485B-4390-B2CA-FD9964EA4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1C107-7F18-4F2C-BDBA-90D038AEB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FB079-CCFE-49BF-9547-B907C4392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8C8F7-3B2A-46E6-BF39-F1930FEB0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81010-43D3-4E98-B86B-67CCE13D9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7FD9-AF53-44C1-A72F-4EB657D1B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C31BC-511C-4DB5-AD76-628D8576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73CEE-EDAA-43CF-83A8-00D70A096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E80FE-614A-4798-8444-737A9DFFC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9216E-44A0-4B42-855F-1F478C531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35CFF-A9CB-489B-A949-16C6E7743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91D1-32B7-4882-BF57-589552D46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B0D4-1B1D-42AB-A266-3F03BFB4C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5926-98CB-42DC-837F-3B1F8BF00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9E82-6C48-4AF1-BBC7-31BF6841E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F087-B17C-4CD6-8352-367761506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C080-ECC5-4BFD-BA9C-7647EE24C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BAEC-5012-427D-9A1D-39E1AD4E8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A2DCC-3E56-4111-8398-9AEF7C86FD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7FFC5-A74F-4321-A0F3-2B95D0BBB0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en-US" sz="6000" spc="-1" strike="noStrike">
                <a:solidFill>
                  <a:srgbClr val="e5ffff"/>
                </a:solidFill>
                <a:latin typeface="Tahoma"/>
              </a:rPr>
              <a:t>Символика Владимирской области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Гусь - Хрустальный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ербы для большинства русских городов были утверждены Екатериной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Но тогда у Гусь – Хрустального не было статуса города, он появился лишь в 1931 году. Эмблема города появилась, когда его включили в состав Золотого Кольца Росс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дна из версий происхождения названия города связана с тем, что он стоит на реке Гус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187280" y="2349360"/>
            <a:ext cx="2448000" cy="31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Киржач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Утверждён 16 августа 1781 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писание герба: «В верхней части щита герб Владимирский. В нижней – в зелёном поле сидящая на пне с распростёртыми крыльями птица сова, каковых в окрестностях сего города находится весьма довольно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116000" y="2565360"/>
            <a:ext cx="24480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Ковров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Утверждён 16 августа 1781 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писание герба: «В верхней части щита герб Владимирский. В нижней – сидящие два зайца в зелёном поле, каковых зверей в окрестностях сего города изобильно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547640" y="2708280"/>
            <a:ext cx="172908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Кольчугино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твержден 25 июля 2002 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писание герба: «В пересечённом зеленью и червленью (красным) щите поверх свитка в пояс опрокинутые молот и ковш накрест; во главе два сообращённых токующих глухаря. Все фигуры золотые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258920" y="2276640"/>
            <a:ext cx="237636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Меленк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Утверждён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6 августа 1781 г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писание герба: «В верхней части щита герб Владимирский. В нижней – в голубом поле золотая ветряная мельница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187280" y="2492280"/>
            <a:ext cx="23767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Муром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Утверждён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6 августа 1781 г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писание герба: «В верхней части щита герб Владимирский. В нижней – в голубом поле три крупитчатые калача, которыми сей город отменно славится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187280" y="2565360"/>
            <a:ext cx="244800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Покров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Утверждён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6 августа 1781 г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писание герба: «В верхней части щита герб Владимирский. В нижней – в синем поле две выходящие из облака руки, держащие золотой покров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187280" y="2276640"/>
            <a:ext cx="259272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Судогд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Утверждён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6 августа 1781 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писание герба: «В верхней части щита герб Владимирский. В нижней – на зелёном поле четверо положенные параллельно грабли, в знак изобилия сенокосом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971640" y="2349360"/>
            <a:ext cx="273672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Суздаль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тверждён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6 августа 1781 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писание герба: «Птица сокол в княжеской короне, поле пополам: наверху синее, а внизу красное». Герб города Суздаль –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сокол в княжеской короне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– впервые появляется в Знаменном гербовнике 1730 года. Он напоминает о том, что в древности Суздаль был центром княжеств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042920" y="1916280"/>
            <a:ext cx="29527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Юрьев - Польский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Утверждён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6 августа 1781 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писание герба: «В верхней части щита герб Владимирский. В нижней – в серебряном поле натурального цвета два кузовка, наполненные вишнями, чем сей город изобилует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116000" y="2133720"/>
            <a:ext cx="25192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Герб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Герб Владимирской области представляет собой изображение золотого львиного леопарда в железной, украшенной золотом и цветными камнями, короне, держащего в правой лапе длинный серебряный крест в червлёном поле. Щит увенчан императорской короной и окружён золотыми дубовыми листьями, соединёнными Андреевской ленто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411280" y="1197000"/>
            <a:ext cx="43214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Флаг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835280" y="2205000"/>
            <a:ext cx="53974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br>
              <a:rPr sz="7200"/>
            </a:br>
            <a:br>
              <a:rPr sz="7200"/>
            </a:br>
            <a:br>
              <a:rPr sz="7200"/>
            </a:br>
            <a:r>
              <a:rPr b="0" lang="en-US" sz="7200" spc="-1" strike="noStrike">
                <a:solidFill>
                  <a:srgbClr val="e5ffff"/>
                </a:solidFill>
                <a:latin typeface="Arial Black"/>
              </a:rPr>
              <a:t>Гербы городов Владимирской области</a:t>
            </a:r>
            <a:endParaRPr b="0" lang="en-US" sz="7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Владимир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Утверждён 16 августа 1781 г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писание герба: «В красном поле стоящий на задних лапах львиный леопард, имеющий на голове железную корону, держит в передней правой лапе длинный серебряный крест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332000" y="2492280"/>
            <a:ext cx="22320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Александров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Утверждён 16 августа 1781 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писание герба: «В верхней части щита герб Владимирский. В нижней – в красном поле слесарные тиски и две по сторонам наковальни в знак того, что в сем городе производят весьма изрядные слесарные работы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403280" y="2492280"/>
            <a:ext cx="216072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Вязник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Утверждё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6 августа 1781 г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писание герба: «В верхней части щита герб Владимирский. В нижней – дерево вяз в золотом поле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116000" y="2492280"/>
            <a:ext cx="244800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Гороховец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Утверждён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6 августа 1781 г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писание герба: «В верхней части щита герб Владимирский. В нижней – в золотом поле выращенный на чёрных тычках горох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187280" y="2421000"/>
            <a:ext cx="237672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0T13:45:03Z</dcterms:created>
  <dc:creator>Uzer</dc:creator>
  <dc:description/>
  <dc:language>en-US</dc:language>
  <cp:lastModifiedBy>Uzer</cp:lastModifiedBy>
  <dcterms:modified xsi:type="dcterms:W3CDTF">2010-02-20T15:53:27Z</dcterms:modified>
  <cp:revision>2</cp:revision>
  <dc:subject/>
  <dc:title> Символика Владимирской области</dc:title>
</cp:coreProperties>
</file>