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BE9-1A73-462E-8DB3-D20C7D57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C40-5AF8-4446-9E6E-B3F18752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9F3-15C3-4E33-AA14-17A3CF6E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988-3D74-4F75-A546-0020D3AC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6BB-B32A-4506-AF37-03EFF855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709C-EFDB-44A7-80F1-B09CF8D6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41BE-628F-4D6C-9821-47AB30E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2FDB-E441-4238-885A-24EAFC64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EC25-0E48-40A7-B554-CD0271D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F4DA-9B55-48A6-A94B-3D7246D6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DD38-D2BE-4E57-B429-9DF6042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F5B-08B9-45A5-B1D9-D4A9250A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D222-BA4D-4233-831C-809ECA6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D38E-F277-4DD5-8978-D718D8A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24AB-3E84-4650-A67F-58C3A3A4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4611-3D33-4C66-9049-2C6B263F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A910-4DE0-4FCF-A974-4924DB5F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78B-D4C4-4BFB-ADDC-0B05193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9FD-6729-4D54-8A90-12AEC2B6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025-93BF-486C-8D00-F0E417E6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0C1-631E-4441-907B-373E273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F93-7F9F-4E3B-A7BC-59EE9C73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63C-6E08-4D42-A5C0-97E948C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A33-BFFD-44A1-AE06-BE349BE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656-1443-4581-BCA8-C48CA7E46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4541-4454-4C7C-93C8-0B35D97D3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Символика Владимирской област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усь - Хрустальны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ы для большинства русских городов были утверждены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тогда у Гусь – Хрустального не было статуса города, он появился лишь в 1931 году. Эмблема города появилась, когда его включили в состав Золотого Кольца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 из версий происхождения названия города связана с тем, что он стоит на реке Гу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2448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иржа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зелёном поле сидящая на пне с распростёртыми крыльями птица сова, каковых в окрестностях сего города находится весьма довольн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24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в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сидящие два зайца в зелёном поле, каковых зверей в окрестностях сего города изобильн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1729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льчуги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вержден 25 июля 2002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герба: «В пересечённом зеленью и червленью (красным) щите поверх свитка в пояс опрокинутые молот и ковш накрест; во главе два сообращённых токующих глухаря. Все фигуры золотые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2376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ле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голубом поле золотая ветряная мельниц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23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ур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голубом поле три крупитчатые калача, которыми сей город отменно слав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244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к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синем поле две выходящие из облака руки, держащие золотой покров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259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удог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на зелёном поле четверо положенные параллельно грабли, в знак изобилия сенокосо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736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узда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исание герба: «Птица сокол в княжеской короне, поле пополам: наверху синее, а внизу красное». Герб города Суздаль –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окол в княжеской корон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впервые появляется в Знаменном гербовнике 1730 года. Он напоминает о том, что в древности Суздаль был центром княж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Юрьев - Поль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серебряном поле натурального цвета два кузовка, наполненные вишнями, чем сей город изобилуе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251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ерб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рб Владимирской области представляет собой изображение золотого львиного леопарда в железной, украшенной золотом и цветными камнями, короне, держащего в правой лапе длинный серебряный крест в червлёном поле. Щит увенчан императорской короной и окружён золотыми дубовыми листьями, соединёнными Андреевской лен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43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лаг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5397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e5ffff"/>
                </a:solidFill>
                <a:latin typeface="Arial Black"/>
              </a:rPr>
              <a:t>Гербы городов Владимирской области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ладими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красном поле стоящий на задних лапах львиный леопард, имеющий на голове железную корону, держит в передней правой лапе длинный серебряный крес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22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лександ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красном поле слесарные тиски и две по сторонам наковальни в знак того, что в сем городе производят весьма изрядные слесарные работ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21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яз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дерево вяз в золотом пол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4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орохове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золотом поле выращенный на чёрных тычках горох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2376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45:03Z</dcterms:created>
  <dc:creator>Uzer</dc:creator>
  <dc:description/>
  <dc:language>en-US</dc:language>
  <cp:lastModifiedBy>Uzer</cp:lastModifiedBy>
  <dcterms:modified xsi:type="dcterms:W3CDTF">2010-02-20T15:53:27Z</dcterms:modified>
  <cp:revision>2</cp:revision>
  <dc:subject/>
  <dc:title> Символика Владимирской области</dc:title>
</cp:coreProperties>
</file>