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1EA5-EF8E-4231-92D2-9D2BC18A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C713-3F4C-43B6-9691-F41D373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83C8-AF32-43F2-86C9-9AA18592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E656-5E1E-4667-ABCE-95D6FDC6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A796-34CE-4009-9D52-FC66DF58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4B3-B33D-40A7-A1BC-A9A9785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2637-B924-4C46-9D17-ACE80DA0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427-B178-4B47-BB2C-0CAB9C7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F73-0290-4963-97E6-AFE08462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7C1-5BBA-480D-8DFC-3DD83D7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D1E-B832-409F-B3F9-7E3D4E0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4BBE-2F91-488D-BE08-65D9201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A37-F946-4E13-85C5-4B2E4B4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D52-192C-482C-B62D-08E3B47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721D-C2E4-4F16-9D81-CFF39C0A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DB4-A4A8-45CD-AC4D-A81E80C2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ED7-83E6-404E-B8DF-D9C048D9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95BB-6DB6-432B-8366-68E24DF3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B76D-07B7-40C7-9495-1A7B04B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385A-2E6C-4666-A660-6266B98D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C157-90AA-492F-997F-133C323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C42C-D9DC-4160-A7B2-78BC700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A431-F1A8-423E-B71D-CAD1B63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AA59-76DB-4B42-ABBF-EA5A2FE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073-9888-4E37-ABFA-41EF648442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C7C-BDF6-498E-91B0-3DC488805E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поп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работнике его Бал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87224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а о царе Сал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ыне его, славном и могучем богатыре князе Гвидоне Салтановиче и о прекрасной царевне Лебе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43840" cy="545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казки А.С.Пушки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попе и работнике его Бал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л старик со своею стару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а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ушка подарил Звездоч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 стеречь его гра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нязь Гви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ого превращался князь Гвидон?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акой последовательно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м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ух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шм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92360" y="1484280"/>
          <a:ext cx="4968360" cy="4530600"/>
        </p:xfrm>
        <a:graphic>
          <a:graphicData uri="http://schemas.openxmlformats.org/drawingml/2006/table">
            <a:tbl>
              <a:tblPr/>
              <a:tblGrid>
                <a:gridCol w="413280"/>
                <a:gridCol w="415440"/>
                <a:gridCol w="413640"/>
                <a:gridCol w="413280"/>
                <a:gridCol w="414000"/>
                <a:gridCol w="415440"/>
                <a:gridCol w="413640"/>
                <a:gridCol w="413280"/>
                <a:gridCol w="413640"/>
                <a:gridCol w="415800"/>
                <a:gridCol w="413640"/>
                <a:gridCol w="4132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63640" y="1413000"/>
          <a:ext cx="5003640" cy="4530600"/>
        </p:xfrm>
        <a:graphic>
          <a:graphicData uri="http://schemas.openxmlformats.org/drawingml/2006/table">
            <a:tbl>
              <a:tblPr/>
              <a:tblGrid>
                <a:gridCol w="416880"/>
                <a:gridCol w="416520"/>
                <a:gridCol w="417240"/>
                <a:gridCol w="416880"/>
                <a:gridCol w="417240"/>
                <a:gridCol w="418680"/>
                <a:gridCol w="415440"/>
                <a:gridCol w="416880"/>
                <a:gridCol w="416880"/>
                <a:gridCol w="419040"/>
                <a:gridCol w="415080"/>
                <a:gridCol w="416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79640" y="1484280"/>
          <a:ext cx="4679640" cy="4530600"/>
        </p:xfrm>
        <a:graphic>
          <a:graphicData uri="http://schemas.openxmlformats.org/drawingml/2006/table">
            <a:tbl>
              <a:tblPr/>
              <a:tblGrid>
                <a:gridCol w="389880"/>
                <a:gridCol w="389520"/>
                <a:gridCol w="390240"/>
                <a:gridCol w="389880"/>
                <a:gridCol w="390240"/>
                <a:gridCol w="391680"/>
                <a:gridCol w="388440"/>
                <a:gridCol w="389880"/>
                <a:gridCol w="389880"/>
                <a:gridCol w="392040"/>
                <a:gridCol w="388080"/>
                <a:gridCol w="389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63640" y="1557360"/>
          <a:ext cx="4752720" cy="4530600"/>
        </p:xfrm>
        <a:graphic>
          <a:graphicData uri="http://schemas.openxmlformats.org/drawingml/2006/table">
            <a:tbl>
              <a:tblPr/>
              <a:tblGrid>
                <a:gridCol w="396000"/>
                <a:gridCol w="395640"/>
                <a:gridCol w="396360"/>
                <a:gridCol w="396000"/>
                <a:gridCol w="396000"/>
                <a:gridCol w="398160"/>
                <a:gridCol w="394200"/>
                <a:gridCol w="396360"/>
                <a:gridCol w="395640"/>
                <a:gridCol w="398160"/>
                <a:gridCol w="394200"/>
                <a:gridCol w="39600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92360" y="1484280"/>
          <a:ext cx="4897440" cy="4530600"/>
        </p:xfrm>
        <a:graphic>
          <a:graphicData uri="http://schemas.openxmlformats.org/drawingml/2006/table">
            <a:tbl>
              <a:tblPr/>
              <a:tblGrid>
                <a:gridCol w="407880"/>
                <a:gridCol w="407880"/>
                <a:gridCol w="408240"/>
                <a:gridCol w="407880"/>
                <a:gridCol w="407880"/>
                <a:gridCol w="411120"/>
                <a:gridCol w="406440"/>
                <a:gridCol w="408240"/>
                <a:gridCol w="407880"/>
                <a:gridCol w="409680"/>
                <a:gridCol w="406080"/>
                <a:gridCol w="40824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7240"/>
                <a:gridCol w="68436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руб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 морем царевна есть,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е можно глаз отвесть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циозная              изящная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рупкая                   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красная             белоснеж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дая                    неприступ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тная                  цар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чавая              величе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Александр Сергеевич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ушки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99  –  18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3880" y="1125360"/>
            <a:ext cx="409248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469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Царевна Лебед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997000" cy="1996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49760" cy="3500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2419200" cy="35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359856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84360" y="260280"/>
            <a:ext cx="284004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4400" y="-502704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680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тупил на двор широко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м под ёлкою высо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лка песенку по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й орех грыз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мрудец вынима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 мешочек опуска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засеян двор больш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ю скорлуп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ости дале торопливо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отрят-что ж? княгиня – див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 косой луна блести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во лбу звезда гори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сама-то велич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ступает, будто п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векровь свою ведё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глядит – и узнает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9280" y="333360"/>
            <a:ext cx="42847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ём взыграло ретивое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Что я вижу? что тако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!» - и дух в нём занялся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лезами залил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нимает он цариц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ынка, и молодиц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адятся все за стол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есёлый пир пошё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качиха с поварихо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сватьей бабой Бабарих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бежались по уг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х нашли насилу та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т во всем они признались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инились, разрыдалис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для радости та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пустил всех трёх дом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то  за   прелесть   эти   сказк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5411" t="2535" r="6223" b="1170"/>
          <a:stretch/>
        </p:blipFill>
        <p:spPr>
          <a:xfrm>
            <a:off x="684360" y="784080"/>
            <a:ext cx="7832520" cy="607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937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4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551628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мертвой царевне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02912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92000" y="587664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05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580500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491868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558972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мёртвой царевн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438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580500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7:43:30Z</dcterms:created>
  <dc:creator>я</dc:creator>
  <dc:description/>
  <dc:language>en-US</dc:language>
  <cp:lastModifiedBy>Vlad</cp:lastModifiedBy>
  <dcterms:modified xsi:type="dcterms:W3CDTF">2010-07-10T20:58:47Z</dcterms:modified>
  <cp:revision>24</cp:revision>
  <dc:subject/>
  <dc:title>Пушкин Александр Сергеевич</dc:title>
</cp:coreProperties>
</file>