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82C1E-E3B7-43B5-9AD6-866536BC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DEF4A-DC64-4944-9C32-E90BAAC0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F78D8-3575-44E8-A68B-37507795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D3B32-A953-43D2-BED0-5765675B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C713-BD1F-4A4E-AB38-363E863A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361D-B0C7-4F59-8BDA-560C75CD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980D-4809-48DB-A46F-6EA09318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134A-71F9-47F6-B3D6-5A9D0858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BFBF-C549-4984-8A0F-B8A126F9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1E28-7D0A-4574-BA52-EF34F9E7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792E-D045-4BA7-A85C-D4DAFA05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069C6-E8BE-4C16-A503-8D3C88FF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B684-F26F-4F33-B061-94A31BA7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3F91-B1DA-4005-9D7F-7C3FD119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FD3E-5148-40CB-BABA-1AF79D14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6B5A-09AF-4EC4-AAC0-DB83DFC0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1650-EB83-4238-B5B5-86143281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43E93-86A1-4420-A1A8-4DAD1E54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8D1AA-F374-4AFA-AC01-225990B7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67903-08CD-4A2D-8CC6-CE250B38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AB156-A7BF-420D-B7A3-E5C34025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5400-4C56-420A-BAD1-B64555E7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03E2D-29B6-4422-97E0-760E7E87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07DBB-0525-44FF-85CB-0B404970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ADBC-1980-40A2-9F70-E77EB18985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2F1B-C3EE-4C23-ADC2-50F1236C561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-4883400"/>
            <a:ext cx="22716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640" y="5445000"/>
            <a:ext cx="568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казка о попе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 работнике его Балд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50920" y="189000"/>
            <a:ext cx="4872240" cy="53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5734080"/>
            <a:ext cx="878544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азка о царе Салт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 сыне его, славном и могучем богатыре князе Гвидоне Салтановиче и о прекрасной царевне Лебед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143840" cy="545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Сказки А.С.Пушкин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рыбаке и рыб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золотом петуш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попе и работнике его Бал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мертвой царевне и семи богатыр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царе Салтане, о сыне его славном и могучем богатыре князе Гвидоне Салтановиче и о прекрасной царевне Лебед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843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л старик со своею старух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самого синего мо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арь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адо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тушка подарил Звездочё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б стеречь его границ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нязь Гвидо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Царевна Лебед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23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 кого превращался князь Гвидон?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 какой последовательности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ома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мух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шме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692360" y="1484280"/>
          <a:ext cx="4968360" cy="4530600"/>
        </p:xfrm>
        <a:graphic>
          <a:graphicData uri="http://schemas.openxmlformats.org/drawingml/2006/table">
            <a:tbl>
              <a:tblPr/>
              <a:tblGrid>
                <a:gridCol w="413280"/>
                <a:gridCol w="415440"/>
                <a:gridCol w="413640"/>
                <a:gridCol w="413280"/>
                <a:gridCol w="414000"/>
                <a:gridCol w="415440"/>
                <a:gridCol w="413640"/>
                <a:gridCol w="413280"/>
                <a:gridCol w="413640"/>
                <a:gridCol w="415800"/>
                <a:gridCol w="413640"/>
                <a:gridCol w="41328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63640" y="1413000"/>
          <a:ext cx="5003640" cy="4530600"/>
        </p:xfrm>
        <a:graphic>
          <a:graphicData uri="http://schemas.openxmlformats.org/drawingml/2006/table">
            <a:tbl>
              <a:tblPr/>
              <a:tblGrid>
                <a:gridCol w="416880"/>
                <a:gridCol w="416520"/>
                <a:gridCol w="417240"/>
                <a:gridCol w="416880"/>
                <a:gridCol w="417240"/>
                <a:gridCol w="418680"/>
                <a:gridCol w="415440"/>
                <a:gridCol w="416880"/>
                <a:gridCol w="416880"/>
                <a:gridCol w="419040"/>
                <a:gridCol w="415080"/>
                <a:gridCol w="41688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979640" y="1484280"/>
          <a:ext cx="4679640" cy="4530600"/>
        </p:xfrm>
        <a:graphic>
          <a:graphicData uri="http://schemas.openxmlformats.org/drawingml/2006/table">
            <a:tbl>
              <a:tblPr/>
              <a:tblGrid>
                <a:gridCol w="389880"/>
                <a:gridCol w="389520"/>
                <a:gridCol w="390240"/>
                <a:gridCol w="389880"/>
                <a:gridCol w="390240"/>
                <a:gridCol w="391680"/>
                <a:gridCol w="388440"/>
                <a:gridCol w="389880"/>
                <a:gridCol w="389880"/>
                <a:gridCol w="392040"/>
                <a:gridCol w="388080"/>
                <a:gridCol w="38988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763640" y="1557360"/>
          <a:ext cx="4752720" cy="4530600"/>
        </p:xfrm>
        <a:graphic>
          <a:graphicData uri="http://schemas.openxmlformats.org/drawingml/2006/table">
            <a:tbl>
              <a:tblPr/>
              <a:tblGrid>
                <a:gridCol w="396000"/>
                <a:gridCol w="395640"/>
                <a:gridCol w="396360"/>
                <a:gridCol w="396000"/>
                <a:gridCol w="396000"/>
                <a:gridCol w="398160"/>
                <a:gridCol w="394200"/>
                <a:gridCol w="396360"/>
                <a:gridCol w="395640"/>
                <a:gridCol w="398160"/>
                <a:gridCol w="394200"/>
                <a:gridCol w="39600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692360" y="1484280"/>
          <a:ext cx="4897440" cy="4530600"/>
        </p:xfrm>
        <a:graphic>
          <a:graphicData uri="http://schemas.openxmlformats.org/drawingml/2006/table">
            <a:tbl>
              <a:tblPr/>
              <a:tblGrid>
                <a:gridCol w="407880"/>
                <a:gridCol w="407880"/>
                <a:gridCol w="408240"/>
                <a:gridCol w="407880"/>
                <a:gridCol w="407880"/>
                <a:gridCol w="411120"/>
                <a:gridCol w="406440"/>
                <a:gridCol w="408240"/>
                <a:gridCol w="407880"/>
                <a:gridCol w="409680"/>
                <a:gridCol w="406080"/>
                <a:gridCol w="40824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7240"/>
                <a:gridCol w="68436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460836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508720" y="1599840"/>
            <a:ext cx="3178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.Вруб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аревна Лебед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За морем царевна есть,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что не можно глаз отвесть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8920" y="2204640"/>
            <a:ext cx="720072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рациозная              изящная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рупкая                   неж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красная             белоснеж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рдая                    неприступ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атная                  царствен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личавая              величествен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Александр Сергеевич 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Пушкин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99  –  183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23880" y="1125360"/>
            <a:ext cx="4092480" cy="500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95280" y="277560"/>
            <a:ext cx="46911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Царевна Лебедь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76720" y="4149720"/>
            <a:ext cx="2997000" cy="1996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2849760" cy="3500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516720" y="3357720"/>
            <a:ext cx="2419200" cy="3500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4140360" y="836640"/>
            <a:ext cx="3598560" cy="2379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684360" y="260280"/>
            <a:ext cx="2840040" cy="295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74400" y="-5027040"/>
            <a:ext cx="824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46800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Царь ступил на двор широкой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ам под ёлкою высоко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Белка песенку поёт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Золотой орех грызёт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зумрудец вынимае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в мешочек опускает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засеян двор большо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Золотою скорлупо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Гости дале торопливо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мотрят-что ж? княгиня – диво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д косой луна блестит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 во лбу звезда горит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 сама-то величава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ыступает, будто пава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свекровь свою ведёт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Царь глядит – и узнает…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59280" y="333360"/>
            <a:ext cx="42847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нём взыграло ретивое!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«Что я вижу? что такое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ак!» - и дух в нём занялся…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Царь слезами залился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нимает он царицу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сынка, и молодицу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садятся все за стол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весёлый пир пошёл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 ткачиха с поварихой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 сватьей бабой Бабарихо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азбежались по углам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х нашли насилу там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ут во всем они признались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винились, разрыдались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Царь для радости тако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тпустил всех трёх домо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496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Что  за   прелесть   эти   сказки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5411" t="2535" r="6223" b="1170"/>
          <a:stretch/>
        </p:blipFill>
        <p:spPr>
          <a:xfrm>
            <a:off x="684360" y="784080"/>
            <a:ext cx="7832520" cy="6073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-4937400"/>
            <a:ext cx="22716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417080" cy="5425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76000" y="5516280"/>
            <a:ext cx="6264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азка о мертвой царевне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семи богатыр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029120" cy="5516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92000" y="5876640"/>
            <a:ext cx="583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азка о золотом петуш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-4883400"/>
            <a:ext cx="2984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769440" cy="50547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5805000"/>
            <a:ext cx="612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казка о рыбаке и рыбк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-4918680"/>
            <a:ext cx="824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769440" cy="50752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02920" y="5589720"/>
            <a:ext cx="62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казка о мёртвой царевне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 семи богатыря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274160" cy="54388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7640" y="580500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казка о золотом петушк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7:43:30Z</dcterms:created>
  <dc:creator>я</dc:creator>
  <dc:description/>
  <dc:language>en-US</dc:language>
  <cp:lastModifiedBy>Vlad</cp:lastModifiedBy>
  <dcterms:modified xsi:type="dcterms:W3CDTF">2010-07-10T20:58:47Z</dcterms:modified>
  <cp:revision>24</cp:revision>
  <dc:subject/>
  <dc:title>Пушкин Александр Сергеевич</dc:title>
</cp:coreProperties>
</file>