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gif" ContentType="image/gif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3.gif" ContentType="image/gif"/>
  <Override PartName="/ppt/media/image20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AD4-3545-4D55-9BD9-040D1CCE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B91-DDD3-4804-B5F0-57BA778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A05-9DB6-488B-83F0-858EA9D5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F1B-E0FB-4DA4-8ADB-F130ABD9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757E-E858-4AB9-B10B-9CE3AEF9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9B5-B0D5-42BB-AF5A-9306784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103-6A4B-456C-A615-1958EC9A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9B9-9966-4B08-AE5D-2D3DA8C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DE96-929A-4081-9C29-4C1D5CCA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5FD-2449-4C8A-9C7C-776972E4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4B76-C5F0-42A6-AF7A-039DE3C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FA5-D4BD-4E72-BF2B-0960DF4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CD83-7EA1-4F5C-9E41-A191589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358C-3632-47D4-8439-96AE116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2AD5-BEFC-4AFF-8A04-AF0DFDDC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A074-E794-4FD2-B872-6A2DD1B9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87F9-B27F-49ED-893A-40931100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FB5BD-F146-4784-A046-AB44E3B6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2A54C-21A2-452F-A160-91D03AE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BED32-CBA7-4D9C-A6AD-C3D7AFA7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F2917-64A6-4D28-9F27-C2554F6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4D52B-6009-4FAF-BBD6-A4DA580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DAC-21C3-4461-964A-D97A7A02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713AD-8A19-4988-B612-5727AFB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07EA0-EC20-4539-A78E-5BE32ED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A36F4-3E6F-4A32-8F08-10D1A3E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65315-C008-4E79-833F-C5CF5B9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3E851-12F7-4297-BB81-E97970F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1396E-68B2-4917-8DEC-7C80B5F6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601EB-4516-49F6-9B16-A79704C5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F63E-70A1-4499-AAA4-525393E5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081D-F955-4740-8C1D-DAE56CB8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F0DE-5CB0-4848-BC50-5EEE0095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E01-41B8-417C-AEFB-8A006E0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C694-102B-4B21-A601-5A175AF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5FAE-613C-413A-ADC1-AAA24FB8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0AF7-0181-4C52-AF62-13579AAB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8D9D-1B6C-4440-8BED-8F6126F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4282-0030-4639-8B46-91EC24F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B1E1-EC1D-46A4-A424-7D73DFD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5003-B7CF-4024-BCA1-D1C5321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5535-57AD-40AD-B864-BCAA342D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1FC2-2422-45D2-9E27-78E35E14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DE824-C42E-4DD9-9E20-5A48C069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B67-8123-4778-AF1D-6B2A0F0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23FAB-5B01-4CA6-92BA-2CCF2CC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EF471-4F37-4B3F-A08C-3D48770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D9BF0-31D2-419C-BFAF-F0A4C0E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173F8-2451-4AF5-809E-70139B84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EFC17-29C5-49D4-88C5-CF8C655F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6F61C-0AF7-4D92-BB8F-C4FFF67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7341A-F479-4332-A6F9-06E2D04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CECC9-46D1-4424-B6F4-C5F6CF2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75387-4905-4818-966D-CEAEEFE3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ACD86-B4BC-4383-A2AB-514FED89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6D8-4014-4AEB-91C5-018C7A72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CF5EE-ACB5-41A9-ABDE-EC191F4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93948-8DB6-4B5D-B0F5-21CD28A6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59CF3-79CD-4975-BE8C-09F3A78D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1BB37-E6AB-463A-A708-77B19BC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22C61-E869-497A-AAD0-906B8A1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887F8-3B6A-4907-B854-8C0AB5B6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24660-D0A6-4CD6-B8DD-9F16C63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59818-7F67-4F20-89CC-88DB331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FC236-1256-4912-AB72-3019090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CD487-210B-4BDF-8801-001A60A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166-FC15-417D-BE4E-157A71A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FC62F-84DF-421A-A394-9178164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E9685-3460-4CF0-977F-3BADA798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C2DD7-4B6D-4F81-9B4F-FCC062FB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9B9D6-98E2-4A3D-9216-32580070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3D0BE-ED97-459D-9EB7-490F6AE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159A5-2C68-4393-9A0B-CF060EF5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96C59-78CA-49D1-BE48-E37E6D7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74CE6-DE34-437F-97B9-C742549D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15C5A-1CBE-4DB9-A161-C3B9F192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E4CB1-715A-4BEA-B9EE-146EEF1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43E-47E7-4CC3-A56D-DC1498A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50ED1-5789-47AA-8236-A2123C84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6F119-3D39-4FE0-A301-FCCF568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8A339-3D06-44E9-8F24-0E3D992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3C6DA-509B-4CA1-8B53-EA62485C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F735B-25E4-4C95-BD78-4CCDDD30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626-0088-455E-9385-06EB7CF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F5E-AB76-4B4D-BB88-DFCF55A184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575-89D8-4FFA-8D25-42523E70DE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C5A4-1B06-4DFE-8388-69CD035545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BBC-C0B3-4B3E-BE35-4533B0FE08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149-2C79-40A0-BB79-91D737601F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B27-E199-4A6B-89B9-F42C7C1DEA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B442-E4FB-4BFF-B508-B12D35319C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entury Schoolbook"/>
              </a:rPr>
              <a:t>ТЕМА УРОКА «РЕШЕНИЕ ПРИМЕРОВ И ЗАДАЧ»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428840" y="5857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Кутлуева Ольга Михайловна МКОУ СОШ р.п Меж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ЗАДАЧА ДЛЯ ДЕВОЧЕК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Picture 2" descr="C:\Documents and Settings\Владелец\Рабочий стол\с диска С\анимац, презент из Интернета\анимац картинки\f76.gif"/>
          <p:cNvPicPr/>
          <p:nvPr/>
        </p:nvPicPr>
        <p:blipFill>
          <a:blip r:embed="rId1"/>
          <a:stretch/>
        </p:blipFill>
        <p:spPr>
          <a:xfrm>
            <a:off x="7572240" y="357120"/>
            <a:ext cx="1000440" cy="13017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1447920" y="1523880"/>
            <a:ext cx="670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рда полила 7 цветков, а Кай – на 2 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цветов полил К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0013"/>
          <p:cNvPicPr/>
          <p:nvPr/>
        </p:nvPicPr>
        <p:blipFill>
          <a:blip r:embed="rId2"/>
          <a:stretch/>
        </p:blipFill>
        <p:spPr>
          <a:xfrm>
            <a:off x="6143760" y="4572000"/>
            <a:ext cx="2484360" cy="1955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0013"/>
          <p:cNvPicPr/>
          <p:nvPr/>
        </p:nvPicPr>
        <p:blipFill>
          <a:blip r:embed="rId3"/>
          <a:stretch/>
        </p:blipFill>
        <p:spPr>
          <a:xfrm>
            <a:off x="4214880" y="4500720"/>
            <a:ext cx="2484360" cy="1955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0013"/>
          <p:cNvPicPr/>
          <p:nvPr/>
        </p:nvPicPr>
        <p:blipFill>
          <a:blip r:embed="rId4"/>
          <a:stretch/>
        </p:blipFill>
        <p:spPr>
          <a:xfrm>
            <a:off x="5214960" y="3357720"/>
            <a:ext cx="2484360" cy="1955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285840" y="357192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-2=5 (ц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твет: 5 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4"/>
          <p:cNvSpPr/>
          <p:nvPr/>
        </p:nvSpPr>
        <p:spPr>
          <a:xfrm>
            <a:off x="1000080" y="28584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р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http://www.printplay.ru/wp-content/uploads/2010/04/tangram_06.jpg"/>
          <p:cNvPicPr/>
          <p:nvPr/>
        </p:nvPicPr>
        <p:blipFill>
          <a:blip r:embed="rId1"/>
          <a:stretch/>
        </p:blipFill>
        <p:spPr>
          <a:xfrm>
            <a:off x="1714680" y="1214280"/>
            <a:ext cx="47145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C:\Users\Acer\Desktop\tangram_08.jpg"/>
          <p:cNvPicPr/>
          <p:nvPr/>
        </p:nvPicPr>
        <p:blipFill>
          <a:blip r:embed="rId1"/>
          <a:stretch/>
        </p:blipFill>
        <p:spPr>
          <a:xfrm>
            <a:off x="1643040" y="285840"/>
            <a:ext cx="47862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http://www.printplay.ru/wp-content/uploads/2010/04/tangram_04.jpg"/>
          <p:cNvPicPr/>
          <p:nvPr/>
        </p:nvPicPr>
        <p:blipFill>
          <a:blip r:embed="rId1"/>
          <a:stretch/>
        </p:blipFill>
        <p:spPr>
          <a:xfrm>
            <a:off x="185724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ipadstory.ru/wp-content/uploads/2011/08/IMG_0434.jpg"/>
          <p:cNvPicPr/>
          <p:nvPr/>
        </p:nvPicPr>
        <p:blipFill>
          <a:blip r:embed="rId1"/>
          <a:srcRect l="22264" t="20315" r="22660" b="7811"/>
          <a:stretch/>
        </p:blipFill>
        <p:spPr>
          <a:xfrm>
            <a:off x="1143000" y="214200"/>
            <a:ext cx="6588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За лугами над водо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Хлынул дождик проливной,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А потом повисло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На небе коромысло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Ребятишек радует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Цветная  ……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www.get-is.ru/wp-content/uploads/2010/04/vector-rainbow-in-the-clouds-06-by-dragonart-425x425.jpg"/>
          <p:cNvPicPr/>
          <p:nvPr/>
        </p:nvPicPr>
        <p:blipFill>
          <a:blip r:embed="rId1"/>
          <a:srcRect l="0" t="0" r="0" b="82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2" descr=""/>
          <p:cNvPicPr/>
          <p:nvPr/>
        </p:nvPicPr>
        <p:blipFill>
          <a:blip r:embed="rId1"/>
          <a:stretch/>
        </p:blipFill>
        <p:spPr>
          <a:xfrm>
            <a:off x="-73080" y="-49320"/>
            <a:ext cx="9290160" cy="72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581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ЧИСТОПИСАНИЕ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8" name="Группа 15"/>
          <p:cNvGrpSpPr/>
          <p:nvPr/>
        </p:nvGrpSpPr>
        <p:grpSpPr>
          <a:xfrm>
            <a:off x="714240" y="1714680"/>
            <a:ext cx="6643800" cy="1000080"/>
            <a:chOff x="714240" y="1714680"/>
            <a:chExt cx="6643800" cy="1000080"/>
          </a:xfrm>
        </p:grpSpPr>
        <p:sp>
          <p:nvSpPr>
            <p:cNvPr id="359" name="Прямоугольник 16"/>
            <p:cNvSpPr/>
            <p:nvPr/>
          </p:nvSpPr>
          <p:spPr>
            <a:xfrm>
              <a:off x="166356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7"/>
            <p:cNvSpPr/>
            <p:nvPr/>
          </p:nvSpPr>
          <p:spPr>
            <a:xfrm>
              <a:off x="71424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8"/>
            <p:cNvSpPr/>
            <p:nvPr/>
          </p:nvSpPr>
          <p:spPr>
            <a:xfrm>
              <a:off x="545940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9"/>
            <p:cNvSpPr/>
            <p:nvPr/>
          </p:nvSpPr>
          <p:spPr>
            <a:xfrm>
              <a:off x="451008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20"/>
            <p:cNvSpPr/>
            <p:nvPr/>
          </p:nvSpPr>
          <p:spPr>
            <a:xfrm>
              <a:off x="640872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21"/>
            <p:cNvSpPr/>
            <p:nvPr/>
          </p:nvSpPr>
          <p:spPr>
            <a:xfrm>
              <a:off x="3562200" y="1714680"/>
              <a:ext cx="9475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22"/>
            <p:cNvSpPr/>
            <p:nvPr/>
          </p:nvSpPr>
          <p:spPr>
            <a:xfrm>
              <a:off x="261288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56"/>
          <p:cNvSpPr/>
          <p:nvPr/>
        </p:nvSpPr>
        <p:spPr>
          <a:xfrm>
            <a:off x="857160" y="164304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8"/>
          <p:cNvSpPr/>
          <p:nvPr/>
        </p:nvSpPr>
        <p:spPr>
          <a:xfrm>
            <a:off x="2643120" y="17146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   7    7  7 7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9"/>
          <p:cNvSpPr/>
          <p:nvPr/>
        </p:nvSpPr>
        <p:spPr>
          <a:xfrm>
            <a:off x="7358040" y="1714680"/>
            <a:ext cx="1000080" cy="1000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"/>
          <p:cNvSpPr/>
          <p:nvPr/>
        </p:nvSpPr>
        <p:spPr>
          <a:xfrm>
            <a:off x="7429680" y="1714680"/>
            <a:ext cx="9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img0.liveinternet.ru/images/attach/c/4/82/571/82571708_Cifra_7.gif"/>
          <p:cNvPicPr/>
          <p:nvPr/>
        </p:nvPicPr>
        <p:blipFill>
          <a:blip r:embed="rId1"/>
          <a:stretch/>
        </p:blipFill>
        <p:spPr>
          <a:xfrm>
            <a:off x="-357120" y="2857680"/>
            <a:ext cx="4572000" cy="40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prazdnikonline.ru/portfolio/1167.jpg"/>
          <p:cNvPicPr/>
          <p:nvPr/>
        </p:nvPicPr>
        <p:blipFill>
          <a:blip r:embed="rId2"/>
          <a:srcRect l="19413" t="7482" r="14924" b="14844"/>
          <a:stretch/>
        </p:blipFill>
        <p:spPr>
          <a:xfrm>
            <a:off x="4572000" y="2928960"/>
            <a:ext cx="3143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НАВЕДИ ПОРЯДОК В ПРИМЕРАХ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5-3   8-3   3+0 5+3  7+3  6+3 9-3   4-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5-3=      7+3=     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8-3=      6+3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9-3=      3+0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4-3=      5+3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2928960" y="0"/>
            <a:ext cx="10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5"/>
          <p:cNvSpPr/>
          <p:nvPr/>
        </p:nvSpPr>
        <p:spPr>
          <a:xfrm>
            <a:off x="285768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6"/>
          <p:cNvSpPr/>
          <p:nvPr/>
        </p:nvSpPr>
        <p:spPr>
          <a:xfrm>
            <a:off x="2786040" y="307188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7"/>
          <p:cNvSpPr/>
          <p:nvPr/>
        </p:nvSpPr>
        <p:spPr>
          <a:xfrm>
            <a:off x="2786040" y="464328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7500960" y="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764388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643880" y="3071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7643880" y="4643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процесс 1"/>
          <p:cNvSpPr/>
          <p:nvPr/>
        </p:nvSpPr>
        <p:spPr>
          <a:xfrm>
            <a:off x="3571920" y="6072120"/>
            <a:ext cx="4500360" cy="7858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условие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лок-схема: процесс 2"/>
          <p:cNvSpPr/>
          <p:nvPr/>
        </p:nvSpPr>
        <p:spPr>
          <a:xfrm>
            <a:off x="3643200" y="4929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Schoolbook"/>
              </a:rPr>
              <a:t>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3"/>
          <p:cNvSpPr/>
          <p:nvPr/>
        </p:nvSpPr>
        <p:spPr>
          <a:xfrm>
            <a:off x="3643200" y="1428840"/>
            <a:ext cx="4357800" cy="235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Century Schoolbook"/>
              </a:rPr>
              <a:t>отве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Блок-схема: процесс 4"/>
          <p:cNvSpPr/>
          <p:nvPr/>
        </p:nvSpPr>
        <p:spPr>
          <a:xfrm>
            <a:off x="3643200" y="3786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Schoolbook"/>
              </a:rPr>
              <a:t>реш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E:\Documents and Settings\Admin\Мои документы\мама\Мои рисунки\люди,цветы,солнце анимации\solnychko.gif"/>
          <p:cNvPicPr/>
          <p:nvPr/>
        </p:nvPicPr>
        <p:blipFill>
          <a:blip r:embed="rId3"/>
          <a:stretch/>
        </p:blipFill>
        <p:spPr>
          <a:xfrm>
            <a:off x="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nk_tulips"/>
          <p:cNvPicPr/>
          <p:nvPr/>
        </p:nvPicPr>
        <p:blipFill>
          <a:blip r:embed="rId4"/>
          <a:stretch/>
        </p:blipFill>
        <p:spPr>
          <a:xfrm>
            <a:off x="8153280" y="57722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pink_tulips"/>
          <p:cNvPicPr/>
          <p:nvPr/>
        </p:nvPicPr>
        <p:blipFill>
          <a:blip r:embed="rId5"/>
          <a:stretch/>
        </p:blipFill>
        <p:spPr>
          <a:xfrm>
            <a:off x="2571840" y="5772240"/>
            <a:ext cx="990360" cy="1085760"/>
          </a:xfrm>
          <a:prstGeom prst="rect">
            <a:avLst/>
          </a:prstGeom>
          <a:ln w="0">
            <a:noFill/>
          </a:ln>
        </p:spPr>
      </p:pic>
      <p:sp>
        <p:nvSpPr>
          <p:cNvPr id="391" name="Выноска-облако 14"/>
          <p:cNvSpPr/>
          <p:nvPr/>
        </p:nvSpPr>
        <p:spPr>
          <a:xfrm>
            <a:off x="142920" y="1785960"/>
            <a:ext cx="4286160" cy="2571840"/>
          </a:xfrm>
          <a:prstGeom prst="cloudCallout">
            <a:avLst>
              <a:gd name="adj1" fmla="val 17365"/>
              <a:gd name="adj2" fmla="val 86486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задаче  всегда должны быть  составные ч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Картинка 21 из 7108"/>
          <p:cNvPicPr/>
          <p:nvPr/>
        </p:nvPicPr>
        <p:blipFill>
          <a:blip r:embed="rId6"/>
          <a:srcRect l="1831" t="0" r="6822" b="35529"/>
          <a:stretch/>
        </p:blipFill>
        <p:spPr>
          <a:xfrm>
            <a:off x="2643120" y="0"/>
            <a:ext cx="2500560" cy="161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3" name="Picture 4" descr="Картинка 21 из 7108"/>
          <p:cNvPicPr/>
          <p:nvPr/>
        </p:nvPicPr>
        <p:blipFill>
          <a:blip r:embed="rId7"/>
          <a:srcRect l="1831" t="0" r="6822" b="35529"/>
          <a:stretch/>
        </p:blipFill>
        <p:spPr>
          <a:xfrm flipH="1" rot="1434000">
            <a:off x="6622200" y="186840"/>
            <a:ext cx="2310120" cy="153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4" name="Picture 25" descr="118b"/>
          <p:cNvPicPr/>
          <p:nvPr/>
        </p:nvPicPr>
        <p:blipFill>
          <a:blip r:embed="rId8"/>
          <a:stretch/>
        </p:blipFill>
        <p:spPr>
          <a:xfrm>
            <a:off x="0" y="5440320"/>
            <a:ext cx="1065240" cy="141768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3" descr="http://s56.radikal.ru/i153/1002/c0/896fc47642c8.png"/>
          <p:cNvPicPr/>
          <p:nvPr/>
        </p:nvPicPr>
        <p:blipFill>
          <a:blip r:embed="rId9"/>
          <a:stretch/>
        </p:blipFill>
        <p:spPr>
          <a:xfrm>
            <a:off x="214200" y="4429080"/>
            <a:ext cx="3214800" cy="2786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880c37497f4942a794b88501e0ee52f1"/>
          <p:cNvPicPr/>
          <p:nvPr/>
        </p:nvPicPr>
        <p:blipFill>
          <a:blip r:embed="rId10"/>
          <a:stretch/>
        </p:blipFill>
        <p:spPr>
          <a:xfrm rot="18174600">
            <a:off x="4269960" y="168228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3e67680d7248acdbf98353260e5b6329"/>
          <p:cNvPicPr/>
          <p:nvPr/>
        </p:nvPicPr>
        <p:blipFill>
          <a:blip r:embed="rId11"/>
          <a:stretch/>
        </p:blipFill>
        <p:spPr>
          <a:xfrm rot="21212400">
            <a:off x="45720" y="412092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11" descr="мишка"/>
          <p:cNvPicPr/>
          <p:nvPr/>
        </p:nvPicPr>
        <p:blipFill>
          <a:blip r:embed="rId1"/>
          <a:stretch/>
        </p:blipFill>
        <p:spPr>
          <a:xfrm>
            <a:off x="6215040" y="3000240"/>
            <a:ext cx="1976400" cy="2438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5"/>
          <p:cNvSpPr/>
          <p:nvPr/>
        </p:nvSpPr>
        <p:spPr>
          <a:xfrm>
            <a:off x="1523880" y="57168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мка поймал 5 рыбок, а мама на 3 больше.  Сколько рыбок поймала ма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8" descr="C:\старое\Documents and Settings\С похмела\Мои документы\Мои рисунки\Гифы\77.gif"/>
          <p:cNvPicPr/>
          <p:nvPr/>
        </p:nvPicPr>
        <p:blipFill>
          <a:blip r:embed="rId2"/>
          <a:stretch/>
        </p:blipFill>
        <p:spPr>
          <a:xfrm>
            <a:off x="0" y="3929040"/>
            <a:ext cx="167652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C:\старое\Documents and Settings\С похмела\Мои документы\Мои рисунки\Гифы\77.gif"/>
          <p:cNvPicPr/>
          <p:nvPr/>
        </p:nvPicPr>
        <p:blipFill>
          <a:blip r:embed="rId3"/>
          <a:stretch/>
        </p:blipFill>
        <p:spPr>
          <a:xfrm>
            <a:off x="7286760" y="0"/>
            <a:ext cx="1447560" cy="1068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D:\старое\Documents and Settings\Ирина\Мои документы\Мои рисунки\Гифы\чс.gif"/>
          <p:cNvPicPr/>
          <p:nvPr/>
        </p:nvPicPr>
        <p:blipFill>
          <a:blip r:embed="rId4"/>
          <a:stretch/>
        </p:blipFill>
        <p:spPr>
          <a:xfrm flipH="1">
            <a:off x="7071840" y="1071720"/>
            <a:ext cx="1398600" cy="2361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:\старое\Documents and Settings\Ирина\Мои документы\Мои рисунки\Гифы\чс.gif"/>
          <p:cNvPicPr/>
          <p:nvPr/>
        </p:nvPicPr>
        <p:blipFill>
          <a:blip r:embed="rId5"/>
          <a:stretch/>
        </p:blipFill>
        <p:spPr>
          <a:xfrm flipH="1">
            <a:off x="142560" y="1000080"/>
            <a:ext cx="1306440" cy="162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1"/>
          <p:cNvSpPr/>
          <p:nvPr/>
        </p:nvSpPr>
        <p:spPr>
          <a:xfrm>
            <a:off x="1571760" y="357192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+3=8 (р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твет:8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"/>
          <p:cNvSpPr/>
          <p:nvPr/>
        </p:nvSpPr>
        <p:spPr>
          <a:xfrm>
            <a:off x="85716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68c4"/>
                </a:solidFill>
                <a:latin typeface="Arial"/>
              </a:rPr>
              <a:t>Задача для мальч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5:40:40Z</dcterms:created>
  <dc:creator>Acer</dc:creator>
  <dc:description/>
  <dc:language>en-US</dc:language>
  <cp:lastModifiedBy>Acer</cp:lastModifiedBy>
  <dcterms:modified xsi:type="dcterms:W3CDTF">2012-12-22T06:55:02Z</dcterms:modified>
  <cp:revision>42</cp:revision>
  <dc:subject/>
  <dc:title>Слайд 1</dc:title>
</cp:coreProperties>
</file>