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gif" ContentType="image/gif"/>
  <Override PartName="/ppt/media/image9.png" ContentType="image/png"/>
  <Override PartName="/ppt/media/image12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13.gif" ContentType="image/gif"/>
  <Override PartName="/ppt/media/image20.jpeg" ContentType="image/jpeg"/>
  <Override PartName="/ppt/media/image18.gif" ContentType="image/gif"/>
  <Override PartName="/ppt/media/image21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8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506-E922-4706-8F93-517C21CD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804-6B37-46FB-87F4-A2003576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A83-3302-40A8-A95D-A0ED0DD2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7EE-F91F-49EE-9D21-2A8BA4ED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9C8A-2B0A-4353-A039-FE9B11C5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1E96-1AA2-4D1F-A379-BE60D121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826E-0CB3-416F-96DC-B6273A2E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A474-BE09-4ADC-8CCD-EDCBBE50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6DC6-FF83-49DA-AF2F-2BC366B5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9449-7F4E-40CC-98A5-DB6DF74D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AB05-8F17-4904-B62C-007D5D41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BFE-1610-4F01-8A94-7ADA3BAB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BE2F-345D-4EE1-821A-D70A12A3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DF4C-27FA-4379-A7B8-FDA98FC5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F828-0269-496D-B19F-F5EC6CC1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2474-904A-4A0B-970E-B1FB3B31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E19F-9C8E-406B-84D9-6A85EDF9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5CC41-D03F-4F10-BD09-616A7CAD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31F51-B22C-433F-8089-AB8570DF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462D8-0A8B-4803-A6BA-E41F7BA2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39D26-D904-42A6-8AD7-561DBB9E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545DC-FBB8-49B0-AB85-8D51E991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8E6-9501-4410-81BB-1D3EB31C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89B09-904E-49BB-BEFB-E4D0BE83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395D3-C9C3-4627-A691-6B8CE794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C54B7-83F8-49CE-AFDB-CCB54A49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8290C-EFD6-4B3B-B447-A17BC534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82766-D879-45F9-9FDD-0407ACDB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541DE-7D48-46C3-99CF-D8711EBF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A257E-5D21-4A25-8423-97AC475C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094DA-D329-427B-BA64-9D88E1BC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98407-0F18-4181-8177-143580C7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A6485-D7C4-4961-9FA8-570E40C3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AF0-4D05-41CA-A8DA-138A97C5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41F68-9765-4229-AEFF-42A68B11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A3BB2-679A-4CFA-9235-0CB0F6C4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0E877-5C29-4EC7-BCAC-97B5333B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8846-B4BA-46E8-9FFB-B4199370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CE569-B04B-4B1C-89FE-A5ED709E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5484E-AB0D-45BA-AD88-F9B465BF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60EA9-F489-498B-9B83-14C7D4E9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9CFA8-1336-4062-98B2-DE09B6A3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CFD90-9C7B-441B-9748-0FC2C0B5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69901-269B-49C0-9642-B51B0716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7EA-0147-4F98-BADC-DEF62765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5456F0-A4A4-4752-851B-E8AF0D9C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8DFD2-C045-4F1F-972E-72FB1DEF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C67DD-C9FB-4AF2-BD8E-CBD96F37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B489D-D1CC-4E15-B486-83E72281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04693-42D9-4D14-9D63-742D57D7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69CEC0-F39A-4E95-8150-E6A626A0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96EDD-1C81-43BF-B87E-BED7C659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A338C-BBCF-4128-A2E2-148513EC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181CD-0E06-494E-9B3B-E6CC06F4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8644B-E928-45EB-BE4D-0B09A07F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23D-5706-42C2-A1C0-506EEC88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7BBC8-32D4-4712-A3E4-E9D19E95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DAE98-4A4C-4673-8BC5-A1E687A4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77A62-0E92-4454-831B-96E0398A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94355-3425-4067-A8FB-8BF680B8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E8039F-007D-44C9-95C2-13042864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EFC6B-2351-4A17-91CB-A9F05F92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ABD01-0C14-4889-A399-530FE2F2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C97608-B405-4455-BD7E-D429C91A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688A0-B761-4918-94A1-C87D065F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70EF3B-74C8-4215-923C-C2B4F1CD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67F-E7F7-4342-A065-C47BB0A7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64068C-4EBE-4116-98F9-7DF0DEF6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8966E-0290-4758-A84F-7B0F4469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51F384-C3D7-4541-B987-63B9ADA0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64CDC9-E49A-40B3-9E09-FFF7276E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EF894A-6FE6-4789-A15D-35AE62A8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39482-2BF9-43A9-9E05-4860B901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80F1BC-48BC-49A5-A932-111CDB2E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5861D9-3DFC-483C-B283-B9E8D371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1A3F22-915E-46B8-99B6-B1EFC830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27772-CFFF-41AF-A50B-2815C664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963-1C30-420C-A479-85E7ECDB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EFF36-E778-4A5C-A6BA-3B6D0C5A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683EE9-BD64-472A-A1F4-7D7BD508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5F315D-D521-49F3-B014-6C6B20FF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C0DE6C-3130-47B7-9303-68D1BB34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7D1940-E05B-49B8-BA7B-A755966E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D57-A105-4B56-9087-D0260CAC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6378-7984-419D-8C88-2C3C22039E8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135C-7BC0-466F-8696-BDBE36CF6DC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EC5F-8512-4347-A9A8-9FD7266A13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7AF7-4D6B-41F2-A696-B82286FB0B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F945-DEAF-424A-AD80-47039861A45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79DF-04BD-46D6-9C21-44C25001C46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065C-BFFF-4BF1-B5BF-4A633B5654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gif"/><Relationship Id="rId9" Type="http://schemas.openxmlformats.org/officeDocument/2006/relationships/image" Target="../media/image11.png"/><Relationship Id="rId10" Type="http://schemas.openxmlformats.org/officeDocument/2006/relationships/image" Target="../media/image12.gif"/><Relationship Id="rId11" Type="http://schemas.openxmlformats.org/officeDocument/2006/relationships/image" Target="../media/image13.gi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Century Schoolbook"/>
              </a:rPr>
              <a:t>ТЕМА УРОКА «РЕШЕНИЕ ПРИМЕРОВ И ЗАДАЧ»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1428840" y="5857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Кутлуева Ольга Михайловна МКОУ СОШ р.п Меж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ЗАДАЧА ДЛЯ ДЕВОЧЕК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8" name="Picture 2" descr="C:\Documents and Settings\Владелец\Рабочий стол\с диска С\анимац, презент из Интернета\анимац картинки\f76.gif"/>
          <p:cNvPicPr/>
          <p:nvPr/>
        </p:nvPicPr>
        <p:blipFill>
          <a:blip r:embed="rId1"/>
          <a:stretch/>
        </p:blipFill>
        <p:spPr>
          <a:xfrm>
            <a:off x="7572240" y="357120"/>
            <a:ext cx="1000440" cy="1301760"/>
          </a:xfrm>
          <a:prstGeom prst="rect">
            <a:avLst/>
          </a:prstGeom>
          <a:ln w="0">
            <a:noFill/>
          </a:ln>
        </p:spPr>
      </p:pic>
      <p:sp>
        <p:nvSpPr>
          <p:cNvPr id="409" name="TextBox 7"/>
          <p:cNvSpPr/>
          <p:nvPr/>
        </p:nvSpPr>
        <p:spPr>
          <a:xfrm>
            <a:off x="1447920" y="1523880"/>
            <a:ext cx="6705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ерда полила 7 цветков, а Кай – на 2 мень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олько цветов полил Ка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0013"/>
          <p:cNvPicPr/>
          <p:nvPr/>
        </p:nvPicPr>
        <p:blipFill>
          <a:blip r:embed="rId2"/>
          <a:stretch/>
        </p:blipFill>
        <p:spPr>
          <a:xfrm>
            <a:off x="6143760" y="4572000"/>
            <a:ext cx="2484360" cy="1955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0013"/>
          <p:cNvPicPr/>
          <p:nvPr/>
        </p:nvPicPr>
        <p:blipFill>
          <a:blip r:embed="rId3"/>
          <a:stretch/>
        </p:blipFill>
        <p:spPr>
          <a:xfrm>
            <a:off x="4214880" y="4500720"/>
            <a:ext cx="2484360" cy="19555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0013"/>
          <p:cNvPicPr/>
          <p:nvPr/>
        </p:nvPicPr>
        <p:blipFill>
          <a:blip r:embed="rId4"/>
          <a:stretch/>
        </p:blipFill>
        <p:spPr>
          <a:xfrm>
            <a:off x="5214960" y="3357720"/>
            <a:ext cx="2484360" cy="19555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7"/>
          <p:cNvSpPr/>
          <p:nvPr/>
        </p:nvSpPr>
        <p:spPr>
          <a:xfrm>
            <a:off x="285840" y="3571920"/>
            <a:ext cx="46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7-2=5 (ц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твет: 5 ц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4"/>
          <p:cNvSpPr/>
          <p:nvPr/>
        </p:nvSpPr>
        <p:spPr>
          <a:xfrm>
            <a:off x="1000080" y="285840"/>
            <a:ext cx="692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гр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http://www.printplay.ru/wp-content/uploads/2010/04/tangram_06.jpg"/>
          <p:cNvPicPr/>
          <p:nvPr/>
        </p:nvPicPr>
        <p:blipFill>
          <a:blip r:embed="rId1"/>
          <a:stretch/>
        </p:blipFill>
        <p:spPr>
          <a:xfrm>
            <a:off x="1714680" y="1214280"/>
            <a:ext cx="47145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" descr="C:\Users\Acer\Desktop\tangram_08.jpg"/>
          <p:cNvPicPr/>
          <p:nvPr/>
        </p:nvPicPr>
        <p:blipFill>
          <a:blip r:embed="rId1"/>
          <a:stretch/>
        </p:blipFill>
        <p:spPr>
          <a:xfrm>
            <a:off x="1643040" y="285840"/>
            <a:ext cx="47862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http://www.printplay.ru/wp-content/uploads/2010/04/tangram_04.jpg"/>
          <p:cNvPicPr/>
          <p:nvPr/>
        </p:nvPicPr>
        <p:blipFill>
          <a:blip r:embed="rId1"/>
          <a:stretch/>
        </p:blipFill>
        <p:spPr>
          <a:xfrm>
            <a:off x="185724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http://ipadstory.ru/wp-content/uploads/2011/08/IMG_0434.jpg"/>
          <p:cNvPicPr/>
          <p:nvPr/>
        </p:nvPicPr>
        <p:blipFill>
          <a:blip r:embed="rId1"/>
          <a:srcRect l="22264" t="20315" r="22660" b="7811"/>
          <a:stretch/>
        </p:blipFill>
        <p:spPr>
          <a:xfrm>
            <a:off x="1143000" y="214200"/>
            <a:ext cx="65880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entury Schoolbook"/>
              </a:rPr>
              <a:t>За лугами над водой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entury Schoolbook"/>
              </a:rPr>
              <a:t>Хлынул дождик проливной,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entury Schoolbook"/>
              </a:rPr>
              <a:t>А потом повисло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entury Schoolbook"/>
              </a:rPr>
              <a:t>На небе коромысло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entury Schoolbook"/>
              </a:rPr>
              <a:t>Ребятишек радует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entury Schoolbook"/>
              </a:rPr>
              <a:t>Цветная  …….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www.get-is.ru/wp-content/uploads/2010/04/vector-rainbow-in-the-clouds-06-by-dragonart-425x425.jpg"/>
          <p:cNvPicPr/>
          <p:nvPr/>
        </p:nvPicPr>
        <p:blipFill>
          <a:blip r:embed="rId1"/>
          <a:srcRect l="0" t="0" r="0" b="82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Объект 2" descr=""/>
          <p:cNvPicPr/>
          <p:nvPr/>
        </p:nvPicPr>
        <p:blipFill>
          <a:blip r:embed="rId1"/>
          <a:stretch/>
        </p:blipFill>
        <p:spPr>
          <a:xfrm>
            <a:off x="-73080" y="-49320"/>
            <a:ext cx="9290160" cy="72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35812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575f6d"/>
                </a:solidFill>
                <a:latin typeface="Century Schoolbook"/>
              </a:rPr>
              <a:t>ЧИСТОПИСАНИЕ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58" name="Группа 15"/>
          <p:cNvGrpSpPr/>
          <p:nvPr/>
        </p:nvGrpSpPr>
        <p:grpSpPr>
          <a:xfrm>
            <a:off x="714240" y="1714680"/>
            <a:ext cx="6643800" cy="1000080"/>
            <a:chOff x="714240" y="1714680"/>
            <a:chExt cx="6643800" cy="1000080"/>
          </a:xfrm>
        </p:grpSpPr>
        <p:sp>
          <p:nvSpPr>
            <p:cNvPr id="359" name="Прямоугольник 16"/>
            <p:cNvSpPr/>
            <p:nvPr/>
          </p:nvSpPr>
          <p:spPr>
            <a:xfrm>
              <a:off x="1663560" y="1714680"/>
              <a:ext cx="949320" cy="1000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17"/>
            <p:cNvSpPr/>
            <p:nvPr/>
          </p:nvSpPr>
          <p:spPr>
            <a:xfrm>
              <a:off x="714240" y="1714680"/>
              <a:ext cx="949320" cy="1000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оугольник 18"/>
            <p:cNvSpPr/>
            <p:nvPr/>
          </p:nvSpPr>
          <p:spPr>
            <a:xfrm>
              <a:off x="5459400" y="1714680"/>
              <a:ext cx="949320" cy="1000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19"/>
            <p:cNvSpPr/>
            <p:nvPr/>
          </p:nvSpPr>
          <p:spPr>
            <a:xfrm>
              <a:off x="4510080" y="1714680"/>
              <a:ext cx="949320" cy="1000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оугольник 20"/>
            <p:cNvSpPr/>
            <p:nvPr/>
          </p:nvSpPr>
          <p:spPr>
            <a:xfrm>
              <a:off x="6408720" y="1714680"/>
              <a:ext cx="949320" cy="1000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оугольник 21"/>
            <p:cNvSpPr/>
            <p:nvPr/>
          </p:nvSpPr>
          <p:spPr>
            <a:xfrm>
              <a:off x="3562200" y="1714680"/>
              <a:ext cx="947520" cy="1000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оугольник 22"/>
            <p:cNvSpPr/>
            <p:nvPr/>
          </p:nvSpPr>
          <p:spPr>
            <a:xfrm>
              <a:off x="2612880" y="1714680"/>
              <a:ext cx="949320" cy="10000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Box 56"/>
          <p:cNvSpPr/>
          <p:nvPr/>
        </p:nvSpPr>
        <p:spPr>
          <a:xfrm>
            <a:off x="857160" y="1643040"/>
            <a:ext cx="10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8"/>
          <p:cNvSpPr/>
          <p:nvPr/>
        </p:nvSpPr>
        <p:spPr>
          <a:xfrm>
            <a:off x="2643120" y="17146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7   7    7  7 7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59"/>
          <p:cNvSpPr/>
          <p:nvPr/>
        </p:nvSpPr>
        <p:spPr>
          <a:xfrm>
            <a:off x="7358040" y="1714680"/>
            <a:ext cx="1000080" cy="1000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0"/>
          <p:cNvSpPr/>
          <p:nvPr/>
        </p:nvSpPr>
        <p:spPr>
          <a:xfrm>
            <a:off x="7429680" y="1714680"/>
            <a:ext cx="9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://img0.liveinternet.ru/images/attach/c/4/82/571/82571708_Cifra_7.gif"/>
          <p:cNvPicPr/>
          <p:nvPr/>
        </p:nvPicPr>
        <p:blipFill>
          <a:blip r:embed="rId1"/>
          <a:stretch/>
        </p:blipFill>
        <p:spPr>
          <a:xfrm>
            <a:off x="-357120" y="2857680"/>
            <a:ext cx="4572000" cy="4000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http://prazdnikonline.ru/portfolio/1167.jpg"/>
          <p:cNvPicPr/>
          <p:nvPr/>
        </p:nvPicPr>
        <p:blipFill>
          <a:blip r:embed="rId2"/>
          <a:srcRect l="19413" t="7482" r="14924" b="14844"/>
          <a:stretch/>
        </p:blipFill>
        <p:spPr>
          <a:xfrm>
            <a:off x="4572000" y="2928960"/>
            <a:ext cx="3143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НАВЕДИ ПОРЯДОК В ПРИМЕРАХ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5-3   8-3   3+0 5+3  7+3  6+3 9-3   4-3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5-3=      7+3=     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8-3=      6+3=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9-3=      3+0=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4-3=      5+3=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2928960" y="0"/>
            <a:ext cx="100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5"/>
          <p:cNvSpPr/>
          <p:nvPr/>
        </p:nvSpPr>
        <p:spPr>
          <a:xfrm>
            <a:off x="2857680" y="150012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6"/>
          <p:cNvSpPr/>
          <p:nvPr/>
        </p:nvSpPr>
        <p:spPr>
          <a:xfrm>
            <a:off x="2786040" y="307188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7"/>
          <p:cNvSpPr/>
          <p:nvPr/>
        </p:nvSpPr>
        <p:spPr>
          <a:xfrm>
            <a:off x="2786040" y="464328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8"/>
          <p:cNvSpPr/>
          <p:nvPr/>
        </p:nvSpPr>
        <p:spPr>
          <a:xfrm>
            <a:off x="7500960" y="0"/>
            <a:ext cx="164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0"/>
          <p:cNvSpPr/>
          <p:nvPr/>
        </p:nvSpPr>
        <p:spPr>
          <a:xfrm>
            <a:off x="7643880" y="150012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1"/>
          <p:cNvSpPr/>
          <p:nvPr/>
        </p:nvSpPr>
        <p:spPr>
          <a:xfrm>
            <a:off x="7643880" y="30718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2"/>
          <p:cNvSpPr/>
          <p:nvPr/>
        </p:nvSpPr>
        <p:spPr>
          <a:xfrm>
            <a:off x="7643880" y="46432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Блок-схема: процесс 1"/>
          <p:cNvSpPr/>
          <p:nvPr/>
        </p:nvSpPr>
        <p:spPr>
          <a:xfrm>
            <a:off x="3571920" y="6072120"/>
            <a:ext cx="4500360" cy="78588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entury Schoolbook"/>
              </a:rPr>
              <a:t>условие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Блок-схема: процесс 2"/>
          <p:cNvSpPr/>
          <p:nvPr/>
        </p:nvSpPr>
        <p:spPr>
          <a:xfrm>
            <a:off x="3643200" y="4929120"/>
            <a:ext cx="4357800" cy="1143000"/>
          </a:xfrm>
          <a:prstGeom prst="flowChartProcess">
            <a:avLst/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entury Schoolbook"/>
              </a:rPr>
              <a:t>вопро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Равнобедренный треугольник 3"/>
          <p:cNvSpPr/>
          <p:nvPr/>
        </p:nvSpPr>
        <p:spPr>
          <a:xfrm>
            <a:off x="3643200" y="1428840"/>
            <a:ext cx="4357800" cy="2357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ffffff"/>
                </a:solidFill>
                <a:latin typeface="Century Schoolbook"/>
              </a:rPr>
              <a:t>ответ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Блок-схема: процесс 4"/>
          <p:cNvSpPr/>
          <p:nvPr/>
        </p:nvSpPr>
        <p:spPr>
          <a:xfrm>
            <a:off x="3643200" y="3786120"/>
            <a:ext cx="4357800" cy="1143000"/>
          </a:xfrm>
          <a:prstGeom prst="flowChartProcess">
            <a:avLst/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entury Schoolbook"/>
              </a:rPr>
              <a:t>реш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E:\Documents and Settings\Admin\Мои документы\мама\Мои рисунки\люди,цветы,солнце анимации\solnychko.gif"/>
          <p:cNvPicPr/>
          <p:nvPr/>
        </p:nvPicPr>
        <p:blipFill>
          <a:blip r:embed="rId3"/>
          <a:stretch/>
        </p:blipFill>
        <p:spPr>
          <a:xfrm>
            <a:off x="0" y="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pink_tulips"/>
          <p:cNvPicPr/>
          <p:nvPr/>
        </p:nvPicPr>
        <p:blipFill>
          <a:blip r:embed="rId4"/>
          <a:stretch/>
        </p:blipFill>
        <p:spPr>
          <a:xfrm>
            <a:off x="8153280" y="577224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pink_tulips"/>
          <p:cNvPicPr/>
          <p:nvPr/>
        </p:nvPicPr>
        <p:blipFill>
          <a:blip r:embed="rId5"/>
          <a:stretch/>
        </p:blipFill>
        <p:spPr>
          <a:xfrm>
            <a:off x="2571840" y="5772240"/>
            <a:ext cx="990360" cy="1085760"/>
          </a:xfrm>
          <a:prstGeom prst="rect">
            <a:avLst/>
          </a:prstGeom>
          <a:ln w="0">
            <a:noFill/>
          </a:ln>
        </p:spPr>
      </p:pic>
      <p:sp>
        <p:nvSpPr>
          <p:cNvPr id="391" name="Выноска-облако 14"/>
          <p:cNvSpPr/>
          <p:nvPr/>
        </p:nvSpPr>
        <p:spPr>
          <a:xfrm>
            <a:off x="142920" y="1785960"/>
            <a:ext cx="4286160" cy="2571840"/>
          </a:xfrm>
          <a:prstGeom prst="cloudCallout">
            <a:avLst>
              <a:gd name="adj1" fmla="val 17365"/>
              <a:gd name="adj2" fmla="val 86486"/>
            </a:avLst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задаче  всегда должны быть  составные ча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4" descr="Картинка 21 из 7108"/>
          <p:cNvPicPr/>
          <p:nvPr/>
        </p:nvPicPr>
        <p:blipFill>
          <a:blip r:embed="rId6"/>
          <a:srcRect l="1831" t="0" r="6822" b="35529"/>
          <a:stretch/>
        </p:blipFill>
        <p:spPr>
          <a:xfrm>
            <a:off x="2643120" y="0"/>
            <a:ext cx="2500560" cy="161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3" name="Picture 4" descr="Картинка 21 из 7108"/>
          <p:cNvPicPr/>
          <p:nvPr/>
        </p:nvPicPr>
        <p:blipFill>
          <a:blip r:embed="rId7"/>
          <a:srcRect l="1831" t="0" r="6822" b="35529"/>
          <a:stretch/>
        </p:blipFill>
        <p:spPr>
          <a:xfrm flipH="1" rot="1434000">
            <a:off x="6622200" y="186840"/>
            <a:ext cx="2310120" cy="153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4" name="Picture 25" descr="118b"/>
          <p:cNvPicPr/>
          <p:nvPr/>
        </p:nvPicPr>
        <p:blipFill>
          <a:blip r:embed="rId8"/>
          <a:stretch/>
        </p:blipFill>
        <p:spPr>
          <a:xfrm>
            <a:off x="0" y="5440320"/>
            <a:ext cx="1065240" cy="1417680"/>
          </a:xfrm>
          <a:prstGeom prst="rect">
            <a:avLst/>
          </a:prstGeom>
          <a:ln w="0">
            <a:noFill/>
          </a:ln>
        </p:spPr>
      </p:pic>
      <p:pic>
        <p:nvPicPr>
          <p:cNvPr id="395" name="Содержимое 3" descr="http://s56.radikal.ru/i153/1002/c0/896fc47642c8.png"/>
          <p:cNvPicPr/>
          <p:nvPr/>
        </p:nvPicPr>
        <p:blipFill>
          <a:blip r:embed="rId9"/>
          <a:stretch/>
        </p:blipFill>
        <p:spPr>
          <a:xfrm>
            <a:off x="214200" y="4429080"/>
            <a:ext cx="3214800" cy="27860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880c37497f4942a794b88501e0ee52f1"/>
          <p:cNvPicPr/>
          <p:nvPr/>
        </p:nvPicPr>
        <p:blipFill>
          <a:blip r:embed="rId10"/>
          <a:stretch/>
        </p:blipFill>
        <p:spPr>
          <a:xfrm rot="18174600">
            <a:off x="4269960" y="1682280"/>
            <a:ext cx="847800" cy="7621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7" descr="3e67680d7248acdbf98353260e5b6329"/>
          <p:cNvPicPr/>
          <p:nvPr/>
        </p:nvPicPr>
        <p:blipFill>
          <a:blip r:embed="rId11"/>
          <a:stretch/>
        </p:blipFill>
        <p:spPr>
          <a:xfrm rot="21212400">
            <a:off x="45720" y="4120920"/>
            <a:ext cx="9367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00"/>
                </a:solidFill>
                <a:latin typeface="Century Schoolbook"/>
              </a:rPr>
              <a:t> </a:t>
            </a:r>
            <a:endParaRPr b="0" lang="en-US" sz="65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Picture 11" descr="мишка"/>
          <p:cNvPicPr/>
          <p:nvPr/>
        </p:nvPicPr>
        <p:blipFill>
          <a:blip r:embed="rId1"/>
          <a:stretch/>
        </p:blipFill>
        <p:spPr>
          <a:xfrm>
            <a:off x="6215040" y="3000240"/>
            <a:ext cx="1976400" cy="24386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5"/>
          <p:cNvSpPr/>
          <p:nvPr/>
        </p:nvSpPr>
        <p:spPr>
          <a:xfrm>
            <a:off x="1523880" y="571680"/>
            <a:ext cx="571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мка поймал 5 рыбок, а мама на 3 больше.  Сколько рыбок поймала ма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8" descr="C:\старое\Documents and Settings\С похмела\Мои документы\Мои рисунки\Гифы\77.gif"/>
          <p:cNvPicPr/>
          <p:nvPr/>
        </p:nvPicPr>
        <p:blipFill>
          <a:blip r:embed="rId2"/>
          <a:stretch/>
        </p:blipFill>
        <p:spPr>
          <a:xfrm>
            <a:off x="0" y="3929040"/>
            <a:ext cx="1676520" cy="1238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C:\старое\Documents and Settings\С похмела\Мои документы\Мои рисунки\Гифы\77.gif"/>
          <p:cNvPicPr/>
          <p:nvPr/>
        </p:nvPicPr>
        <p:blipFill>
          <a:blip r:embed="rId3"/>
          <a:stretch/>
        </p:blipFill>
        <p:spPr>
          <a:xfrm>
            <a:off x="7286760" y="0"/>
            <a:ext cx="1447560" cy="10684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D:\старое\Documents and Settings\Ирина\Мои документы\Мои рисунки\Гифы\чс.gif"/>
          <p:cNvPicPr/>
          <p:nvPr/>
        </p:nvPicPr>
        <p:blipFill>
          <a:blip r:embed="rId4"/>
          <a:stretch/>
        </p:blipFill>
        <p:spPr>
          <a:xfrm flipH="1">
            <a:off x="7071840" y="1071720"/>
            <a:ext cx="1398600" cy="23619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4" descr="D:\старое\Documents and Settings\Ирина\Мои документы\Мои рисунки\Гифы\чс.gif"/>
          <p:cNvPicPr/>
          <p:nvPr/>
        </p:nvPicPr>
        <p:blipFill>
          <a:blip r:embed="rId5"/>
          <a:stretch/>
        </p:blipFill>
        <p:spPr>
          <a:xfrm flipH="1">
            <a:off x="142560" y="1000080"/>
            <a:ext cx="1306440" cy="16207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11"/>
          <p:cNvSpPr/>
          <p:nvPr/>
        </p:nvSpPr>
        <p:spPr>
          <a:xfrm>
            <a:off x="1571760" y="3571920"/>
            <a:ext cx="46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5+3=8 (р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твет:8 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2"/>
          <p:cNvSpPr/>
          <p:nvPr/>
        </p:nvSpPr>
        <p:spPr>
          <a:xfrm>
            <a:off x="857160" y="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68c4"/>
                </a:solidFill>
                <a:latin typeface="Arial"/>
              </a:rPr>
              <a:t>Задача для мальч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3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5:40:40Z</dcterms:created>
  <dc:creator>Acer</dc:creator>
  <dc:description/>
  <dc:language>en-US</dc:language>
  <cp:lastModifiedBy>Acer</cp:lastModifiedBy>
  <dcterms:modified xsi:type="dcterms:W3CDTF">2012-12-22T06:55:02Z</dcterms:modified>
  <cp:revision>42</cp:revision>
  <dc:subject/>
  <dc:title>Слайд 1</dc:title>
</cp:coreProperties>
</file>