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9D4-0359-42FA-902F-A8CB4839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CAB-D1D8-4F9D-8C60-E86F3AE8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02F-8C84-4CBC-8546-8EF4EF1B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EB7-7EDB-4408-A9F0-E7208BA3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8C7F-8023-4A8C-AE1B-136C5D6F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548F-54A7-40D9-B814-AB79CE60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67BD-D4B0-4735-A1EF-A9A80BAE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F226-9B2D-4593-9F20-A295B60E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D472-002B-485D-AD39-81CE996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18FB-CD74-435D-B4DC-3667A69E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8BB5-370B-44B2-A4A3-27EE1A9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613-61D0-44CE-B46E-D8C3DAD0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78D8-3645-4278-A870-D67ABA02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5BD4-7408-4932-9B68-8048B527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8629-2BBE-42BD-AFD4-88AE63F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0A4F-328D-4833-8B80-7DA46712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0BFA-B1B1-478B-BC08-F8E1042A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E34-2A07-4496-B1AC-847A3298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271-3FA9-4F84-9B2E-F3F8A4FD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20D-F2DE-461A-AC03-821F96BF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573-B058-4C2F-9041-5611A31F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704-BA26-43C9-A3D6-1E5E979E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F4E-FA56-4FF2-9E06-B4B69A6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736-87BC-4747-8D29-4FF25926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486D-A199-4D87-9706-701ECB59E02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Авдеева Н. 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2228-AA11-4EF4-BEED-6698157FE2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1A3C-F63C-4B8E-976D-E379DC9CB27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Авдеева Н. 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3F4A-9ADA-408A-B184-8D85AE60032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forchildren.ru/pictures/showimg/snowflake/snowflake004jpg.htm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allforchildren.ru/pictures/showimg/snowflake/snowflake004jpg.htm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allforchildren.ru/pictures/showimg/snowflake/snowflake004jpg.htm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allforchildren.ru/pictures/showimg/snowflake/snowflake004jpg.htm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Текст 29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832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Bashkort"/>
              </a:rPr>
              <a:t>           </a:t>
            </a:r>
            <a:r>
              <a:rPr b="0" lang="ru-RU" sz="3600" spc="-1" strike="noStrike">
                <a:solidFill>
                  <a:srgbClr val="6600ff"/>
                </a:solidFill>
                <a:latin typeface="Bashkort"/>
              </a:rPr>
              <a:t>Т87к8-т87к8 6ар4ар яуа</a:t>
            </a:r>
            <a:r>
              <a:rPr b="0" lang="ru-RU" sz="5000" spc="-1" strike="noStrike">
                <a:solidFill>
                  <a:srgbClr val="04617b"/>
                </a:solidFill>
                <a:latin typeface="Bashkort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" name="Текст 29" descr=""/>
          <p:cNvPicPr/>
          <p:nvPr/>
        </p:nvPicPr>
        <p:blipFill>
          <a:blip r:embed="rId2"/>
          <a:stretch/>
        </p:blipFill>
        <p:spPr>
          <a:xfrm>
            <a:off x="468360" y="1298520"/>
            <a:ext cx="7920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36560" y="2205000"/>
            <a:ext cx="150336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1503360" cy="165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987640" y="836640"/>
            <a:ext cx="1528920" cy="172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024440" y="2809800"/>
            <a:ext cx="1439640" cy="162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227640" y="1197000"/>
            <a:ext cx="1592280" cy="18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1547640" y="4221000"/>
            <a:ext cx="15274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Текст 29" descr=""/>
          <p:cNvPicPr/>
          <p:nvPr/>
        </p:nvPicPr>
        <p:blipFill>
          <a:blip r:embed="rId2"/>
          <a:stretch/>
        </p:blipFill>
        <p:spPr>
          <a:xfrm>
            <a:off x="324000" y="93600"/>
            <a:ext cx="8496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Bashkort"/>
              </a:rPr>
              <a:t> </a:t>
            </a:r>
            <a:r>
              <a:rPr b="0" lang="ru-RU" sz="3600" spc="-1" strike="noStrike">
                <a:solidFill>
                  <a:srgbClr val="6600ff"/>
                </a:solidFill>
                <a:latin typeface="Bashkort"/>
              </a:rPr>
              <a:t> </a:t>
            </a:r>
            <a:r>
              <a:rPr b="0" lang="ru-RU" sz="4000" spc="-1" strike="noStrike">
                <a:solidFill>
                  <a:srgbClr val="6600ff"/>
                </a:solidFill>
                <a:latin typeface="Bashkort"/>
              </a:rPr>
              <a:t>3</a:t>
            </a:r>
            <a:r>
              <a:rPr b="0" lang="ru-RU" sz="3200" spc="-1" strike="noStrike">
                <a:solidFill>
                  <a:srgbClr val="6600ff"/>
                </a:solidFill>
                <a:latin typeface="Bashkort"/>
              </a:rPr>
              <a:t>ал6ын 6ыш килде.Б2т8 ер4е а6 6ар 6апланы.</a:t>
            </a:r>
            <a:r>
              <a:rPr b="0" lang="ru-RU" sz="4000" spc="-1" strike="noStrike">
                <a:solidFill>
                  <a:srgbClr val="6600ff"/>
                </a:solidFill>
                <a:latin typeface="Bashkort"/>
              </a:rPr>
              <a:t>3</a:t>
            </a:r>
            <a:r>
              <a:rPr b="0" lang="ru-RU" sz="3200" spc="-1" strike="noStrike">
                <a:solidFill>
                  <a:srgbClr val="6600ff"/>
                </a:solidFill>
                <a:latin typeface="Bashkort"/>
              </a:rPr>
              <a:t>ауа саф.Тышта балалар уйнай.Улар сана,са75ы,коньки шыуа.</a:t>
            </a:r>
            <a:r>
              <a:rPr b="0" lang="ru-RU" sz="3600" spc="-1" strike="noStrike">
                <a:solidFill>
                  <a:srgbClr val="6600ff"/>
                </a:solidFill>
                <a:latin typeface="Bashkort"/>
              </a:rPr>
              <a:t>6</a:t>
            </a:r>
            <a:r>
              <a:rPr b="0" lang="ru-RU" sz="3200" spc="-1" strike="noStrike">
                <a:solidFill>
                  <a:srgbClr val="6600ff"/>
                </a:solidFill>
                <a:latin typeface="Bashkort"/>
              </a:rPr>
              <a:t>ар бабай </a:t>
            </a:r>
            <a:r>
              <a:rPr b="0" lang="ru-RU" sz="3200" spc="-1" strike="noStrike">
                <a:solidFill>
                  <a:srgbClr val="ff0066"/>
                </a:solidFill>
                <a:latin typeface="Bashkort"/>
              </a:rPr>
              <a:t>898л8й48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26920" y="1341360"/>
            <a:ext cx="620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Bashkort"/>
              </a:rPr>
              <a:t>Ф89зи8 Р8хим5олова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Bashkort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27280" y="3133800"/>
            <a:ext cx="3673440" cy="10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Т89ге 6а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Arial"/>
              </a:rPr>
              <a:t>Фәүзиә  Рәхимғолова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балалар яҙыусыһы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1449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Bashkort"/>
              </a:rPr>
              <a:t>яй 5ына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Bashkort"/>
              </a:rPr>
              <a:t>ти4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Bashkort"/>
              </a:rPr>
              <a:t>шыбырла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Bashkort"/>
              </a:rPr>
              <a:t>3орау </a:t>
            </a: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(?)</a:t>
            </a:r>
            <a:r>
              <a:rPr b="1" lang="ru-RU" sz="3200" spc="-1" strike="noStrike">
                <a:solidFill>
                  <a:srgbClr val="04617b"/>
                </a:solidFill>
                <a:latin typeface="Bashkort"/>
              </a:rPr>
              <a:t> интонация3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Bashkort"/>
              </a:rPr>
              <a:t>2нд89 </a:t>
            </a: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(!)</a:t>
            </a:r>
            <a:r>
              <a:rPr b="1" lang="ru-RU" sz="3200" spc="-1" strike="noStrike">
                <a:solidFill>
                  <a:srgbClr val="04617b"/>
                </a:solidFill>
                <a:latin typeface="Bashkort"/>
              </a:rPr>
              <a:t> интонация3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Bashkort"/>
              </a:rPr>
              <a:t>к97ел3е4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Bashkort"/>
              </a:rPr>
              <a:t>к97елл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987640" y="981000"/>
            <a:ext cx="2952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Т89ге 6а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2276640"/>
            <a:ext cx="2303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ashkort"/>
              </a:rPr>
              <a:t>йыуаны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ashkort"/>
              <a:ea typeface="Bashkor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32000" y="1125360"/>
            <a:ext cx="2219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ashkort"/>
              </a:rPr>
              <a:t>3а5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ashkort"/>
              <a:ea typeface="Bashkor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24360" y="2133720"/>
            <a:ext cx="23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ashkort"/>
              </a:rPr>
              <a:t>6ыуаны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ashkort"/>
              <a:ea typeface="Bashkor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32000" y="3789360"/>
            <a:ext cx="21477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ashkort"/>
              </a:rPr>
              <a:t>хыя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ashkort"/>
              <a:ea typeface="Bashkor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59280" y="3357720"/>
            <a:ext cx="252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ashkort"/>
              </a:rPr>
              <a:t>елб848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ashkort"/>
              <a:ea typeface="Bashkor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92360" y="5229360"/>
            <a:ext cx="22194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ashkort"/>
              </a:rPr>
              <a:t>муйы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ashkort"/>
              <a:ea typeface="Bashkor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f6fc6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f6fc6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f6fc6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f6fc6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Bashkort"/>
              </a:rPr>
              <a:t>                                               </a:t>
            </a:r>
            <a:r>
              <a:rPr b="1" lang="ru-RU" sz="4500" spc="-1" strike="noStrike">
                <a:solidFill>
                  <a:srgbClr val="04617b"/>
                </a:solidFill>
                <a:latin typeface="Bashkort"/>
              </a:rPr>
              <a:t>хыял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Bashkort"/>
              </a:rPr>
              <a:t>                                           </a:t>
            </a:r>
            <a:r>
              <a:rPr b="1" lang="ru-RU" sz="4500" spc="-1" strike="noStrike">
                <a:solidFill>
                  <a:srgbClr val="04617b"/>
                </a:solidFill>
                <a:latin typeface="Bashkort"/>
              </a:rPr>
              <a:t>юл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Bashkort"/>
              </a:rPr>
              <a:t>     </a:t>
            </a:r>
            <a:r>
              <a:rPr b="1" lang="ru-RU" sz="4500" spc="-1" strike="noStrike">
                <a:solidFill>
                  <a:srgbClr val="04617b"/>
                </a:solidFill>
                <a:latin typeface="Bashkort"/>
              </a:rPr>
              <a:t>6ар                              б8хет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Bashkort"/>
              </a:rPr>
              <a:t>                                        </a:t>
            </a:r>
            <a:r>
              <a:rPr b="1" lang="ru-RU" sz="4500" spc="-1" strike="noStrike">
                <a:solidFill>
                  <a:srgbClr val="04617b"/>
                </a:solidFill>
                <a:latin typeface="Bashkort"/>
              </a:rPr>
              <a:t>шатлы6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2989080" y="36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76720" y="3429000"/>
            <a:ext cx="12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а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  <p:sp>
        <p:nvSpPr>
          <p:cNvPr id="138" name=""/>
          <p:cNvSpPr/>
          <p:nvPr/>
        </p:nvSpPr>
        <p:spPr>
          <a:xfrm>
            <a:off x="6496920" y="5000760"/>
            <a:ext cx="171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4617b"/>
                </a:solidFill>
                <a:latin typeface="Arial"/>
              </a:rPr>
              <a:t>телә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908000" y="1557360"/>
            <a:ext cx="54388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Тышта 6ар яуа,6ар яуа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Нинд8й саф 3ауа,саф 3ау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*й48 сы5айы6,сы5айы6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835280" y="4149720"/>
            <a:ext cx="5979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Са75ы шыуайы6,шыуайы6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Bashkort"/>
              </a:rPr>
              <a:t>Оса к9кт8,оса к9кт8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Bashkort"/>
              </a:rPr>
              <a:t>К9б8л8кме,6армы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Bashkort"/>
              </a:rPr>
              <a:t>Й8й 48 9тте,к24 48 9тте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Bashkort"/>
              </a:rPr>
              <a:t>Шундай ва6ыт бармы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55736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48360" y="162864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58920" y="378936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80360" y="3716280"/>
            <a:ext cx="990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ashkort"/>
              </a:rPr>
              <a:t>Яуа 6ар тышт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ashkort"/>
              </a:rPr>
              <a:t>  </a:t>
            </a:r>
            <a:r>
              <a:rPr b="1" lang="ru-RU" sz="4400" spc="-1" strike="noStrike">
                <a:solidFill>
                  <a:srgbClr val="6600ff"/>
                </a:solidFill>
                <a:latin typeface="Bashkort"/>
              </a:rPr>
              <a:t>Саф нинд8й 3ауа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ashkort"/>
              </a:rPr>
              <a:t>32йр8п саналар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ashkort"/>
              </a:rPr>
              <a:t>  </a:t>
            </a:r>
            <a:r>
              <a:rPr b="1" lang="ru-RU" sz="4400" spc="-1" strike="noStrike">
                <a:solidFill>
                  <a:srgbClr val="6600ff"/>
                </a:solidFill>
                <a:latin typeface="Bashkort"/>
              </a:rPr>
              <a:t>Киттек тау5а бе4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"/>
          <p:cNvSpPr/>
          <p:nvPr/>
        </p:nvSpPr>
        <p:spPr>
          <a:xfrm>
            <a:off x="3259440" y="73332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Ижад ит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00720" y="4653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ashkort"/>
              </a:rPr>
              <a:t>р6а   бр2г2т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3" descr="C:\Documents and Settings\Дом\Рабочий стол\для през\1-web.jpg"/>
          <p:cNvPicPr/>
          <p:nvPr/>
        </p:nvPicPr>
        <p:blipFill>
          <a:blip r:embed="rId3"/>
          <a:stretch/>
        </p:blipFill>
        <p:spPr>
          <a:xfrm>
            <a:off x="5651640" y="1341360"/>
            <a:ext cx="1919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1123920" cy="1238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095480" cy="1238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2916360" y="907920"/>
            <a:ext cx="1699920" cy="1501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Дом\Рабочий стол\для през\1-web.jpg"/>
          <p:cNvPicPr/>
          <p:nvPr/>
        </p:nvPicPr>
        <p:blipFill>
          <a:blip r:embed="rId5"/>
          <a:stretch/>
        </p:blipFill>
        <p:spPr>
          <a:xfrm>
            <a:off x="6659640" y="2349360"/>
            <a:ext cx="1558800" cy="1871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627280" y="4005360"/>
            <a:ext cx="3384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6ар б2рт2г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08000" y="1197000"/>
            <a:ext cx="1648080" cy="42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6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бый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шырш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6уя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йондо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788000" y="1628640"/>
            <a:ext cx="168588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й8ше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6ур6а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а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я6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я7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19400" y="1633680"/>
            <a:ext cx="29052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6ар а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быйма я7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шыршы й8ше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6уян а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йондо4 я6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_Helver Bashkir"/>
              </a:rPr>
              <a:t>Ҡар яуа,ҡар яуа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6600ff"/>
                </a:solidFill>
                <a:latin typeface="a_Helver Bashkir"/>
              </a:rPr>
              <a:t>Ҡарға тулған бар һау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6600ff"/>
                </a:solidFill>
                <a:latin typeface="a_Helver Bashkir"/>
              </a:rPr>
              <a:t>Ҡар яуа,ҡар яуа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6600ff"/>
                </a:solidFill>
                <a:latin typeface="a_Helver Bashkir"/>
              </a:rPr>
              <a:t>Өҫтөбөҙгә күк ауа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6600ff"/>
                </a:solidFill>
                <a:latin typeface="a_Helver Bashkir"/>
              </a:rPr>
              <a:t>Йомшаҡ ҡарҙы,ынйыларҙ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6600ff"/>
                </a:solidFill>
                <a:latin typeface="a_Helver Bashkir"/>
              </a:rPr>
              <a:t>Өҫтөбөҙгә түк,һауа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_Helver Bashkir"/>
              </a:rPr>
              <a:t>                        </a:t>
            </a:r>
            <a:r>
              <a:rPr b="1" lang="be-BY" sz="2800" spc="-1" strike="noStrike">
                <a:solidFill>
                  <a:srgbClr val="000000"/>
                </a:solidFill>
                <a:latin typeface="a_Helver Bashkir"/>
              </a:rPr>
              <a:t>Т.Искәндәро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84360" y="46530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7524720" y="465300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59280" y="2133720"/>
            <a:ext cx="2449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hkort"/>
              </a:rPr>
              <a:t>Р8хм8т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hkort"/>
              <a:ea typeface="Bashkor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Текст 29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5470560" cy="626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32960" y="589608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Arial"/>
              </a:rPr>
              <a:t>А.А.Пластов </a:t>
            </a:r>
            <a:r>
              <a:rPr b="1" lang="be-BY" sz="2400" spc="-1" strike="noStrike">
                <a:solidFill>
                  <a:srgbClr val="0f6fc6"/>
                </a:solidFill>
                <a:latin typeface="Arial"/>
              </a:rPr>
              <a:t>“Тәүге ҡар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ртикуляция</a:t>
            </a:r>
            <a:r>
              <a:rPr b="0" lang="be-BY" sz="2600" spc="-1" strike="noStrike">
                <a:solidFill>
                  <a:srgbClr val="000000"/>
                </a:solidFill>
                <a:latin typeface="Constantia"/>
              </a:rPr>
              <a:t> күнегеүҙә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"/>
          <p:cNvSpPr/>
          <p:nvPr/>
        </p:nvSpPr>
        <p:spPr>
          <a:xfrm>
            <a:off x="1614960" y="1979640"/>
            <a:ext cx="63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ссс-ҫҫҫ       ззз-ҙҙҙ       жжж-шшш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"/>
          <p:cNvSpPr/>
          <p:nvPr/>
        </p:nvSpPr>
        <p:spPr>
          <a:xfrm>
            <a:off x="2572920" y="2637000"/>
            <a:ext cx="377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кҡ  сҫ  нң  зҙ  гғ  х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"/>
          <p:cNvSpPr/>
          <p:nvPr/>
        </p:nvSpPr>
        <p:spPr>
          <a:xfrm>
            <a:off x="1185120" y="4149720"/>
            <a:ext cx="74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ааа  әәә  ооо өөө ууу үүү иии ыыы эээ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EF86-9A88-41B6-8955-4CFB4CD6AD7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Нижний колонтитул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Авдеева Н. 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Текст 29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705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2222640" y="1125360"/>
            <a:ext cx="4654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0" y="36360"/>
            <a:ext cx="8964720" cy="67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7" descr="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4:43:03Z</dcterms:created>
  <dc:creator>Home</dc:creator>
  <dc:description/>
  <dc:language>en-US</dc:language>
  <cp:lastModifiedBy>User</cp:lastModifiedBy>
  <dcterms:modified xsi:type="dcterms:W3CDTF">2012-11-29T16:37:39Z</dcterms:modified>
  <cp:revision>30</cp:revision>
  <dc:subject/>
  <dc:title>В гости к зиме</dc:title>
</cp:coreProperties>
</file>