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8D1A-CC49-4F65-A1EA-17EBEF1A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4F1-8B5E-4EA0-B57C-6F9755AD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9545-A50C-4F35-902F-794702F5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EB46-7CD1-4AA9-AE50-B0E4757B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C28-6FFC-4764-9A95-D372DCF0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B419-CC87-45B4-9B5A-441C2334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9426-C266-4DBB-99CF-5681F620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69B4-2CA6-4024-B7F9-D34F9147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2573-81F9-4247-8766-4E15EC0F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CB0C-113D-4B0B-A857-EAEC5189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3F38-94E4-4871-A1D0-ABD95EFA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8283-3C37-4569-B972-97E7267F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823F-60BF-4008-90E9-CF3EE9849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05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600" spc="-1" strike="noStrike" u="sng">
                <a:solidFill>
                  <a:srgbClr val="000000"/>
                </a:solidFill>
                <a:uFillTx/>
                <a:latin typeface="Arial"/>
              </a:rPr>
              <a:t>Венгерская, Чешская музыка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Чех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х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любовь моя", - скажет каждый, кто хоть раз побывал в этой замечатель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г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— столица Чехии. Один из красивейших городов Чехии, Чудесным образом в Праге сочетаются архитектурные стили — от раннего средневековья вплоть до настоящего време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78800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79640" y="0"/>
            <a:ext cx="575928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788000" y="3429000"/>
            <a:ext cx="4356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91160" y="0"/>
            <a:ext cx="445284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380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140360" y="3790800"/>
            <a:ext cx="50036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Карлов мос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— наиболее старый     и известнейший мост в Праг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969080" cy="2735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3933720"/>
            <a:ext cx="4572000" cy="292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572000" y="3933720"/>
            <a:ext cx="4572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Золтон Кода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2920" y="1197000"/>
            <a:ext cx="40388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дился 16 декабр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детства играл на скрипке, учась у отца, музыканта-люб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905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. занимался сбором произведений венгерского народного музыкального наследия, с этой целью ездил по сёлам различных венгерских провин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1878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6:15:36Z</dcterms:created>
  <dc:creator>Admin</dc:creator>
  <dc:description/>
  <dc:language>en-US</dc:language>
  <cp:lastModifiedBy>Admin</cp:lastModifiedBy>
  <dcterms:modified xsi:type="dcterms:W3CDTF">2009-04-22T18:19:12Z</dcterms:modified>
  <cp:revision>3</cp:revision>
  <dc:subject/>
  <dc:title>Слайд 1</dc:title>
</cp:coreProperties>
</file>