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56F-EBC2-4EFD-965D-570C2A05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123-B59D-4DC9-9537-48385711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4A8-759E-4A73-B75F-29D1E73F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D4D-C5B9-492D-A2DC-DFD16302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D54-94E2-4594-A072-8437A47A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CA4-0414-4B66-8BEB-D022DF80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573-3994-433F-ABF9-B2FFED54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BDF-EC94-46F0-A32A-82F14E07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D54-FA14-45EF-B4B7-7E2C2B9B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7C4-02C4-4137-BE44-AFD1578A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1D5-911A-4BF7-A93E-E72F856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F72-0DD5-4F24-A4B5-3230ACAB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A6A0-8076-4343-B890-39EF258E5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05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Венгерская, Чешская музыка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Чех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х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любовь моя", - скажет каждый, кто хоть раз побывал в этой замечатель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г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— столица Чехии. Один из красивейших городов Чехии, Чудесным образом в Праге сочетаются архитектурные стили — от раннего средневековья вплоть до настоящего врем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759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788000" y="3429000"/>
            <a:ext cx="435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91160" y="0"/>
            <a:ext cx="44528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40360" y="3790800"/>
            <a:ext cx="50036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арлов мос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наиболее старый     и известнейший мост в Праг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969080" cy="273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4572000" cy="29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0" y="3933720"/>
            <a:ext cx="4572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Золтон Код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лся 16 декабр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детства играл на скрипке, учась у отца, музыканта-люб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90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 занимался сбором произведений венгерского народного музыкального наследия, с этой целью ездил по сёлам различных венгерских провин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187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6:15:36Z</dcterms:created>
  <dc:creator>Admin</dc:creator>
  <dc:description/>
  <dc:language>en-US</dc:language>
  <cp:lastModifiedBy>Admin</cp:lastModifiedBy>
  <dcterms:modified xsi:type="dcterms:W3CDTF">2009-04-22T18:19:12Z</dcterms:modified>
  <cp:revision>3</cp:revision>
  <dc:subject/>
  <dc:title>Слайд 1</dc:title>
</cp:coreProperties>
</file>