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1CF4-76E3-44B2-8828-6B924BB6C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EC81-B219-4C7E-94B9-E4A7CB4A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1565-2AB3-47E7-AC59-88538053E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5E6C-0E79-43E5-BB82-C9316AEE3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1D9B-FDBF-4F9D-AC57-10AA6099B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D589-4F77-4B25-9F6A-6A9E84BE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EA06-45B4-4CA5-800B-75D79680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83E2-39EB-45FF-9414-4FDE78E1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74AD-23E5-4832-BEC3-4F0593D3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D08D-5FAE-4259-941D-753FFCF9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3706-3DDF-448C-8DB0-963E9363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C981-7591-4FA8-85F4-75322081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344C-DF3B-4776-A12E-3E03B9F3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FA9B-D848-4C2B-B53A-C1ED4F98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FF80-D6CC-4E19-9734-911F82C4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8FF8-9C11-482F-9953-6EC89AB58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91A0-A7BA-4722-9072-FD4295A6B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3B7A-43DC-49F5-B058-EE69F9A1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D11D-C1A1-42E1-85F4-B41B6DAD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0043-7C10-4336-ADD8-52108CF0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0BE7-DBEF-4A9B-B46C-FA7ED732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3180-C72A-40F1-BE4A-0872CA30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F4EC-7910-42C5-ACD8-A2D54773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542B-BD87-45B2-BC93-BB24A4A3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121D-4030-4252-9973-C6ADF96A99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ED34-FB1C-4337-8903-B2648530B8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birds-altay.ru/tag/skopa/" TargetMode="External"/><Relationship Id="rId2" Type="http://schemas.openxmlformats.org/officeDocument/2006/relationships/hyperlink" Target="http://birds-altay.ru/tag/skopa/" TargetMode="External"/><Relationship Id="rId3" Type="http://schemas.openxmlformats.org/officeDocument/2006/relationships/hyperlink" Target="http://birds-altay.ru/tag/skopa/" TargetMode="External"/><Relationship Id="rId4" Type="http://schemas.openxmlformats.org/officeDocument/2006/relationships/hyperlink" Target="http://birds-altay.ru/tag/skopa/" TargetMode="External"/><Relationship Id="rId5" Type="http://schemas.openxmlformats.org/officeDocument/2006/relationships/hyperlink" Target="http://birds-altay.ru/tag/skopa/" TargetMode="External"/><Relationship Id="rId6" Type="http://schemas.openxmlformats.org/officeDocument/2006/relationships/hyperlink" Target="http://birds-altay.ru/tag/skopa/" TargetMode="External"/><Relationship Id="rId7" Type="http://schemas.openxmlformats.org/officeDocument/2006/relationships/hyperlink" Target="http://birds-altay.ru/tag/skopa/" TargetMode="External"/><Relationship Id="rId8" Type="http://schemas.openxmlformats.org/officeDocument/2006/relationships/hyperlink" Target="http://birds-altay.ru/tag/skopa/" TargetMode="External"/><Relationship Id="rId9" Type="http://schemas.openxmlformats.org/officeDocument/2006/relationships/hyperlink" Target="http://www.avantaqua.ru/waterplants.html/nid/98" TargetMode="External"/><Relationship Id="rId10" Type="http://schemas.openxmlformats.org/officeDocument/2006/relationships/hyperlink" Target="http://www.avantaqua.ru/waterplants.html/nid/98" TargetMode="External"/><Relationship Id="rId11" Type="http://schemas.openxmlformats.org/officeDocument/2006/relationships/hyperlink" Target="http://www.avantaqua.ru/waterplants.html/nid/98" TargetMode="External"/><Relationship Id="rId12" Type="http://schemas.openxmlformats.org/officeDocument/2006/relationships/hyperlink" Target="http://www.avantaqua.ru/waterplants.html/nid/98" TargetMode="External"/><Relationship Id="rId13" Type="http://schemas.openxmlformats.org/officeDocument/2006/relationships/hyperlink" Target="http://www.avantaqua.ru/waterplants.html/nid/98" TargetMode="External"/><Relationship Id="rId14" Type="http://schemas.openxmlformats.org/officeDocument/2006/relationships/hyperlink" Target="http://www.avantaqua.ru/waterplants.html/nid/98" TargetMode="External"/><Relationship Id="rId15" Type="http://schemas.openxmlformats.org/officeDocument/2006/relationships/hyperlink" Target="http://www.avantaqua.ru/waterplants.html/nid/98" TargetMode="External"/><Relationship Id="rId16" Type="http://schemas.openxmlformats.org/officeDocument/2006/relationships/hyperlink" Target="http://www.avantaqua.ru/waterplants.html/nid/98" TargetMode="External"/><Relationship Id="rId17" Type="http://schemas.openxmlformats.org/officeDocument/2006/relationships/hyperlink" Target="http://www.priroda33.ru/red-book.html" TargetMode="External"/><Relationship Id="rId18" Type="http://schemas.openxmlformats.org/officeDocument/2006/relationships/hyperlink" Target="http://www.priroda33.ru/red-book.html" TargetMode="External"/><Relationship Id="rId19" Type="http://schemas.openxmlformats.org/officeDocument/2006/relationships/hyperlink" Target="http://www.priroda33.ru/red-book.html" TargetMode="External"/><Relationship Id="rId20" Type="http://schemas.openxmlformats.org/officeDocument/2006/relationships/hyperlink" Target="http://helpanimal.ucoz.ru/index/krasnaja_kniga_rossii/0-13" TargetMode="External"/><Relationship Id="rId21" Type="http://schemas.openxmlformats.org/officeDocument/2006/relationships/hyperlink" Target="http://helpanimal.ucoz.ru/index/krasnaja_kniga_rossii/0-13" TargetMode="External"/><Relationship Id="rId22" Type="http://schemas.openxmlformats.org/officeDocument/2006/relationships/hyperlink" Target="http://helpanimal.ucoz.ru/index/krasnaja_kniga_rossii/0-13" TargetMode="External"/><Relationship Id="rId23" Type="http://schemas.openxmlformats.org/officeDocument/2006/relationships/hyperlink" Target="http://helpanimal.ucoz.ru/index/krasnaja_kniga_rossii/0-13" TargetMode="External"/><Relationship Id="rId24" Type="http://schemas.openxmlformats.org/officeDocument/2006/relationships/hyperlink" Target="http://helpanimal.ucoz.ru/index/krasnaja_kniga_rossii/0-13" TargetMode="External"/><Relationship Id="rId25" Type="http://schemas.openxmlformats.org/officeDocument/2006/relationships/hyperlink" Target="http://helpanimal.ucoz.ru/index/krasnaja_kniga_rossii/0-13" TargetMode="External"/><Relationship Id="rId26" Type="http://schemas.openxmlformats.org/officeDocument/2006/relationships/hyperlink" Target="http://helpanimal.ucoz.ru/index/krasnaja_kniga_rossii/0-13" TargetMode="External"/><Relationship Id="rId27" Type="http://schemas.openxmlformats.org/officeDocument/2006/relationships/hyperlink" Target="http://helpanimal.ucoz.ru/index/krasnaja_kniga_rossii/0-13" TargetMode="External"/><Relationship Id="rId28" Type="http://schemas.openxmlformats.org/officeDocument/2006/relationships/hyperlink" Target="http://wiki.ivanovoweb.ru/index.php/%25" TargetMode="External"/><Relationship Id="rId29" Type="http://schemas.openxmlformats.org/officeDocument/2006/relationships/hyperlink" Target="http://wiki.ivanovoweb.ru/index.php/%25" TargetMode="External"/><Relationship Id="rId30" Type="http://schemas.openxmlformats.org/officeDocument/2006/relationships/hyperlink" Target="http://wiki.ivanovoweb.ru/index.php/%25" TargetMode="External"/><Relationship Id="rId31" Type="http://schemas.openxmlformats.org/officeDocument/2006/relationships/hyperlink" Target="http://wiki.ivanovoweb.ru/index.php/%25" TargetMode="External"/><Relationship Id="rId32" Type="http://schemas.openxmlformats.org/officeDocument/2006/relationships/hyperlink" Target="http://wiki.ivanovoweb.ru/index.php/%25" TargetMode="External"/><Relationship Id="rId33" Type="http://schemas.openxmlformats.org/officeDocument/2006/relationships/hyperlink" Target="http://wiki.ivanovoweb.ru/index.php/%25" TargetMode="External"/><Relationship Id="rId3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ffb7"/>
                </a:solidFill>
                <a:latin typeface="Arial Black"/>
              </a:rPr>
              <a:t>Как сохранить наш мир?</a:t>
            </a:r>
            <a:endParaRPr b="1" lang="en-US" sz="9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67816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b7"/>
                </a:solidFill>
                <a:latin typeface="Arial Black"/>
              </a:rPr>
              <a:t>ИСТОРИКИ</a:t>
            </a:r>
            <a:endParaRPr b="1" lang="en-US" sz="55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8007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Почему книга красная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4648320"/>
            <a:ext cx="79250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Что обозначают цвета её страниц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b7"/>
                </a:solidFill>
                <a:latin typeface="Arial Black"/>
              </a:rPr>
              <a:t>ЗООЛОГИ</a:t>
            </a:r>
            <a:endParaRPr b="1" lang="en-US" sz="55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Какие животные Владимирской области занесены в Красную книгу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b7"/>
                </a:solidFill>
                <a:latin typeface="Arial Black"/>
              </a:rPr>
              <a:t>БОТАНИКИ</a:t>
            </a:r>
            <a:endParaRPr b="1" lang="en-US" sz="55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Какие растения Владимирской области занесены в Красную книгу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ЭКОЛОГ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ак предотвратить вымирание редких животных и растений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73392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акие меры по их сохранению принимаются во Владимирской област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458200" cy="60944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660680" y="1407960"/>
            <a:ext cx="6035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1752480"/>
            <a:ext cx="693396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Природа очень уязвима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Чтобы сохранить её, мы должны знать о ней как можно больше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85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b7"/>
                </a:solidFill>
                <a:latin typeface="Arial Black"/>
              </a:rPr>
              <a:t>Удачи в работе!</a:t>
            </a:r>
            <a:br>
              <a:rPr sz="9600"/>
            </a:b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5791320"/>
            <a:ext cx="8007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аши помощни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birds-altay.ru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tag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7"/>
              </a:rPr>
              <a:t>skopa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9"/>
              </a:rPr>
              <a:t>http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0"/>
              </a:rPr>
              <a:t>:/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1"/>
              </a:rPr>
              <a:t>www.avantaqua.ru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2"/>
              </a:rPr>
              <a:t>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3"/>
              </a:rPr>
              <a:t>waterplants.html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4"/>
              </a:rPr>
              <a:t>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5"/>
              </a:rPr>
              <a:t>nid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6"/>
              </a:rPr>
              <a:t>/98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7"/>
              </a:rPr>
              <a:t>http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8"/>
              </a:rPr>
              <a:t>://www.priroda33.ru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9"/>
              </a:rPr>
              <a:t>red-book.html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20"/>
              </a:rPr>
              <a:t>http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21"/>
              </a:rPr>
              <a:t>:/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22"/>
              </a:rPr>
              <a:t>helpanimal.ucoz.ru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23"/>
              </a:rPr>
              <a:t>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24"/>
              </a:rPr>
              <a:t>index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25"/>
              </a:rPr>
              <a:t>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26"/>
              </a:rPr>
              <a:t>krasnaja_kniga_rossii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27"/>
              </a:rPr>
              <a:t>/0-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28"/>
              </a:rPr>
              <a:t>http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29"/>
              </a:rPr>
              <a:t>:/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30"/>
              </a:rPr>
              <a:t>wiki.ivanovoweb.ru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31"/>
              </a:rPr>
              <a:t>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32"/>
              </a:rPr>
              <a:t>index.php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33"/>
              </a:rPr>
              <a:t>/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84080" y="5159520"/>
            <a:ext cx="3240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99"/>
                </a:solidFill>
                <a:latin typeface="Arial Black"/>
              </a:rPr>
              <a:t>Ребята, спешите, спешите!</a:t>
            </a:r>
            <a:br>
              <a:rPr sz="3300"/>
            </a:br>
            <a:r>
              <a:rPr b="0" lang="en-US" sz="3300" spc="-1" strike="noStrike">
                <a:solidFill>
                  <a:srgbClr val="ffff99"/>
                </a:solidFill>
                <a:latin typeface="Arial Black"/>
              </a:rPr>
              <a:t>Природу нашу спасите!</a:t>
            </a:r>
            <a:br>
              <a:rPr sz="3300"/>
            </a:br>
            <a:r>
              <a:rPr b="0" lang="en-US" sz="3300" spc="-1" strike="noStrike">
                <a:solidFill>
                  <a:srgbClr val="ffff99"/>
                </a:solidFill>
                <a:latin typeface="Arial Black"/>
              </a:rPr>
              <a:t>Находится в опасности она,</a:t>
            </a:r>
            <a:br>
              <a:rPr sz="3300"/>
            </a:br>
            <a:r>
              <a:rPr b="0" lang="en-US" sz="3300" spc="-1" strike="noStrike">
                <a:solidFill>
                  <a:srgbClr val="ffff99"/>
                </a:solidFill>
                <a:latin typeface="Arial Black"/>
              </a:rPr>
              <a:t>И помощь ваша экстренно нужна, </a:t>
            </a:r>
            <a:br>
              <a:rPr sz="3300"/>
            </a:br>
            <a:r>
              <a:rPr b="0" lang="en-US" sz="3300" spc="-1" strike="noStrike">
                <a:solidFill>
                  <a:srgbClr val="ffff99"/>
                </a:solidFill>
                <a:latin typeface="Arial Black"/>
              </a:rPr>
              <a:t>А книга эта нам помочь должна.</a:t>
            </a:r>
            <a:endParaRPr b="1" lang="en-US" sz="33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4800600"/>
            <a:ext cx="8007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99"/>
                </a:solidFill>
                <a:latin typeface="Arial"/>
              </a:rPr>
              <a:t>Подумайте, о какой книге идёт речь в этом стихотворении?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800600" y="3047760"/>
            <a:ext cx="41911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b7"/>
                </a:solidFill>
                <a:latin typeface="Arial Black"/>
              </a:rPr>
              <a:t>Эта книга содержит огромное количество самой нужной и очень важной информации!</a:t>
            </a:r>
            <a:endParaRPr b="1" lang="en-US" sz="3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2520" y="304560"/>
            <a:ext cx="3886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О чём расскажет Красная книг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53420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абота в группа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927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Что я знаю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52880" y="2286000"/>
            <a:ext cx="3927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Что хотел бы узнать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наешь ли ты, как устроена Красная книга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ждая страница книги имеет свой цвет: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ёрны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красны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жёлты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зелёны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обозначают эти цвета? Подумай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1000"/>
                            </p:stCondLst>
                            <p:childTnLst>
                              <p:par>
                                <p:cTn id="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en-US" sz="6000" spc="-1" strike="noStrike">
                <a:solidFill>
                  <a:srgbClr val="ffffb7"/>
                </a:solidFill>
                <a:latin typeface="Arial Black"/>
              </a:rPr>
              <a:t>Есть ли в нашей Владимирской области редкие и исчезающие виды растений и животных?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4495680" cy="31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Нужна ли Красная книга Владимирской области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19560" y="1904760"/>
            <a:ext cx="2825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6576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Давайте создадим Красную книгу Владимирской области вместе!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19920" y="2133720"/>
            <a:ext cx="2895480" cy="23619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0880" y="2209680"/>
            <a:ext cx="2667240" cy="2133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124080" y="4267080"/>
            <a:ext cx="281952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Разделимся на группы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ИСТОРИКИ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ЗООЛОГИ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БОТАНИКИ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ЭКОЛОГИ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zer</cp:lastModifiedBy>
  <dcterms:modified xsi:type="dcterms:W3CDTF">2012-02-23T16:23:00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