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621-3F1F-4684-909C-C680445E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0CA-D735-4CCB-974F-D0D2C4D8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0E0-B867-479D-A7E3-BFA2AC03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339-F932-4F32-9D8E-9A7ACF0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004-1861-4084-8A7B-5EAFC5EA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4EFB-639F-48F1-8CE7-7CD9433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FD2-773B-4A99-8F12-E7DC2E5C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3E89-1F8F-401B-B44E-945A1B32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D38-D079-431B-B2B9-D5F28EB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3E9-07B7-42FB-8450-BB6BF3D8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4ADB-D268-4FF7-BE2D-FC457D4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6BB-0A5C-4E25-8328-D1319A6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AB92-7761-4D8E-A2D3-11A3AD2D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59EB-7F55-483F-9993-6040D71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FD2-4F1A-4E41-898C-AC32FCF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2B28-C72D-4ECF-876B-C8CFE4B0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893-5818-49DC-8C2D-EB839FF5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48F-8790-45FF-90B2-EAE325D8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C9B-91F7-4EDC-BF80-835677A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AC5-A58D-413E-B1E3-ABFAC7B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1F9-06D5-4264-A3BF-85077D27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F32-ED56-40B1-A286-D2CC7B84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0DF-C029-4973-98A0-86393BF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153-8627-4D8C-B326-DC2BE7B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3EA3-BADF-4EB5-890B-5366F2F7B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1371-4631-4E99-BED1-31DB70547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irds-altay.ru/tag/skopa/" TargetMode="External"/><Relationship Id="rId2" Type="http://schemas.openxmlformats.org/officeDocument/2006/relationships/hyperlink" Target="http://birds-altay.ru/tag/skopa/" TargetMode="External"/><Relationship Id="rId3" Type="http://schemas.openxmlformats.org/officeDocument/2006/relationships/hyperlink" Target="http://birds-altay.ru/tag/skopa/" TargetMode="External"/><Relationship Id="rId4" Type="http://schemas.openxmlformats.org/officeDocument/2006/relationships/hyperlink" Target="http://birds-altay.ru/tag/skopa/" TargetMode="External"/><Relationship Id="rId5" Type="http://schemas.openxmlformats.org/officeDocument/2006/relationships/hyperlink" Target="http://birds-altay.ru/tag/skopa/" TargetMode="External"/><Relationship Id="rId6" Type="http://schemas.openxmlformats.org/officeDocument/2006/relationships/hyperlink" Target="http://birds-altay.ru/tag/skopa/" TargetMode="External"/><Relationship Id="rId7" Type="http://schemas.openxmlformats.org/officeDocument/2006/relationships/hyperlink" Target="http://birds-altay.ru/tag/skopa/" TargetMode="External"/><Relationship Id="rId8" Type="http://schemas.openxmlformats.org/officeDocument/2006/relationships/hyperlink" Target="http://birds-altay.ru/tag/skopa/" TargetMode="External"/><Relationship Id="rId9" Type="http://schemas.openxmlformats.org/officeDocument/2006/relationships/hyperlink" Target="http://www.avantaqua.ru/waterplants.html/nid/98" TargetMode="External"/><Relationship Id="rId10" Type="http://schemas.openxmlformats.org/officeDocument/2006/relationships/hyperlink" Target="http://www.avantaqua.ru/waterplants.html/nid/98" TargetMode="External"/><Relationship Id="rId11" Type="http://schemas.openxmlformats.org/officeDocument/2006/relationships/hyperlink" Target="http://www.avantaqua.ru/waterplants.html/nid/98" TargetMode="External"/><Relationship Id="rId12" Type="http://schemas.openxmlformats.org/officeDocument/2006/relationships/hyperlink" Target="http://www.avantaqua.ru/waterplants.html/nid/98" TargetMode="External"/><Relationship Id="rId13" Type="http://schemas.openxmlformats.org/officeDocument/2006/relationships/hyperlink" Target="http://www.avantaqua.ru/waterplants.html/nid/98" TargetMode="External"/><Relationship Id="rId14" Type="http://schemas.openxmlformats.org/officeDocument/2006/relationships/hyperlink" Target="http://www.avantaqua.ru/waterplants.html/nid/98" TargetMode="External"/><Relationship Id="rId15" Type="http://schemas.openxmlformats.org/officeDocument/2006/relationships/hyperlink" Target="http://www.avantaqua.ru/waterplants.html/nid/98" TargetMode="External"/><Relationship Id="rId16" Type="http://schemas.openxmlformats.org/officeDocument/2006/relationships/hyperlink" Target="http://www.avantaqua.ru/waterplants.html/nid/98" TargetMode="External"/><Relationship Id="rId17" Type="http://schemas.openxmlformats.org/officeDocument/2006/relationships/hyperlink" Target="http://www.priroda33.ru/red-book.html" TargetMode="External"/><Relationship Id="rId18" Type="http://schemas.openxmlformats.org/officeDocument/2006/relationships/hyperlink" Target="http://www.priroda33.ru/red-book.html" TargetMode="External"/><Relationship Id="rId19" Type="http://schemas.openxmlformats.org/officeDocument/2006/relationships/hyperlink" Target="http://www.priroda33.ru/red-book.html" TargetMode="External"/><Relationship Id="rId20" Type="http://schemas.openxmlformats.org/officeDocument/2006/relationships/hyperlink" Target="http://helpanimal.ucoz.ru/index/krasnaja_kniga_rossii/0-13" TargetMode="External"/><Relationship Id="rId21" Type="http://schemas.openxmlformats.org/officeDocument/2006/relationships/hyperlink" Target="http://helpanimal.ucoz.ru/index/krasnaja_kniga_rossii/0-13" TargetMode="External"/><Relationship Id="rId22" Type="http://schemas.openxmlformats.org/officeDocument/2006/relationships/hyperlink" Target="http://helpanimal.ucoz.ru/index/krasnaja_kniga_rossii/0-13" TargetMode="External"/><Relationship Id="rId23" Type="http://schemas.openxmlformats.org/officeDocument/2006/relationships/hyperlink" Target="http://helpanimal.ucoz.ru/index/krasnaja_kniga_rossii/0-13" TargetMode="External"/><Relationship Id="rId24" Type="http://schemas.openxmlformats.org/officeDocument/2006/relationships/hyperlink" Target="http://helpanimal.ucoz.ru/index/krasnaja_kniga_rossii/0-13" TargetMode="External"/><Relationship Id="rId25" Type="http://schemas.openxmlformats.org/officeDocument/2006/relationships/hyperlink" Target="http://helpanimal.ucoz.ru/index/krasnaja_kniga_rossii/0-13" TargetMode="External"/><Relationship Id="rId26" Type="http://schemas.openxmlformats.org/officeDocument/2006/relationships/hyperlink" Target="http://helpanimal.ucoz.ru/index/krasnaja_kniga_rossii/0-13" TargetMode="External"/><Relationship Id="rId27" Type="http://schemas.openxmlformats.org/officeDocument/2006/relationships/hyperlink" Target="http://helpanimal.ucoz.ru/index/krasnaja_kniga_rossii/0-13" TargetMode="External"/><Relationship Id="rId28" Type="http://schemas.openxmlformats.org/officeDocument/2006/relationships/hyperlink" Target="http://wiki.ivanovoweb.ru/index.php/%25" TargetMode="External"/><Relationship Id="rId29" Type="http://schemas.openxmlformats.org/officeDocument/2006/relationships/hyperlink" Target="http://wiki.ivanovoweb.ru/index.php/%25" TargetMode="External"/><Relationship Id="rId30" Type="http://schemas.openxmlformats.org/officeDocument/2006/relationships/hyperlink" Target="http://wiki.ivanovoweb.ru/index.php/%25" TargetMode="External"/><Relationship Id="rId31" Type="http://schemas.openxmlformats.org/officeDocument/2006/relationships/hyperlink" Target="http://wiki.ivanovoweb.ru/index.php/%25" TargetMode="External"/><Relationship Id="rId32" Type="http://schemas.openxmlformats.org/officeDocument/2006/relationships/hyperlink" Target="http://wiki.ivanovoweb.ru/index.php/%25" TargetMode="External"/><Relationship Id="rId33" Type="http://schemas.openxmlformats.org/officeDocument/2006/relationships/hyperlink" Target="http://wiki.ivanovoweb.ru/index.php/%25" TargetMode="External"/><Relationship Id="rId3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b7"/>
                </a:solidFill>
                <a:latin typeface="Arial Black"/>
              </a:rPr>
              <a:t>Как сохранить наш мир?</a:t>
            </a:r>
            <a:endParaRPr b="1" lang="en-US" sz="9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781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b7"/>
                </a:solidFill>
                <a:latin typeface="Arial Black"/>
              </a:rPr>
              <a:t>ИСТОРИКИ</a:t>
            </a:r>
            <a:endParaRPr b="1" lang="en-US" sz="5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чему книга красная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648320"/>
            <a:ext cx="7925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Что обозначают цвета её страниц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b7"/>
                </a:solidFill>
                <a:latin typeface="Arial Black"/>
              </a:rPr>
              <a:t>ЗООЛОГИ</a:t>
            </a:r>
            <a:endParaRPr b="1" lang="en-US" sz="5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е животные Владимирской области занесены в Красную книгу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b7"/>
                </a:solidFill>
                <a:latin typeface="Arial Black"/>
              </a:rPr>
              <a:t>БОТАНИКИ</a:t>
            </a:r>
            <a:endParaRPr b="1" lang="en-US" sz="5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е растения Владимирской области занесены в Красную книгу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КО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 предотвратить вымирание редких животных и растени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7339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меры по их сохранению принимаются во Владимирской област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094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60680" y="1407960"/>
            <a:ext cx="603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1752480"/>
            <a:ext cx="69339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Природа очень уязвим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Чтобы сохранить её, мы должны знать о ней как можно больш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85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b7"/>
                </a:solidFill>
                <a:latin typeface="Arial Black"/>
              </a:rPr>
              <a:t>Удачи в работе!</a:t>
            </a:r>
            <a:br>
              <a:rPr sz="9600"/>
            </a:b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5791320"/>
            <a:ext cx="8007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ши помощ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irds-altay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tag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skopa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www.avantaqua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waterplants.html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nid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/9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://www.priroda33.ru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red-book.htm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elpanimal.ucoz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index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krasnaja_kniga_rossii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/0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wiki.ivanovoweb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index.ph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/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080" y="5159520"/>
            <a:ext cx="324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Ребята, спешите, спешите!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Природу нашу спасите!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Находится в опасности она,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И помощь ваша экстренно нужна, 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А книга эта нам помочь должна.</a:t>
            </a:r>
            <a:endParaRPr b="1" lang="en-US" sz="3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800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99"/>
                </a:solidFill>
                <a:latin typeface="Arial"/>
              </a:rPr>
              <a:t>Подумайте, о какой книге идёт речь в этом стихотворении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00600" y="3047760"/>
            <a:ext cx="4191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Эта книга содержит огромное количество самой нужной и очень важной информации!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3045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О чём расскажет Красная книг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342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та в групп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92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Что я знаю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2286000"/>
            <a:ext cx="3927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Что хотел бы узнать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наешь ли ты, как устроена Красная книг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ая страница книги имеет свой цвет: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ёр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зелё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бозначают эти цвета? Подума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Есть ли в нашей Владимирской области редкие и исчезающие виды растений и животных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49568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ужна ли Красная книга Владимирской области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19560" y="1904760"/>
            <a:ext cx="282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657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авайте создадим Красную книгу Владимирской области вмест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895480" cy="2361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2819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делимся на групп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ИСТОРИ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ЗООЛ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БОТАНИ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ЭКОЛ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12-02-23T16:23:0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