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C5E-4698-4F6C-9A5C-9BAA9815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1C7-48CD-42E6-9555-77F42432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B96-3C81-438B-A498-9E4457AE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B48-A508-49E6-975E-A7BAFF0E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1808-9976-4EE1-BDF6-2751FA7D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F525B-CDDD-45C9-9C21-8021E4C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33F6-634A-4AC1-B19C-A73BD55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B02FB-FA60-4E53-81FC-7284E50D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D0FC-61A4-4C06-BD6F-C3D0854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AA3E4-EB46-433B-B2B5-6A0C6B1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4FF2C-385B-4E2F-A674-75E8CA9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77C-0BC1-41D0-8898-EC4C0F4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037E2-ECDE-4104-9FFC-779D266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924C3-DA32-42A7-A86C-E45ED97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392A2-DEDD-4D46-BA12-8AD6B33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E94A4-0172-4C47-9D8B-8B646793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C7DF9-3B3C-413F-9751-E4C32A3B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4F6-1547-4C5C-84D5-E7AF10C6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96F-F5D9-4B2A-B05F-3410A1D8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B40-4813-4BF0-A333-1DC148B3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D55-FD45-49D9-A83A-1083F8B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283-D671-488A-AA06-1B6E4F8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AC1-0D13-4386-87D2-FB17A8B7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876-8303-4A99-A3D5-68C9C2E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D6B-0946-45CD-8B81-58E055EE3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7ED-B8F1-452D-A7C9-FA19B7AE2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ahoma"/>
              </a:rPr>
              <a:t>12 апреля – </a:t>
            </a:r>
            <a:br>
              <a:rPr sz="6000"/>
            </a:br>
            <a:r>
              <a:rPr b="0" lang="en-US" sz="6000" spc="-1" strike="noStrike">
                <a:solidFill>
                  <a:srgbClr val="66ffff"/>
                </a:solidFill>
                <a:latin typeface="Tahoma"/>
              </a:rPr>
              <a:t>День космонавти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выход человека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-19 марта 1965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389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4105440" cy="388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566100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ей Архипович Ле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ая стыковка двух кораблей в космо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4-18 января 1969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5040360" cy="238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362320" cy="232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6200" y="1844640"/>
            <a:ext cx="2298600" cy="479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132000" y="1916280"/>
            <a:ext cx="234324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групповой полет трех кораблей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-18 октября 1969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500360" cy="4491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4313160" cy="3031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013360"/>
            <a:ext cx="4427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Н. Кубасов, Г.С. Шонин, А.С. Елис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В. Горбатко, А.В. Филич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А. Шаталов, В.Н. Вол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ая орбитальная научная станция «Салют» в космо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30 июня 197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4324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248000" cy="4173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2060640"/>
            <a:ext cx="215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.Т. Доброволь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.И. Паца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.Н. Вол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291960"/>
            <a:ext cx="7210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ый международный экспериментальный поле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оюз» - «Аполлон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июля 1975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346640" y="1916280"/>
            <a:ext cx="4025880" cy="425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8920" y="1916280"/>
            <a:ext cx="2632320" cy="424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6237360"/>
            <a:ext cx="81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ипаж кораблей «Союз» и «Аполлон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Н. Кубасов, Д. Слейтон, А.А. Леонов, Т.Стаффорд, В.Бр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189000"/>
            <a:ext cx="128772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.Э. Циолковский – основатель теоретической космонавт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25720" y="1628640"/>
            <a:ext cx="35434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чало космической эр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 октября 1957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087280" cy="1868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564000" y="1557360"/>
            <a:ext cx="4537080" cy="4505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3429000"/>
            <a:ext cx="23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искус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утник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9500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косм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ссажир — собака Ла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6093000"/>
            <a:ext cx="45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адемики С. П. Королев и М. В. Келд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е этапы исследования Лун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января 1959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96072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529080" cy="388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587700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матическая межпланет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нция «Луна-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587700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Луноход-1» на поверхности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полет человека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2 апреля 196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054320" cy="48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4360" y="1700280"/>
            <a:ext cx="26492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суточный полет человека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7 августа 196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40360" y="1989000"/>
            <a:ext cx="2914560" cy="3889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22200" y="1916280"/>
            <a:ext cx="2251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групповой полет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-15 августа 1962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22920" y="1916280"/>
            <a:ext cx="3476520" cy="41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3816360" cy="374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6165720"/>
            <a:ext cx="367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бесные брат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6093000"/>
            <a:ext cx="367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смический корабль «Во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полет женщины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6-19 июня 1963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32640" y="1557360"/>
            <a:ext cx="2205000" cy="446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4489200" cy="4462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6165720"/>
            <a:ext cx="7345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лентина Владимировна Тереш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полет трехместного пилотируемого корабля в космос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2-13 октября 1964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472000" cy="28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98480" y="1916280"/>
            <a:ext cx="2295720" cy="430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48000" y="5300640"/>
            <a:ext cx="54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смонавты в районе призем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. М. Комаров, Б. Б. Егоров, К. П. Феоктист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5:42:19Z</dcterms:created>
  <dc:creator>User</dc:creator>
  <dc:description/>
  <dc:language>en-US</dc:language>
  <cp:lastModifiedBy>User</cp:lastModifiedBy>
  <dcterms:modified xsi:type="dcterms:W3CDTF">2012-12-22T21:12:06Z</dcterms:modified>
  <cp:revision>5</cp:revision>
  <dc:subject/>
  <dc:title>12 апреля – день космонавтики</dc:title>
</cp:coreProperties>
</file>