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D2A1-4946-419E-BD24-FF89C660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0C88-CBCE-49D5-BE2E-9170A27B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9CF5-E039-446C-8F96-9D94C5D8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BF4C-B424-4425-BB12-271DFC78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AEAB8-0459-4439-B85A-5C76110B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E758F-C710-494D-B53A-9281534C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5E6B8-3A5B-489F-8C74-06DB7D3E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F87DA-6857-4000-B35F-A1A4F6F2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57FD3-EA80-4507-9572-43638D29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341AD-9D50-49EC-983D-2B7981D5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C31F9-56D9-4DE6-89EA-7C9AAFC5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9D92-8DFE-4A7F-A961-B514AF7E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ECE54-7CEC-4A60-949E-2BDE2EA3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0F387-7E71-4E2B-BCA6-113EA769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54C7E-8A8B-4BB4-91DA-071514DC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DABC6-511A-451D-86F2-070B41E7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EC2BC-65CD-4E9C-87D2-351AAD88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34A1-942A-48D5-815A-B8B81871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EC24-2D42-497F-9BF0-55EA43AC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F861-6317-492B-8336-6EC9B78D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91CD-6F0B-4E7B-AC3B-C321419D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13A2-6191-49DB-AA7C-BC5B0A81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A0A4-B43A-46AF-9416-9F7EA59F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ECA2-1554-451B-83BA-F3ED2D61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95CB-F657-48DB-A5F3-794BA15100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5230-3AFC-45FD-AB6A-8F717AEA7B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1699920"/>
            <a:ext cx="77724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ff"/>
                </a:solidFill>
                <a:latin typeface="Tahoma"/>
              </a:rPr>
              <a:t>12 апреля – </a:t>
            </a:r>
            <a:br>
              <a:rPr sz="6000"/>
            </a:br>
            <a:r>
              <a:rPr b="0" lang="en-US" sz="6000" spc="-1" strike="noStrike">
                <a:solidFill>
                  <a:srgbClr val="66ffff"/>
                </a:solidFill>
                <a:latin typeface="Tahoma"/>
              </a:rPr>
              <a:t>День космонавтики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ервый выход человека в космос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8-19 марта 1965 г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3961080" cy="3897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95280" y="1628640"/>
            <a:ext cx="4105440" cy="3889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5280" y="5661000"/>
            <a:ext cx="835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лексей Архипович Лео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ервая стыковка двух кораблей в космос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4-18 января 1969 г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4221000"/>
            <a:ext cx="5040360" cy="2389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796000" y="1916280"/>
            <a:ext cx="2362320" cy="2323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46200" y="1844640"/>
            <a:ext cx="2298600" cy="4795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3132000" y="1916280"/>
            <a:ext cx="2343240" cy="2295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ервый групповой полет трех кораблей в космос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1-18 октября 1969 г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00720" y="2060640"/>
            <a:ext cx="4500360" cy="4491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0" y="2060640"/>
            <a:ext cx="4313160" cy="3031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5013360"/>
            <a:ext cx="44276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Н. Кубасов, Г.С. Шонин, А.С. Елисе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В. Горбатко, А.В. Филичен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А. Шаталов, В.Н. Вол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ервая орбитальная научная станция «Салют» в космос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6-30 июня 1971 г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4143240" cy="4143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24000" y="2060640"/>
            <a:ext cx="4248000" cy="4173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2060640"/>
            <a:ext cx="21592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Г.Т. Доброволь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.И. Паца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.Н. Вол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000" y="291960"/>
            <a:ext cx="721044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вый международный экспериментальный полет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Союз» - «Аполлон»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 июля 1975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346640" y="1916280"/>
            <a:ext cx="4025880" cy="4254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988920" y="1916280"/>
            <a:ext cx="2632320" cy="424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9640" y="6237360"/>
            <a:ext cx="813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кипаж кораблей «Союз» и «Аполлон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Н. Кубасов, Д. Слейтон, А.А. Леонов, Т.Стаффорд, В.Бран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900000" y="189000"/>
            <a:ext cx="1287720" cy="1297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.Э. Циолковский – основатель теоретической космонавтик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925720" y="1628640"/>
            <a:ext cx="3543480" cy="4969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Начало космической эры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4 октября 1957 г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6920" y="3933720"/>
            <a:ext cx="1944720" cy="1933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360" y="1557360"/>
            <a:ext cx="2087280" cy="1868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564000" y="1557360"/>
            <a:ext cx="4537080" cy="4505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11280" y="3429000"/>
            <a:ext cx="23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вый искусств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утник Зем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5950080"/>
            <a:ext cx="244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вый космиче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ссажир — собака Ла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6093000"/>
            <a:ext cx="453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кадемики С. П. Королев и М. В. Келды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ервые этапы исследования Луны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 января 1959 г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3960720" cy="3716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11280" y="1844640"/>
            <a:ext cx="3529080" cy="3889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4360" y="5877000"/>
            <a:ext cx="3382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втоматическая межпланет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анция «Луна-1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5877000"/>
            <a:ext cx="381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Луноход-1» на поверхности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ервый полет человека в космос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2 апреля 1961 г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284720" y="1484280"/>
            <a:ext cx="4054320" cy="4824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84360" y="1700280"/>
            <a:ext cx="264924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ервый суточный полет человека в космос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6-7 августа 1961 г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40360" y="1989000"/>
            <a:ext cx="2914560" cy="3889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222200" y="1916280"/>
            <a:ext cx="225108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ервый групповой полет в космос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1-15 августа 1962 г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22920" y="1916280"/>
            <a:ext cx="3476520" cy="4176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68360" y="2060640"/>
            <a:ext cx="3816360" cy="3740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643280" y="6165720"/>
            <a:ext cx="367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бесные брат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6093000"/>
            <a:ext cx="367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смический корабль «Восто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ервый полет женщины в космос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6-19 июня 1963 г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32640" y="1557360"/>
            <a:ext cx="2205000" cy="4464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4489200" cy="4462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11280" y="6165720"/>
            <a:ext cx="73454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алентина Владимировна Терешк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ервый полет трехместного пилотируемого корабля в космос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2-13 октября 1964 г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76720" y="2276640"/>
            <a:ext cx="5472000" cy="2833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98480" y="1916280"/>
            <a:ext cx="2295720" cy="4308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348000" y="5300640"/>
            <a:ext cx="5400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смонавты в районе призем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В. М. Комаров, Б. Б. Егоров, К. П. Феоктисто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5:42:19Z</dcterms:created>
  <dc:creator>User</dc:creator>
  <dc:description/>
  <dc:language>en-US</dc:language>
  <cp:lastModifiedBy>User</cp:lastModifiedBy>
  <dcterms:modified xsi:type="dcterms:W3CDTF">2012-12-22T21:12:06Z</dcterms:modified>
  <cp:revision>5</cp:revision>
  <dc:subject/>
  <dc:title>12 апреля – день космонавтики</dc:title>
</cp:coreProperties>
</file>