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D7E6-1DA5-4605-8E62-12DE4AC9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64EA-439C-4315-8B5C-CBA163EE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B64-B528-48A1-B97C-17B35468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C42-05AD-4A3D-BE0B-CCC9481B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C155-4F19-49F4-8791-C8E52582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609-9868-4013-8D8D-FA9A67EC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38B-CB57-46D0-98A7-C8046647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838D-15EC-4892-8354-BCDFD319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6BA0-0FF6-4197-B8FB-C2D6E8FA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3F3-5192-400A-95B6-0A435D93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AA8-333E-49F4-B4A3-AA6FC6E3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A0B-1212-416C-971A-DC39CA7B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BBA9-3816-4A2E-8E76-05D6685C78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8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Городское пространство как организованная образовательная сред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85840" y="4330800"/>
            <a:ext cx="705816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едведева Ирина Анатольевна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итель истории и культуры Санкт-Петербург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ОУ СОШ № 96 Калининского района Санкт-Петербург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сшая квалификационная категория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ипломант конкурса педагогических достиже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«Лучший педагог Калининского района», 2009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SDC10670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276720" y="2060640"/>
            <a:ext cx="3348000" cy="4462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SDC10673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227640" y="26028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SDC10665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395280" y="404640"/>
            <a:ext cx="3240000" cy="243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SDC10671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395280" y="3284640"/>
            <a:ext cx="2538360" cy="338436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0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SDC10682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95280" y="260280"/>
            <a:ext cx="3024360" cy="403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SDC10675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356000" y="333360"/>
            <a:ext cx="4370400" cy="3278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SDC10695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771640" y="2637000"/>
            <a:ext cx="3332160" cy="399708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0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6" descr="Tandems 022"/>
          <p:cNvPicPr/>
          <p:nvPr/>
        </p:nvPicPr>
        <p:blipFill>
          <a:blip r:embed="rId2"/>
          <a:stretch/>
        </p:blipFill>
        <p:spPr>
          <a:xfrm>
            <a:off x="250920" y="260280"/>
            <a:ext cx="4752720" cy="3565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SDC10693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3924360" y="372600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SDC10688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5867280" y="333360"/>
            <a:ext cx="2863800" cy="381636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2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2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87640" y="609120"/>
            <a:ext cx="547056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 территории Александро-Невской лав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SDC10676"/>
          <p:cNvPicPr/>
          <p:nvPr/>
        </p:nvPicPr>
        <p:blipFill>
          <a:blip r:embed="rId2"/>
          <a:stretch/>
        </p:blipFill>
        <p:spPr>
          <a:xfrm>
            <a:off x="324000" y="333360"/>
            <a:ext cx="2268360" cy="3024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SDC10700"/>
          <p:cNvPicPr/>
          <p:nvPr/>
        </p:nvPicPr>
        <p:blipFill>
          <a:blip r:embed="rId3"/>
          <a:stretch/>
        </p:blipFill>
        <p:spPr>
          <a:xfrm>
            <a:off x="6192720" y="299736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17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2268360" y="1773360"/>
            <a:ext cx="4248360" cy="318600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480"/>
                            </p:stCondLst>
                            <p:childTnLst>
                              <p:par>
                                <p:cTn id="33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4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0" descr="SDC10707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292720" y="189000"/>
            <a:ext cx="3618000" cy="4824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4"/>
          <p:cNvSpPr/>
          <p:nvPr/>
        </p:nvSpPr>
        <p:spPr>
          <a:xfrm>
            <a:off x="521640" y="20952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вято-Троицкий соб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7"/>
          <p:cNvGraphicFramePr/>
          <p:nvPr/>
        </p:nvGraphicFramePr>
        <p:xfrm>
          <a:off x="2916360" y="3357720"/>
          <a:ext cx="3600360" cy="32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3357720"/>
                    <a:ext cx="360036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26" descr="SDC10705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324000" y="692280"/>
            <a:ext cx="4032000" cy="302400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6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SDC10679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859280" y="1197000"/>
            <a:ext cx="4030560" cy="5371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SDC10701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50920" y="333360"/>
            <a:ext cx="3886200" cy="518328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7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7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Копия SDC10680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 rot="21289800">
            <a:off x="1770840" y="5347800"/>
            <a:ext cx="638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ccff"/>
                </a:solidFill>
                <a:latin typeface="Comic Sans MS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аботе использованы  фотографии автор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642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 u="sng">
                <a:solidFill>
                  <a:srgbClr val="620031"/>
                </a:solidFill>
                <a:uFillTx/>
                <a:latin typeface="Times New Roman"/>
              </a:rPr>
              <a:t>Образовательное путешествие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– это педагогический метод, позволяющий преобразовать окружающую среду в среду развития личности посредством "распредмечивания" объектов окружающего мир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11280" y="3933720"/>
            <a:ext cx="7772400" cy="27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20031"/>
                </a:solidFill>
                <a:uFillTx/>
                <a:latin typeface="Times New Roman"/>
              </a:rPr>
              <a:t>Этапы образовательного путешестви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подготовительный, организационный;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основной, исследовательский;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заключительный. </a:t>
            </a:r>
            <a:br>
              <a:rPr sz="28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60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10 рекомендаций индейцев-черо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. Почувствовать - следовать своей интуиции, почувствовать, какую атмосферу излучает выбранное мест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 Испытать – подготовиться воспринять, получить впечат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Угадать – позволить месту воздействовать на себя и свои чувства, постичь его ду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. Спросить – задать вопрос о месте и осмыслить отве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5. Заключить – изучить историю места и понять взаимосвяз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6. Узнать – оживить в фантазии его прошло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7. Удивиться – оттолкнуться от этого, двигаться, осваивать, удивлять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8. Пережить – с помощью фантазии выбрать себе роль и принять участ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9. Записать – записать свои впечатления, отредактиров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0. Рассказать – рассказать свою истори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20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84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08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96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84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88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36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792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28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236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Этапы образовательного путешествия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 подготовительный, организацион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сновной, исследовательск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эмоционально-чувственн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  заключительны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6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76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88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88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21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ffff"/>
                </a:solidFill>
                <a:latin typeface="Comic Sans MS"/>
              </a:rPr>
              <a:t>Александро-Невская лавра.</a:t>
            </a:r>
            <a:br>
              <a:rPr sz="4800"/>
            </a:br>
            <a:r>
              <a:rPr b="1" i="1" lang="ru-RU" sz="2400" spc="-1" strike="noStrike">
                <a:solidFill>
                  <a:srgbClr val="00ffff"/>
                </a:solidFill>
                <a:latin typeface="Comic Sans MS"/>
              </a:rPr>
              <a:t>(Образовательное путешеств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340000" y="2781360"/>
            <a:ext cx="6804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Times New Roman"/>
              </a:rPr>
              <a:t>Состави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Times New Roman"/>
              </a:rPr>
              <a:t>уч-ся 5 «а» и 5 «б» классов ГОУ СОШ №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Times New Roman"/>
              </a:rPr>
              <a:t>Вагабова Камила, Колосенок Ангелина, Фадеева Оксан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Times New Roman"/>
              </a:rPr>
              <a:t>Карелова Татьяна, Степанов Артур, Кузнецов Александр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Times New Roman"/>
              </a:rPr>
              <a:t>Сарапсон Вячеслав, Алексеев Евгений, Марченко Константи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Times New Roman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Times New Roman"/>
              </a:rPr>
              <a:t>Медведева Ирина Анатольев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780000" y="595008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ffff"/>
                </a:solidFill>
                <a:latin typeface="Times New Roman"/>
              </a:rPr>
              <a:t>Санкт-Петербур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ffff"/>
                </a:solidFill>
                <a:latin typeface="Times New Roman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16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6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80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72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68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800"/>
                            </p:stCondLst>
                            <p:childTnLst>
                              <p:par>
                                <p:cTn id="2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32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36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342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1.09.2010. Утро. Мы едем в Александро-Невскую лавр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SDC10654"/>
          <p:cNvPicPr/>
          <p:nvPr/>
        </p:nvPicPr>
        <p:blipFill>
          <a:blip r:embed="rId2"/>
          <a:stretch/>
        </p:blipFill>
        <p:spPr>
          <a:xfrm>
            <a:off x="468360" y="18446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SDC10655"/>
          <p:cNvPicPr/>
          <p:nvPr/>
        </p:nvPicPr>
        <p:blipFill>
          <a:blip r:embed="rId3"/>
          <a:stretch/>
        </p:blipFill>
        <p:spPr>
          <a:xfrm>
            <a:off x="4572000" y="155736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SDC10652"/>
          <p:cNvPicPr/>
          <p:nvPr/>
        </p:nvPicPr>
        <p:blipFill>
          <a:blip r:embed="rId4"/>
          <a:stretch/>
        </p:blipFill>
        <p:spPr>
          <a:xfrm>
            <a:off x="3276720" y="3429000"/>
            <a:ext cx="2430360" cy="324000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920"/>
                            </p:stCondLst>
                            <p:childTnLst>
                              <p:par>
                                <p:cTn id="22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бота с маршрутным листом и картосхемой. Определение местонахождения групп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4" descr="SDC10656"/>
          <p:cNvPicPr/>
          <p:nvPr/>
        </p:nvPicPr>
        <p:blipFill>
          <a:blip r:embed="rId2"/>
          <a:stretch/>
        </p:blipFill>
        <p:spPr>
          <a:xfrm>
            <a:off x="179280" y="1268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Users\Ирина\Pictures\Рисунок1ооо.jpg"/>
          <p:cNvPicPr/>
          <p:nvPr/>
        </p:nvPicPr>
        <p:blipFill>
          <a:blip r:embed="rId3"/>
          <a:stretch/>
        </p:blipFill>
        <p:spPr>
          <a:xfrm>
            <a:off x="4859280" y="2744640"/>
            <a:ext cx="4056120" cy="382752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800"/>
                            </p:stCondLst>
                            <p:childTnLst>
                              <p:par>
                                <p:cTn id="24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лан картосхемы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Рисунок1 лавра"/>
          <p:cNvPicPr/>
          <p:nvPr/>
        </p:nvPicPr>
        <p:blipFill>
          <a:blip r:embed="rId2"/>
          <a:stretch/>
        </p:blipFill>
        <p:spPr>
          <a:xfrm>
            <a:off x="2050920" y="1052640"/>
            <a:ext cx="5229360" cy="561636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 памятника Александру Невскому на пл. Александра Невск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" descr="Tandems 008"/>
          <p:cNvPicPr/>
          <p:nvPr/>
        </p:nvPicPr>
        <p:blipFill>
          <a:blip r:embed="rId2"/>
          <a:stretch/>
        </p:blipFill>
        <p:spPr>
          <a:xfrm>
            <a:off x="179280" y="981000"/>
            <a:ext cx="3218040" cy="251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Tandems 009"/>
          <p:cNvPicPr/>
          <p:nvPr/>
        </p:nvPicPr>
        <p:blipFill>
          <a:blip r:embed="rId3"/>
          <a:stretch/>
        </p:blipFill>
        <p:spPr>
          <a:xfrm>
            <a:off x="179280" y="4076640"/>
            <a:ext cx="3517920" cy="2638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Копия Tandems 004"/>
          <p:cNvPicPr/>
          <p:nvPr/>
        </p:nvPicPr>
        <p:blipFill>
          <a:blip r:embed="rId4"/>
          <a:stretch/>
        </p:blipFill>
        <p:spPr>
          <a:xfrm>
            <a:off x="6372360" y="981000"/>
            <a:ext cx="2585880" cy="2808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4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5364000" y="4005360"/>
            <a:ext cx="3578400" cy="268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SDC10658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3276720" y="1268280"/>
            <a:ext cx="2917800" cy="388944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12-12-23T11:26:51Z</dcterms:modified>
  <cp:revision>16</cp:revision>
  <dc:subject/>
  <dc:title>PowerPoint Presentation</dc:title>
</cp:coreProperties>
</file>