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7985-F225-4A12-9688-C5EFE3962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438B-814A-48D2-AAE9-D5CC5319A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B670-41AB-40E3-BAEB-EFBB9B2A4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FF92-F061-43C7-B45E-249292906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9AFC-4B6B-4664-8C7E-E6332AE89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7F4B-5A1D-4CF3-BE0B-F0F36B833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9967-427A-4FDC-9BA1-E697B27E1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4B5E-140D-4E4C-B7C9-5D2DED644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19F7-3173-43F1-AC67-C59BB281C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5DE5-B57D-4204-965A-A79474446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F06B-37DB-4BC6-AB10-F7BC0749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58A1-6A68-493C-91D3-88005203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C3C04-3ED9-4B06-BBCF-D638149324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ff"/>
                </a:solidFill>
                <a:latin typeface="Times New Roman"/>
              </a:rPr>
              <a:t>Десятичная запись дробных чисе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1) 2,8;             6) 20,036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2) 3,74;           7) 20,036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3) 1,371;         8) 201,0101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4) 0,55;           9) 6,006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5) 145,003;   10) 33,000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40000" y="404280"/>
            <a:ext cx="388764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0,479</a:t>
            </a: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4,79</a:t>
            </a: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95,300</a:t>
            </a: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0,004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26920" y="764640"/>
            <a:ext cx="2530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0,48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4,78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95,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0,04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35280" y="620640"/>
            <a:ext cx="115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  <a:ea typeface="Arial"/>
              </a:rPr>
              <a:t>&gt;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  <a:ea typeface="Arial"/>
              </a:rPr>
              <a:t>&lt;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  <a:ea typeface="Arial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  <a:ea typeface="Arial"/>
              </a:rPr>
              <a:t>&gt;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95280" y="62028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0              0,1                                                 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1125360"/>
            <a:ext cx="763272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8811000">
            <a:off x="489240" y="179280"/>
            <a:ext cx="1298880" cy="143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787" y="2587"/>
                </a:moveTo>
                <a:arcTo wR="10800" hR="10800" stAng="-7829568" swAng="8302008"/>
                <a:lnTo>
                  <a:pt x="10800" y="10800"/>
                </a:lnTo>
                <a:close/>
              </a:path>
              <a:path fill="none" w="21600" h="21600">
                <a:moveTo>
                  <a:pt x="3787" y="2587"/>
                </a:moveTo>
                <a:arcTo wR="10800" hR="10800" stAng="-7829568" swAng="8302008"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8811000">
            <a:off x="4175280" y="204840"/>
            <a:ext cx="1298880" cy="143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787" y="2587"/>
                </a:moveTo>
                <a:arcTo wR="10800" hR="10800" stAng="-7829568" swAng="8302008"/>
                <a:lnTo>
                  <a:pt x="10800" y="10800"/>
                </a:lnTo>
                <a:close/>
              </a:path>
              <a:path fill="none" w="21600" h="21600">
                <a:moveTo>
                  <a:pt x="3787" y="2587"/>
                </a:moveTo>
                <a:arcTo wR="10800" hR="10800" stAng="-7829568" swAng="8302008"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8811000">
            <a:off x="2951280" y="204840"/>
            <a:ext cx="1298880" cy="143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787" y="2587"/>
                </a:moveTo>
                <a:arcTo wR="10800" hR="10800" stAng="-7829568" swAng="8302008"/>
                <a:lnTo>
                  <a:pt x="10800" y="10800"/>
                </a:lnTo>
                <a:close/>
              </a:path>
              <a:path fill="none" w="21600" h="21600">
                <a:moveTo>
                  <a:pt x="3787" y="2587"/>
                </a:moveTo>
                <a:arcTo wR="10800" hR="10800" stAng="-7829568" swAng="8302008"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8811000">
            <a:off x="1728000" y="204480"/>
            <a:ext cx="1298520" cy="143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787" y="2587"/>
                </a:moveTo>
                <a:arcTo wR="10800" hR="10800" stAng="-7829568" swAng="8302008"/>
                <a:lnTo>
                  <a:pt x="10800" y="10800"/>
                </a:lnTo>
                <a:close/>
              </a:path>
              <a:path fill="none" w="21600" h="21600">
                <a:moveTo>
                  <a:pt x="3787" y="2587"/>
                </a:moveTo>
                <a:arcTo wR="10800" hR="10800" stAng="-7829568" swAng="8302008"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4724280"/>
            <a:ext cx="763272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8811000">
            <a:off x="351000" y="3780000"/>
            <a:ext cx="1298880" cy="143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787" y="2587"/>
                </a:moveTo>
                <a:arcTo wR="10800" hR="10800" stAng="-7829568" swAng="8302008"/>
                <a:lnTo>
                  <a:pt x="10800" y="10800"/>
                </a:lnTo>
                <a:close/>
              </a:path>
              <a:path fill="none" w="21600" h="21600">
                <a:moveTo>
                  <a:pt x="3787" y="2587"/>
                </a:moveTo>
                <a:arcTo wR="10800" hR="10800" stAng="-7829568" swAng="8302008"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8811000">
            <a:off x="1575000" y="3805200"/>
            <a:ext cx="1298880" cy="143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787" y="2587"/>
                </a:moveTo>
                <a:arcTo wR="10800" hR="10800" stAng="-7829568" swAng="8302008"/>
                <a:lnTo>
                  <a:pt x="10800" y="10800"/>
                </a:lnTo>
                <a:close/>
              </a:path>
              <a:path fill="none" w="21600" h="21600">
                <a:moveTo>
                  <a:pt x="3787" y="2587"/>
                </a:moveTo>
                <a:arcTo wR="10800" hR="10800" stAng="-7829568" swAng="8302008"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8811000">
            <a:off x="2806920" y="3805200"/>
            <a:ext cx="1298880" cy="143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787" y="2587"/>
                </a:moveTo>
                <a:arcTo wR="10800" hR="10800" stAng="-7829568" swAng="8302008"/>
                <a:lnTo>
                  <a:pt x="10800" y="10800"/>
                </a:lnTo>
                <a:close/>
              </a:path>
              <a:path fill="none" w="21600" h="21600">
                <a:moveTo>
                  <a:pt x="3787" y="2587"/>
                </a:moveTo>
                <a:arcTo wR="10800" hR="10800" stAng="-7829568" swAng="8302008"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8811000">
            <a:off x="4023000" y="3805200"/>
            <a:ext cx="1298880" cy="143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787" y="2587"/>
                </a:moveTo>
                <a:arcTo wR="10800" hR="10800" stAng="-7829568" swAng="8302008"/>
                <a:lnTo>
                  <a:pt x="10800" y="10800"/>
                </a:lnTo>
                <a:close/>
              </a:path>
              <a:path fill="none" w="21600" h="21600">
                <a:moveTo>
                  <a:pt x="3787" y="2587"/>
                </a:moveTo>
                <a:arcTo wR="10800" hR="10800" stAng="-7829568" swAng="8302008"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8811000">
            <a:off x="5256360" y="3780000"/>
            <a:ext cx="1298880" cy="143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787" y="2587"/>
                </a:moveTo>
                <a:arcTo wR="10800" hR="10800" stAng="-7829568" swAng="8302008"/>
                <a:lnTo>
                  <a:pt x="10800" y="10800"/>
                </a:lnTo>
                <a:close/>
              </a:path>
              <a:path fill="none" w="21600" h="21600">
                <a:moveTo>
                  <a:pt x="3787" y="2587"/>
                </a:moveTo>
                <a:arcTo wR="10800" hR="10800" stAng="-7829568" swAng="8302008"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0920" y="4292640"/>
            <a:ext cx="8229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0                               0,04                                                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11280" y="2276640"/>
            <a:ext cx="8229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Arial"/>
              </a:rPr>
              <a:t>а=0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805360"/>
            <a:ext cx="8229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Arial"/>
              </a:rPr>
              <a:t>а=0,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539280" y="1557360"/>
            <a:ext cx="814716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(43,4 - 7,87)-(4,3+27,83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(26,72 + 4,9)+(35,8 – 6,98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51280" y="4437000"/>
            <a:ext cx="48355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3,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60,4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6T09:36:28Z</dcterms:created>
  <dc:creator>Эльвира Николаевна</dc:creator>
  <dc:description/>
  <dc:language>en-US</dc:language>
  <cp:lastModifiedBy>Эльвира Николаевна</cp:lastModifiedBy>
  <dcterms:modified xsi:type="dcterms:W3CDTF">2010-03-09T12:35:34Z</dcterms:modified>
  <cp:revision>2</cp:revision>
  <dc:subject/>
  <dc:title>Десятичная запись дробных чисел</dc:title>
</cp:coreProperties>
</file>