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3AA-3EB6-4133-8C54-F0D3FA07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00E-7AF8-4440-9F29-C8E84778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76A-8CEF-4130-890C-7C301B03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476-0A9C-488C-A17B-8CF60BEA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B39-86E1-4B61-A61D-F9717386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D54-0AA8-4318-9962-03BE68EB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3E4-8333-47E3-9A2F-08814158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16B-748C-42C3-A464-68F68E7F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A01-5289-41D8-BFB6-24498BC2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99C-5C88-4AD7-978D-CF389C12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31A-02C2-4794-A0CA-431C095E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6BB-4EBA-42D5-B7B5-FFE2E287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4261-0368-49B5-9C60-78185CA2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Десятичная запись дробных чис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) 2,8;             6) 20,036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) 3,74;           7) 20,036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3) 1,371;         8) 201,0101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) 0,55;           9) 6,006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) 145,003;   10) 33,000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40000" y="404280"/>
            <a:ext cx="38876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0,479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4,79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95,300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0,00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764640"/>
            <a:ext cx="2530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48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,7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95,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0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35280" y="620640"/>
            <a:ext cx="11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              0,1                                           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25360"/>
            <a:ext cx="763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8811000">
            <a:off x="489240" y="17928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8811000">
            <a:off x="4175280" y="20484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8811000">
            <a:off x="2951280" y="20484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8811000">
            <a:off x="1728000" y="204480"/>
            <a:ext cx="129852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724280"/>
            <a:ext cx="763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811000">
            <a:off x="351000" y="37800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811000">
            <a:off x="1575000" y="38052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8811000">
            <a:off x="2806920" y="38052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8811000">
            <a:off x="4023000" y="38052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8811000">
            <a:off x="5256360" y="37800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29264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                               0,04                                          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27664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а=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805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а=0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147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43,4 - 7,87)-(4,3+27,8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26,72 + 4,9)+(35,8 – 6,98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51280" y="4437000"/>
            <a:ext cx="48355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3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60,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9:36:28Z</dcterms:created>
  <dc:creator>Эльвира Николаевна</dc:creator>
  <dc:description/>
  <dc:language>en-US</dc:language>
  <cp:lastModifiedBy>Эльвира Николаевна</cp:lastModifiedBy>
  <dcterms:modified xsi:type="dcterms:W3CDTF">2010-03-09T12:35:34Z</dcterms:modified>
  <cp:revision>2</cp:revision>
  <dc:subject/>
  <dc:title>Десятичная запись дробных чисел</dc:title>
</cp:coreProperties>
</file>