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385-63D2-4383-964B-13CBF78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70E-367E-44A7-88A2-BB53ED6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E69-1F0F-41D3-8344-066873B2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A40-A963-4F6A-9902-57C57D90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0C5-90E2-42FB-B389-B8FB9A1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ED4-3829-4B49-98E1-32A979A7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C86-25E9-47DC-80AE-127A1B4F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D84-8527-4B80-8CB9-2B162000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918-6500-4A75-AB44-6A5A303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C77-CEC8-4362-96C7-DA94AD8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68C-9522-44B1-A1EF-7CD14C5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DDC-D60C-49D4-9AB4-D193A71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1C8-9D4F-4E56-B146-2C933705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косистема озе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5473440" cy="5157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364200" cy="449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988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дра и её детён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зёра, из которых вода не вытекает, называ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2895480"/>
            <a:ext cx="8077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ссточны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зёра, из которых вытекает вода называ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2895480"/>
            <a:ext cx="838224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точным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00280" y="0"/>
            <a:ext cx="576720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6019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вш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01956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бы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7920" y="0"/>
            <a:ext cx="601956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8120" y="6019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р боло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47920" y="0"/>
            <a:ext cx="64767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8120" y="6064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447920" y="0"/>
            <a:ext cx="6248160" cy="580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5987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г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0"/>
          <a:ext cx="6248160" cy="58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0"/>
                    <a:ext cx="6248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8120" y="5987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ло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600200" y="0"/>
            <a:ext cx="6248520" cy="6089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200" y="6095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320"/>
            <a:ext cx="7391160" cy="568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тушка роговид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76320"/>
            <a:ext cx="7391160" cy="56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90920" y="5943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ягушка озё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920"/>
            <a:ext cx="7467480" cy="5935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90720" y="0"/>
            <a:ext cx="770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3880" y="57150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52280"/>
            <a:ext cx="8299440" cy="550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04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12600"/>
            <a:ext cx="8305560" cy="570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00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" y="0"/>
            <a:ext cx="8381880" cy="570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591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04920" y="0"/>
            <a:ext cx="8686800" cy="576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8120" y="5911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и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8686800" cy="5830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004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528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47920" y="5867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тка кря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8012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305560" cy="568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24080" y="5943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0400" y="6019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об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4:14Z</dcterms:created>
  <dc:creator>Надежда</dc:creator>
  <dc:description/>
  <dc:language>en-US</dc:language>
  <cp:lastModifiedBy>Андрей</cp:lastModifiedBy>
  <dcterms:modified xsi:type="dcterms:W3CDTF">2008-12-15T16:19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