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5656-AF33-45EE-85BF-8F1A57297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4CF-BCA1-4E33-9AF6-BCB68ACFA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8F1A-B0F9-4F6F-A96A-C4D9153A6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2F79-691F-47D6-802D-6D7457A661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EE79-3DC3-4DE1-9287-C25467909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24CC-B5E7-484B-A1E5-0A8C94579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256A-DE55-4DEF-8B1F-059B66EF8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5E73-BEFF-400E-ABCB-1C91825F2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0350-6D15-470B-88F7-23A05B80F9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D2A0-C1F8-4A1C-804D-EEC0F374B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AB3D-F317-418A-9855-764E2F8BD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20AA-E4C4-4A51-AAB9-61468A063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1794-9479-4BCD-BDA9-E5BBC1446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CCB-9DAA-4967-AA78-BD822024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CA3-59DD-4216-9F0B-4C0C77AC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B63-177E-4521-8297-87877569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7E4-C331-4090-91A8-65DD7E23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96B-7410-450E-B5BD-8094703C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3BD-55CB-4FAE-94C4-03BFE5D2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9F8-F531-4ED3-A1C6-DD4D65DD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E73-6491-4920-857E-C93860BD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7F1-B3F0-4561-96F4-3C88ED28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361-D2C7-41F4-8D87-7CF66ECD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048-A6F0-4EC8-B42C-84542706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893-E087-46B1-9D80-B57F8FA7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8BC8-4B37-4713-9C1C-503BE5749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07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cc"/>
                </a:solidFill>
                <a:latin typeface="Arial"/>
              </a:rPr>
              <a:t>Елочка за полчаса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72080" y="4436640"/>
            <a:ext cx="3571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714240" y="1254240"/>
            <a:ext cx="450072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рашаем пайетками, приклеивая их кле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DSC06117"/>
          <p:cNvPicPr/>
          <p:nvPr/>
        </p:nvPicPr>
        <p:blipFill>
          <a:blip r:embed="rId1"/>
          <a:stretch/>
        </p:blipFill>
        <p:spPr>
          <a:xfrm>
            <a:off x="4762440" y="476280"/>
            <a:ext cx="413064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товые ёл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DSC06094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5472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ж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вый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ходится без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ёлочк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елёная красавица – один из обязательных атрибутов праздника. Только совсем необязательно для этого идти вырубать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Ёлочку можно купить искусственную (как большую, так и небольшую), а вот маленькие ёлочки, для создания новогодних композиций, можно и самим с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времени на сложные поделки? Сделае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мые простые ёлоч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я работы нам понадоби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лфетки для уборки двух цв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йе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й (ПВА или «Момент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жн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ная маш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ки для ши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DSC06114"/>
          <p:cNvPicPr/>
          <p:nvPr/>
        </p:nvPicPr>
        <p:blipFill>
          <a:blip r:embed="rId1"/>
          <a:srcRect l="0" t="2361" r="0" b="7288"/>
          <a:stretch/>
        </p:blipFill>
        <p:spPr>
          <a:xfrm>
            <a:off x="4427640" y="2128680"/>
            <a:ext cx="44701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363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боты нам нужна не осыпающаяся ткань. Это может быть драп, фетр. Но мы будем использовать самые обыкновенные салфетки для уборка, которые продаются во всех хозяйственных магазинах. Стоят недорого и бывают разных цветов (розовые, голубые, желтые, зелены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DSC06114"/>
          <p:cNvPicPr/>
          <p:nvPr/>
        </p:nvPicPr>
        <p:blipFill>
          <a:blip r:embed="rId1"/>
          <a:stretch/>
        </p:blipFill>
        <p:spPr>
          <a:xfrm>
            <a:off x="1692360" y="2408400"/>
            <a:ext cx="5688000" cy="42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исуем на бумаге простеньки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аблон – ёлоч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DSC06115"/>
          <p:cNvPicPr/>
          <p:nvPr/>
        </p:nvPicPr>
        <p:blipFill>
          <a:blip r:embed="rId1"/>
          <a:stretch/>
        </p:blipFill>
        <p:spPr>
          <a:xfrm>
            <a:off x="1042920" y="171936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ладываем две салфетки друг на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салфеток может быть одинаковый, а можно сделать елочку и из салфетки двух ц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DSC06121"/>
          <p:cNvPicPr/>
          <p:nvPr/>
        </p:nvPicPr>
        <p:blipFill>
          <a:blip r:embed="rId1"/>
          <a:stretch/>
        </p:blipFill>
        <p:spPr>
          <a:xfrm>
            <a:off x="5219640" y="404640"/>
            <a:ext cx="350856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кладываем сверху шаблон ёл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алываем булав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шиваем на машине. Строчку прокладываем близко к шабло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DSC06108"/>
          <p:cNvPicPr/>
          <p:nvPr/>
        </p:nvPicPr>
        <p:blipFill>
          <a:blip r:embed="rId1"/>
          <a:stretch/>
        </p:blipFill>
        <p:spPr>
          <a:xfrm>
            <a:off x="5651640" y="260280"/>
            <a:ext cx="3168360" cy="243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SC06110"/>
          <p:cNvPicPr/>
          <p:nvPr/>
        </p:nvPicPr>
        <p:blipFill>
          <a:blip r:embed="rId2"/>
          <a:stretch/>
        </p:blipFill>
        <p:spPr>
          <a:xfrm>
            <a:off x="5796000" y="2781360"/>
            <a:ext cx="27781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ем ёлочку по контуру, оставив припуск 2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DSC06113"/>
          <p:cNvPicPr/>
          <p:nvPr/>
        </p:nvPicPr>
        <p:blipFill>
          <a:blip r:embed="rId1"/>
          <a:stretch/>
        </p:blipFill>
        <p:spPr>
          <a:xfrm>
            <a:off x="4284720" y="907920"/>
            <a:ext cx="461484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1:12:56Z</dcterms:created>
  <dc:creator>админ</dc:creator>
  <dc:description/>
  <dc:language>en-US</dc:language>
  <cp:lastModifiedBy>u</cp:lastModifiedBy>
  <dcterms:modified xsi:type="dcterms:W3CDTF">2012-12-08T11:18:26Z</dcterms:modified>
  <cp:revision>13</cp:revision>
  <dc:subject/>
  <dc:title>Старые джинсы превращаются   </dc:title>
</cp:coreProperties>
</file>