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8BF6-27A8-4CAA-808C-FF40C5900D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364E-2CC5-4E6E-82CA-26D64F78A6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156F-2CC6-425B-B656-62881D0572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7D7C-2601-4A4C-BAD0-1E400E6F7D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C4D0-AA11-42B6-A5F7-6E6F33E049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0F80-EA13-4C03-A429-E40EDB925A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DE66-817D-4C29-AC94-D7CBE0971A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A6F1-87FC-47C2-93EB-D8747259F5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4DB3-733A-402D-B543-2033539F2A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B3EC-E474-470E-80F6-BA3758998C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0283-126B-45E3-B766-1AEADB824F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29A6-36C7-4EF6-9144-E011C06703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A025-AB6C-4FBE-9BF6-DF81EB1014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67D1-3FD7-4850-A597-C4FA832F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F0C2-1D6C-4607-9896-3879E21F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339-77A5-491B-8E69-14B7CB06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73E-0F83-4176-AB63-850C29FE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A46-CF6F-4190-AE3D-AFE0BF6A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A50-16D7-4899-8524-0F4E2DF1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B7A-0397-44DD-BE9C-E89B5CE3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2A6-8BEA-427E-B50A-D74939EB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D9FB-AEDD-4BBF-86D7-94478654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9255-CC97-46AA-B236-05BC7821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FBB-1EC3-41C7-BB8A-EB18F73F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84D-3511-43DF-975C-229D559E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FCAB-DC4A-47B5-B07C-8019B14D59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07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cc"/>
                </a:solidFill>
                <a:latin typeface="Arial"/>
              </a:rPr>
              <a:t>Елочка за полчаса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572080" y="4436640"/>
            <a:ext cx="3571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714240" y="1254240"/>
            <a:ext cx="450072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рашаем пайетками, приклеивая их кле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DSC06117"/>
          <p:cNvPicPr/>
          <p:nvPr/>
        </p:nvPicPr>
        <p:blipFill>
          <a:blip r:embed="rId1"/>
          <a:stretch/>
        </p:blipFill>
        <p:spPr>
          <a:xfrm>
            <a:off x="4762440" y="476280"/>
            <a:ext cx="413064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товые ёл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DSC06094"/>
          <p:cNvPicPr/>
          <p:nvPr/>
        </p:nvPicPr>
        <p:blipFill>
          <a:blip r:embed="rId1"/>
          <a:stretch/>
        </p:blipFill>
        <p:spPr>
          <a:xfrm>
            <a:off x="468360" y="177336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5472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ж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овый Г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бходится без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ёлочк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елёная красавица – один из обязательных атрибутов праздника. Только совсем необязательно для этого идти вырубать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Ёлочку можно купить искусственную (как большую, так и небольшую), а вот маленькие ёлочки, для создания новогодних композиций, можно и самим сде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 времени на сложные поделки? Сделае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амые простые ёлоч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ля работы нам понадоби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лфетки для уборки двух цве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йе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й (ПВА или «Момент»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жни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вейная маш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тки для шит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DSC06114"/>
          <p:cNvPicPr/>
          <p:nvPr/>
        </p:nvPicPr>
        <p:blipFill>
          <a:blip r:embed="rId1"/>
          <a:srcRect l="0" t="2361" r="0" b="7288"/>
          <a:stretch/>
        </p:blipFill>
        <p:spPr>
          <a:xfrm>
            <a:off x="4427640" y="2128680"/>
            <a:ext cx="44701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3631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аботы нам нужна не осыпающаяся ткань. Это может быть драп, фетр. Но мы будем использовать самые обыкновенные салфетки для уборка, которые продаются во всех хозяйственных магазинах. Стоят недорого и бывают разных цветов (розовые, голубые, желтые, зелены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DSC06114"/>
          <p:cNvPicPr/>
          <p:nvPr/>
        </p:nvPicPr>
        <p:blipFill>
          <a:blip r:embed="rId1"/>
          <a:stretch/>
        </p:blipFill>
        <p:spPr>
          <a:xfrm>
            <a:off x="1692360" y="2408400"/>
            <a:ext cx="5688000" cy="42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915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исуем на бумаге простенький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аблон – ёлоч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DSC06115"/>
          <p:cNvPicPr/>
          <p:nvPr/>
        </p:nvPicPr>
        <p:blipFill>
          <a:blip r:embed="rId1"/>
          <a:stretch/>
        </p:blipFill>
        <p:spPr>
          <a:xfrm>
            <a:off x="1042920" y="171936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кладываем две салфетки друг на д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 салфеток может быть одинаковый, а можно сделать елочку и из салфетки двух ц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DSC06121"/>
          <p:cNvPicPr/>
          <p:nvPr/>
        </p:nvPicPr>
        <p:blipFill>
          <a:blip r:embed="rId1"/>
          <a:stretch/>
        </p:blipFill>
        <p:spPr>
          <a:xfrm>
            <a:off x="5219640" y="404640"/>
            <a:ext cx="3508560" cy="61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кладываем сверху шаблон ёл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калываем булав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шиваем на машине. Строчку прокладываем близко к шабло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DSC06108"/>
          <p:cNvPicPr/>
          <p:nvPr/>
        </p:nvPicPr>
        <p:blipFill>
          <a:blip r:embed="rId1"/>
          <a:stretch/>
        </p:blipFill>
        <p:spPr>
          <a:xfrm>
            <a:off x="5651640" y="260280"/>
            <a:ext cx="3168360" cy="2430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DSC06110"/>
          <p:cNvPicPr/>
          <p:nvPr/>
        </p:nvPicPr>
        <p:blipFill>
          <a:blip r:embed="rId2"/>
          <a:stretch/>
        </p:blipFill>
        <p:spPr>
          <a:xfrm>
            <a:off x="5796000" y="2781360"/>
            <a:ext cx="27781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39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ем ёлочку по контуру, оставив припуск 2 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DSC06113"/>
          <p:cNvPicPr/>
          <p:nvPr/>
        </p:nvPicPr>
        <p:blipFill>
          <a:blip r:embed="rId1"/>
          <a:stretch/>
        </p:blipFill>
        <p:spPr>
          <a:xfrm>
            <a:off x="4284720" y="907920"/>
            <a:ext cx="461484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1:12:56Z</dcterms:created>
  <dc:creator>админ</dc:creator>
  <dc:description/>
  <dc:language>en-US</dc:language>
  <cp:lastModifiedBy>u</cp:lastModifiedBy>
  <dcterms:modified xsi:type="dcterms:W3CDTF">2012-12-08T11:18:26Z</dcterms:modified>
  <cp:revision>13</cp:revision>
  <dc:subject/>
  <dc:title>Старые джинсы превращаются   </dc:title>
</cp:coreProperties>
</file>