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type.wav" ContentType="audio/x-wav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824-07A9-4783-9C82-4422F2B5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039-8A8A-4D1F-B599-754EC1C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485-4314-416B-B3B5-633BCDCC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EC8-1780-4510-AE3C-4C449B53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199A-CF99-4257-B070-51AF3B8D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5412-49D7-40EC-8FE0-5727235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8D9-8FE2-49AC-9F9A-BA753CD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6B2E-BF83-4DC0-86BA-9CA0979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57C1-85C4-4398-A0F5-89BD438A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1840-074F-4A0C-9EDF-FF810D5B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6801-71AF-4DE9-AB16-384D3A5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4F5-2089-4B4A-B47C-53BC307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1FFC-D040-4D84-A229-A9778B5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5F69-D53E-4748-A4DA-9EE5560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C582-EEE1-4C66-B7DA-1CF9673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777-9A41-4E9A-8EA2-605B7F6F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849-7A91-4945-BFE7-D4782319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D276-C962-477B-989E-C79BE0A3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0136-2500-4E4B-BA15-0903355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BCF6-7946-4A41-ADF4-63A14D9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BF04-DD5E-4535-A155-A9205FB9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DD88-539C-4D2A-BCFC-A074777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046-9F06-46A5-9108-F18C0D0C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E7C6-2ADB-4B6D-A89D-857F20D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EEB9-3815-4FB6-A6B6-B6878A9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6C02-DA2C-4321-9124-239F946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EA78-CD3B-4B0A-8274-1B55348D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FD30-049E-4B26-BD68-C70EE14F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B927-74C2-4442-AF04-10FE3010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BF43-6DD4-4938-9F9F-6398B71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4D07-C32F-4586-90CD-CEA074A1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C811-BC7B-42E5-9BCD-60679ADB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8985-16DB-4A65-9D7F-E92C520B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B86-9D32-4A7F-9053-BFF706B6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36FB-FB0D-4401-9CBB-28C77502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67F1-D8E3-4CC5-85D5-10F6393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D4B8-64D5-4F4A-84D3-C8D74B0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F5BF-10D6-4F43-AAC6-56136ED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F05B-3722-4ED3-A067-3BA2110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5D44-09F9-40D9-8AA0-D7EC75A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B43D-8946-465C-BB50-1015FD3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F0C7-CAF1-4DBE-BDD1-FF7C930A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5AE4-6414-448C-88DA-B6A2CFB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8C7-4A5E-470B-9F5F-E0A0FF39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4FA-6DB7-491B-8F66-3A7A5F7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A9A-5B34-465F-AD7D-BE85B9C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588-3CC4-4F02-BA1F-5AB65F8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477-C6A4-4C22-8C03-155A22C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44A-ADDF-4E05-89C6-FFBD455BE3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1700-D37A-4C70-B305-A234EC701E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E11-B0E5-434D-A972-F52183C800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90B-244D-4DF1-918C-6C3D368727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050920" y="836640"/>
            <a:ext cx="709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Этап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проектной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539604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евская Галин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ГБОУ гимназии 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MP900448698[1]"/>
          <p:cNvPicPr/>
          <p:nvPr/>
        </p:nvPicPr>
        <p:blipFill>
          <a:blip r:embed="rId2"/>
          <a:stretch/>
        </p:blipFill>
        <p:spPr>
          <a:xfrm>
            <a:off x="-900000" y="0"/>
            <a:ext cx="3100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76320" y="639720"/>
            <a:ext cx="8762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просы для проведения рефлексии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" y="2133720"/>
            <a:ext cx="8381880" cy="4173120"/>
          </a:xfrm>
          <a:prstGeom prst="rect">
            <a:avLst/>
          </a:prstGeom>
          <a:noFill/>
          <a:ln w="76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явились ли у вас новые знания, умения в процессе     работы над проект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 в работе над проектом было наиболее интересн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овы были основные трудности и как вы их преодолева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можете сделать себе замечания и предложения на будуще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P900401478[1]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971640" y="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Дорога та,что сам искал, вовек не позабудется»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.Рылен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5732640"/>
            <a:ext cx="93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Желаем успехов в творчестве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468360" y="1052640"/>
            <a:ext cx="8153280" cy="15958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Всякое знание остается мертвым, если в учащихся не развивается инициатива  и самодеятельность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.А.У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ext Box 6" descr=""/>
          <p:cNvPicPr/>
          <p:nvPr/>
        </p:nvPicPr>
        <p:blipFill>
          <a:blip r:embed="rId2"/>
          <a:stretch/>
        </p:blipFill>
        <p:spPr>
          <a:xfrm>
            <a:off x="884160" y="3067200"/>
            <a:ext cx="7485120" cy="9014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/>
          <p:cNvSpPr/>
          <p:nvPr/>
        </p:nvSpPr>
        <p:spPr>
          <a:xfrm>
            <a:off x="3352680" y="4343400"/>
            <a:ext cx="243864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подготовитель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57120" y="2849400"/>
            <a:ext cx="861084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ужение в проект – выбор проблемы(тем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00120" y="4068720"/>
            <a:ext cx="632484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 проблемы – нет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3352680" y="5105520"/>
            <a:ext cx="2438640" cy="1218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организацион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0880" y="2878200"/>
            <a:ext cx="8382240" cy="581400"/>
          </a:xfrm>
          <a:prstGeom prst="rect">
            <a:avLst/>
          </a:prstGeom>
          <a:noFill/>
          <a:ln w="7632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ействий – разработка 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219320" y="4145040"/>
            <a:ext cx="693396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здание банка идей и пред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352680" y="5105520"/>
            <a:ext cx="2438640" cy="1218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поисков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219320" y="2743200"/>
            <a:ext cx="685008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иск информации – осуществление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90440" y="4114800"/>
            <a:ext cx="708660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ботка и осмысление информации. Выбор базового вариа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3352680" y="5410080"/>
            <a:ext cx="2438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838080" y="152280"/>
            <a:ext cx="79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систематизац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835280" y="2997360"/>
            <a:ext cx="533376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дукт – результат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187280" y="4005360"/>
            <a:ext cx="6934320" cy="11912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щиеся уточняют и анализируют собранную информацию, формулируют выводы. Учитель выступает в роли научного консульта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419640" y="5445000"/>
            <a:ext cx="243828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заключитель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" y="2743200"/>
            <a:ext cx="777240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зентация результатов – представление готового проду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219320" y="4114800"/>
            <a:ext cx="693396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щита проекта учащимися. Оценка каждого проекта всеми учащими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352680" y="5410080"/>
            <a:ext cx="2438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219320" y="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ов работы учеников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5800" y="1440000"/>
            <a:ext cx="7924680" cy="47188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использовать различные источники информации, методы исслед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работать в сотруднич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уальность и значимость 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нота раскрытия 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ставить цел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ставлять и реализовывать пл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одить рефлекс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поставлять цель и действ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219320" y="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терии оценки презентаци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1773360"/>
            <a:ext cx="7924680" cy="36064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ртистизм и выразительность выступ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крытие содержания проекта на през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средств наглядности, технических      средст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игинальность предложенных ре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чество выполнения проду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ы на вопро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6:25:42Z</dcterms:created>
  <dc:creator>Danil</dc:creator>
  <dc:description/>
  <dc:language>en-US</dc:language>
  <cp:lastModifiedBy>Danil</cp:lastModifiedBy>
  <dcterms:modified xsi:type="dcterms:W3CDTF">2012-10-17T15:05:54Z</dcterms:modified>
  <cp:revision>24</cp:revision>
  <dc:subject/>
  <dc:title>Презентация PowerPoint</dc:title>
</cp:coreProperties>
</file>