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type.wav" ContentType="audio/x-wav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90B-1A53-4797-83D0-DA026BA3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E73-2395-44BA-9753-40806C81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C9C-7E03-4429-9FB5-6D79D3BF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BB71-0D69-4BEF-94BA-C400ADCC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B345-699A-4A6B-B5D8-5E567BAE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F466-5613-435C-A720-C0E20747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A48E-3474-4692-A17D-4E747198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D0CA-D665-4B5E-AE1D-29A0FFA2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DBD0-8FA2-4D65-9601-A41CAEA0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7DA2-9D86-471B-8670-19ECBDA3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C238-F6E9-43FD-A251-25CAC25B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F0F-7588-4444-8616-2A9151FF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7E06-96F0-4EE9-9AA0-ED8423CF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BA2F-929B-43EF-9258-2968DA83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5474-57A9-437E-ADD8-1D3EDD6C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EEEC-7115-4325-8E86-49A2D852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203A-E4A9-46FC-A5DA-01D2C3AF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82247-117B-44BE-A254-94E24AB0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DCDA5-0D27-4BD6-9994-459EFB16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1353B-71DB-4DA8-AC62-4A15AC29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FCE17-9405-4E79-B873-600EE9F4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A10B1-A6C2-47FA-936D-C8D12E8F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5405-EF74-4703-BEED-B9A431BA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4962B-30C4-4B4D-804A-4149FC31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C0761-7B25-4E0D-9B8D-A0AB7989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6E952-9815-4C64-B9AA-C02BB5A2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09BC4-4ABE-4C1E-BF23-F35AC07E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9185C-3567-4124-A549-D0797A95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84CD7-2092-4DB9-BF8D-78EAE66F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751D8-4827-4502-BC60-1F960EFF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A3BB6-747A-45C8-BCEB-C3517635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24289-0208-4DE9-B9BC-28940AE2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0AD3A-CA90-4A3A-8441-93EA65BA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6EF7-C9E9-42D0-9B90-7545BD15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72EEF-F548-4BD3-B4BE-B32C84C9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ACEAC-21FA-404C-9EFA-34E6CAE8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C7BA8-7146-4D09-AC07-E9F3B98C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BFA67-AD85-4276-935D-AC6A5254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192ED-755A-47E5-A3C6-7F8D4392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73239-7242-4C31-8577-8F8111EA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2EC8F-387A-43C7-9767-E45D2C3F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B0252-52B0-450F-B19E-070888D2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05A01-2672-417B-890B-0D22CED4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AD97-1D22-41B6-85B6-F778642F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CC9D-BA57-4567-9588-EDB34439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0255-2794-4B9F-898F-E3B8C967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964F-4EF8-4BF2-A0A2-B3987B21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A9E-5D97-4BF6-A2B7-863D1635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1FF6-D39A-4EF6-BD86-9CEBEF38BA0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5416-53AB-45BF-B312-BB498587FA0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5E22-3A76-4AC4-A8C6-9A257C38846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2E9F-9294-48D3-A14E-BB77863FCD7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2050920" y="836640"/>
            <a:ext cx="7093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Этап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проектной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деятельност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990720" y="539604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гаевская Галина Никола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 ГБОУ гимназии 4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MP900448698[1]"/>
          <p:cNvPicPr/>
          <p:nvPr/>
        </p:nvPicPr>
        <p:blipFill>
          <a:blip r:embed="rId2"/>
          <a:stretch/>
        </p:blipFill>
        <p:spPr>
          <a:xfrm>
            <a:off x="-900000" y="0"/>
            <a:ext cx="31003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76320" y="639720"/>
            <a:ext cx="8762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Вопросы для проведения рефлексии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57200" y="2133720"/>
            <a:ext cx="8381880" cy="4173120"/>
          </a:xfrm>
          <a:prstGeom prst="rect">
            <a:avLst/>
          </a:prstGeom>
          <a:noFill/>
          <a:ln w="7632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явились ли у вас новые знания, умения в процессе     работы над проекто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Что в работе над проектом было наиболее интересны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аковы были основные трудности и как вы их преодолевал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акие можете сделать себе замечания и предложения на будуще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MP900401478[1]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4"/>
          <p:cNvSpPr/>
          <p:nvPr/>
        </p:nvSpPr>
        <p:spPr>
          <a:xfrm>
            <a:off x="971640" y="0"/>
            <a:ext cx="69339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«Дорога та,что сам искал, вовек не позабудется»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.Рыленк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0" y="5732640"/>
            <a:ext cx="9396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</a:rPr>
              <a:t>Желаем успехов в творчестве!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468360" y="1052640"/>
            <a:ext cx="8153280" cy="1595880"/>
          </a:xfrm>
          <a:prstGeom prst="rect">
            <a:avLst/>
          </a:prstGeom>
          <a:noFill/>
          <a:ln w="7632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Всякое знание остается мертвым, если в учащихся не развивается инициатива  и самодеятельность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.А.Ум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Text Box 6" descr=""/>
          <p:cNvPicPr/>
          <p:nvPr/>
        </p:nvPicPr>
        <p:blipFill>
          <a:blip r:embed="rId2"/>
          <a:stretch/>
        </p:blipFill>
        <p:spPr>
          <a:xfrm>
            <a:off x="884160" y="3067200"/>
            <a:ext cx="7485120" cy="90144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10"/>
          <p:cNvSpPr/>
          <p:nvPr/>
        </p:nvSpPr>
        <p:spPr>
          <a:xfrm>
            <a:off x="3352680" y="4343400"/>
            <a:ext cx="2438640" cy="2133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3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76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838080" y="152280"/>
            <a:ext cx="7010640" cy="24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этап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(подготовительный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57120" y="2849400"/>
            <a:ext cx="8610840" cy="581400"/>
          </a:xfrm>
          <a:prstGeom prst="rect">
            <a:avLst/>
          </a:prstGeom>
          <a:noFill/>
          <a:ln w="7632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гружение в проект – выбор проблемы(темы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00120" y="4068720"/>
            <a:ext cx="6324840" cy="581400"/>
          </a:xfrm>
          <a:prstGeom prst="rect">
            <a:avLst/>
          </a:prstGeom>
          <a:noFill/>
          <a:ln w="7632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т проблемы – нет 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3352680" y="5105520"/>
            <a:ext cx="2438640" cy="1218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838080" y="152280"/>
            <a:ext cx="7010640" cy="24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этап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(организационный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80880" y="2878200"/>
            <a:ext cx="8382240" cy="581400"/>
          </a:xfrm>
          <a:prstGeom prst="rect">
            <a:avLst/>
          </a:prstGeom>
          <a:noFill/>
          <a:ln w="7632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ланирование действий – разработка  проек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219320" y="4145040"/>
            <a:ext cx="6933960" cy="581400"/>
          </a:xfrm>
          <a:prstGeom prst="rect">
            <a:avLst/>
          </a:prstGeom>
          <a:noFill/>
          <a:ln w="7632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здание банка идей и предлож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3352680" y="5105520"/>
            <a:ext cx="2438640" cy="1218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5"/>
          <p:cNvSpPr/>
          <p:nvPr/>
        </p:nvSpPr>
        <p:spPr>
          <a:xfrm>
            <a:off x="838080" y="152280"/>
            <a:ext cx="7010640" cy="24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этап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(поисковый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219320" y="2743200"/>
            <a:ext cx="6850080" cy="1068840"/>
          </a:xfrm>
          <a:prstGeom prst="rect">
            <a:avLst/>
          </a:prstGeom>
          <a:noFill/>
          <a:ln w="7632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иск информации – осуществление 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090440" y="4114800"/>
            <a:ext cx="7086600" cy="1068840"/>
          </a:xfrm>
          <a:prstGeom prst="rect">
            <a:avLst/>
          </a:prstGeom>
          <a:noFill/>
          <a:ln w="7632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работка и осмысление информации. Выбор базового вариан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3352680" y="5410080"/>
            <a:ext cx="2438640" cy="1219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838080" y="152280"/>
            <a:ext cx="7910640" cy="24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этап.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(систематизация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835280" y="2997360"/>
            <a:ext cx="5333760" cy="581400"/>
          </a:xfrm>
          <a:prstGeom prst="rect">
            <a:avLst/>
          </a:prstGeom>
          <a:noFill/>
          <a:ln w="7632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дукт – результат рабо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187280" y="4005360"/>
            <a:ext cx="6934320" cy="1191240"/>
          </a:xfrm>
          <a:prstGeom prst="rect">
            <a:avLst/>
          </a:prstGeom>
          <a:noFill/>
          <a:ln w="7632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ащиеся уточняют и анализируют собранную информацию, формулируют выводы. Учитель выступает в роли научного консультан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3419640" y="5445000"/>
            <a:ext cx="2438280" cy="1219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838080" y="152280"/>
            <a:ext cx="7010640" cy="24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этап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(заключительный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85800" y="2743200"/>
            <a:ext cx="7772400" cy="1068840"/>
          </a:xfrm>
          <a:prstGeom prst="rect">
            <a:avLst/>
          </a:prstGeom>
          <a:noFill/>
          <a:ln w="7632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езентация результатов – представление готового продук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219320" y="4114800"/>
            <a:ext cx="6933960" cy="1068840"/>
          </a:xfrm>
          <a:prstGeom prst="rect">
            <a:avLst/>
          </a:prstGeom>
          <a:noFill/>
          <a:ln w="7632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щита проекта учащимися. Оценка каждого проекта всеми учащими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3352680" y="5410080"/>
            <a:ext cx="2438640" cy="1219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1219320" y="0"/>
            <a:ext cx="693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ритерии оценки результатов работы учеников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685800" y="1440000"/>
            <a:ext cx="7924680" cy="4718880"/>
          </a:xfrm>
          <a:prstGeom prst="rect">
            <a:avLst/>
          </a:prstGeom>
          <a:noFill/>
          <a:ln w="7632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мение использовать различные источники информации, методы исследов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мение работать в сотрудничеств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ктуальность и значимость те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лнота раскрытия те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мение ставить цел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оставлять и реализовывать план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водить рефлексию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опоставлять цель и действ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219320" y="0"/>
            <a:ext cx="693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ритерии оценки презентаци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685800" y="1773360"/>
            <a:ext cx="7924680" cy="3606480"/>
          </a:xfrm>
          <a:prstGeom prst="rect">
            <a:avLst/>
          </a:prstGeom>
          <a:noFill/>
          <a:ln w="7632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ртистизм и выразительность выступл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скрытие содержания проекта на презент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спользование средств наглядности, технических      средст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ригинальность предложенных реше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ачество выполнения продук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веты на вопрос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6T16:25:42Z</dcterms:created>
  <dc:creator>Danil</dc:creator>
  <dc:description/>
  <dc:language>en-US</dc:language>
  <cp:lastModifiedBy>Danil</cp:lastModifiedBy>
  <dcterms:modified xsi:type="dcterms:W3CDTF">2012-10-17T15:05:54Z</dcterms:modified>
  <cp:revision>24</cp:revision>
  <dc:subject/>
  <dc:title>Презентация PowerPoint</dc:title>
</cp:coreProperties>
</file>