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7E9-C053-436B-BC43-265BB829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437-02E5-4050-9326-BDB7EA7F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B60-9809-46FC-8B55-CD4B0899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E53-BE3B-467D-9A80-2A6F9D8C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561-4EAC-4AEB-92BD-E299C50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F76-4281-459C-974A-15DEBCEC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BA4-107B-481E-A433-318F36E7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30A-FD9A-48E1-905C-86FE535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743-043B-4153-9F3B-DB142CB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E2D-7DA8-499B-8854-4532E94A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B58-8B5D-45B8-857E-E0EB98F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9AC-36BD-4AE9-B4B3-FE82824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0F97-9E15-4890-864B-2AA0BDD29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-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и: Кривошеина Люда, Попова Диана, Кучутова Са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          О      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755640" y="4005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2268360" y="2349360"/>
            <a:ext cx="129564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5076720" y="4005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5076720" y="1844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5076720" y="378936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5076720" y="270792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4"/>
          <p:cNvSpPr/>
          <p:nvPr/>
        </p:nvSpPr>
        <p:spPr>
          <a:xfrm>
            <a:off x="5364000" y="3860640"/>
            <a:ext cx="71640" cy="144720"/>
          </a:xfrm>
          <a:custGeom>
            <a:avLst/>
            <a:gdLst>
              <a:gd name="textAreaLeft" fmla="*/ 0 w 71640"/>
              <a:gd name="textAreaRight" fmla="*/ 72000 w 71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5"/>
          <p:cNvSpPr/>
          <p:nvPr/>
        </p:nvSpPr>
        <p:spPr>
          <a:xfrm>
            <a:off x="2411280" y="3789360"/>
            <a:ext cx="144720" cy="287280"/>
          </a:xfrm>
          <a:custGeom>
            <a:avLst/>
            <a:gdLst>
              <a:gd name="textAreaLeft" fmla="*/ 0 w 144720"/>
              <a:gd name="textAreaRight" fmla="*/ 144720 w 14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19321" h="21600">
                <a:moveTo>
                  <a:pt x="-1" y="0"/>
                </a:moveTo>
                <a:cubicBezTo>
                  <a:pt x="8182" y="0"/>
                  <a:pt x="15662" y="4623"/>
                  <a:pt x="19320" y="11942"/>
                </a:cubicBezTo>
              </a:path>
              <a:path stroke="0" w="19321" h="21600">
                <a:moveTo>
                  <a:pt x="-1" y="0"/>
                </a:moveTo>
                <a:cubicBezTo>
                  <a:pt x="8182" y="0"/>
                  <a:pt x="15662" y="4623"/>
                  <a:pt x="19320" y="11942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4680000" y="1773360"/>
            <a:ext cx="32364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17"/>
          <p:cNvSpPr txBox="1"/>
          <p:nvPr/>
        </p:nvSpPr>
        <p:spPr>
          <a:xfrm>
            <a:off x="4670280" y="3956040"/>
            <a:ext cx="33336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18"/>
          <p:cNvSpPr txBox="1"/>
          <p:nvPr/>
        </p:nvSpPr>
        <p:spPr>
          <a:xfrm>
            <a:off x="7659720" y="3573360"/>
            <a:ext cx="29700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19"/>
          <p:cNvSpPr txBox="1"/>
          <p:nvPr/>
        </p:nvSpPr>
        <p:spPr>
          <a:xfrm>
            <a:off x="7372440" y="2492280"/>
            <a:ext cx="22392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20"/>
          <p:cNvSpPr txBox="1"/>
          <p:nvPr/>
        </p:nvSpPr>
        <p:spPr>
          <a:xfrm>
            <a:off x="5627520" y="3668760"/>
            <a:ext cx="457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22"/>
          <p:cNvSpPr txBox="1"/>
          <p:nvPr/>
        </p:nvSpPr>
        <p:spPr>
          <a:xfrm>
            <a:off x="2627280" y="3668760"/>
            <a:ext cx="457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ти угол А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500040" y="5072040"/>
            <a:ext cx="3500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-65=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TextBox 21"/>
          <p:cNvGrpSpPr/>
          <p:nvPr/>
        </p:nvGrpSpPr>
        <p:grpSpPr>
          <a:xfrm>
            <a:off x="4705200" y="5284800"/>
            <a:ext cx="3706920" cy="609480"/>
            <a:chOff x="4705200" y="5284800"/>
            <a:chExt cx="3706920" cy="609480"/>
          </a:xfrm>
        </p:grpSpPr>
        <p:pic>
          <p:nvPicPr>
            <p:cNvPr id="100" name="TextBox 21" descr=""/>
            <p:cNvPicPr/>
            <p:nvPr/>
          </p:nvPicPr>
          <p:blipFill>
            <a:blip r:embed="rId1"/>
            <a:stretch/>
          </p:blipFill>
          <p:spPr>
            <a:xfrm>
              <a:off x="4705200" y="5284800"/>
              <a:ext cx="3706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857840" y="5357880"/>
              <a:ext cx="35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00"/>
                  </a:solidFill>
                  <a:latin typeface="Arial"/>
                </a:rPr>
                <a:t>90-20=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4"/>
          <p:cNvSpPr/>
          <p:nvPr/>
        </p:nvSpPr>
        <p:spPr>
          <a:xfrm>
            <a:off x="468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H="1" flipV="1">
            <a:off x="900000" y="3141720"/>
            <a:ext cx="122400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2124000" y="3284280"/>
            <a:ext cx="158436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8"/>
          <p:cNvSpPr/>
          <p:nvPr/>
        </p:nvSpPr>
        <p:spPr>
          <a:xfrm>
            <a:off x="2340000" y="4508640"/>
            <a:ext cx="71280" cy="215640"/>
          </a:xfrm>
          <a:custGeom>
            <a:avLst/>
            <a:gdLst>
              <a:gd name="textAreaLeft" fmla="*/ 0 w 71280"/>
              <a:gd name="textAreaRight" fmla="*/ 71640 w 71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9"/>
          <p:cNvSpPr/>
          <p:nvPr/>
        </p:nvSpPr>
        <p:spPr>
          <a:xfrm flipH="1">
            <a:off x="1835280" y="4437000"/>
            <a:ext cx="72720" cy="287280"/>
          </a:xfrm>
          <a:custGeom>
            <a:avLst/>
            <a:gdLst>
              <a:gd name="textAreaLeft" fmla="*/ 360 w 72720"/>
              <a:gd name="textAreaRight" fmla="*/ 73440 w 72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0"/>
          <p:cNvSpPr/>
          <p:nvPr/>
        </p:nvSpPr>
        <p:spPr>
          <a:xfrm flipH="1">
            <a:off x="1761480" y="4365720"/>
            <a:ext cx="73080" cy="360360"/>
          </a:xfrm>
          <a:custGeom>
            <a:avLst/>
            <a:gdLst>
              <a:gd name="textAreaLeft" fmla="*/ -360 w 73080"/>
              <a:gd name="textAreaRight" fmla="*/ 73080 w 73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788000" y="4724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 flipH="1" flipV="1">
            <a:off x="5508720" y="3141720"/>
            <a:ext cx="122400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6732720" y="3357720"/>
            <a:ext cx="187164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6588000" y="450864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5"/>
          <p:cNvSpPr/>
          <p:nvPr/>
        </p:nvSpPr>
        <p:spPr>
          <a:xfrm>
            <a:off x="6516720" y="4437000"/>
            <a:ext cx="503280" cy="287280"/>
          </a:xfrm>
          <a:custGeom>
            <a:avLst/>
            <a:gdLst>
              <a:gd name="textAreaLeft" fmla="*/ 0 w 503280"/>
              <a:gd name="textAreaRight" fmla="*/ 503640 w 503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18"/>
          <p:cNvSpPr/>
          <p:nvPr/>
        </p:nvSpPr>
        <p:spPr>
          <a:xfrm flipH="1">
            <a:off x="6279480" y="4368960"/>
            <a:ext cx="955800" cy="358560"/>
          </a:xfrm>
          <a:custGeom>
            <a:avLst/>
            <a:gdLst>
              <a:gd name="textAreaLeft" fmla="*/ -360 w 955800"/>
              <a:gd name="textAreaRight" fmla="*/ 955800 w 95580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fill="none" w="22051" h="21600">
                <a:moveTo>
                  <a:pt x="-1" y="4"/>
                </a:moveTo>
                <a:cubicBezTo>
                  <a:pt x="150" y="1"/>
                  <a:pt x="300" y="-1"/>
                  <a:pt x="451" y="0"/>
                </a:cubicBezTo>
                <a:cubicBezTo>
                  <a:pt x="12380" y="0"/>
                  <a:pt x="22051" y="9670"/>
                  <a:pt x="22051" y="21600"/>
                </a:cubicBezTo>
              </a:path>
              <a:path stroke="0" w="22051" h="21600">
                <a:moveTo>
                  <a:pt x="-1" y="4"/>
                </a:moveTo>
                <a:cubicBezTo>
                  <a:pt x="150" y="1"/>
                  <a:pt x="300" y="-1"/>
                  <a:pt x="451" y="0"/>
                </a:cubicBezTo>
                <a:cubicBezTo>
                  <a:pt x="12380" y="0"/>
                  <a:pt x="22051" y="9670"/>
                  <a:pt x="22051" y="21600"/>
                </a:cubicBezTo>
                <a:lnTo>
                  <a:pt x="45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9"/>
          <p:cNvSpPr txBox="1"/>
          <p:nvPr/>
        </p:nvSpPr>
        <p:spPr>
          <a:xfrm>
            <a:off x="539640" y="4748040"/>
            <a:ext cx="22392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20"/>
          <p:cNvSpPr txBox="1"/>
          <p:nvPr/>
        </p:nvSpPr>
        <p:spPr>
          <a:xfrm>
            <a:off x="4707000" y="4748040"/>
            <a:ext cx="2966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1042920" y="2997360"/>
            <a:ext cx="324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22"/>
          <p:cNvSpPr txBox="1"/>
          <p:nvPr/>
        </p:nvSpPr>
        <p:spPr>
          <a:xfrm>
            <a:off x="5580000" y="2803680"/>
            <a:ext cx="324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23"/>
          <p:cNvSpPr txBox="1"/>
          <p:nvPr/>
        </p:nvSpPr>
        <p:spPr>
          <a:xfrm>
            <a:off x="3419640" y="306864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8163000" y="314172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25"/>
          <p:cNvSpPr txBox="1"/>
          <p:nvPr/>
        </p:nvSpPr>
        <p:spPr>
          <a:xfrm>
            <a:off x="1935000" y="4748040"/>
            <a:ext cx="3333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26"/>
          <p:cNvSpPr txBox="1"/>
          <p:nvPr/>
        </p:nvSpPr>
        <p:spPr>
          <a:xfrm>
            <a:off x="6543720" y="4748040"/>
            <a:ext cx="3333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27"/>
          <p:cNvSpPr txBox="1"/>
          <p:nvPr/>
        </p:nvSpPr>
        <p:spPr>
          <a:xfrm>
            <a:off x="3780000" y="4797360"/>
            <a:ext cx="3142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28"/>
          <p:cNvSpPr txBox="1"/>
          <p:nvPr/>
        </p:nvSpPr>
        <p:spPr>
          <a:xfrm>
            <a:off x="8218440" y="4748040"/>
            <a:ext cx="31428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29"/>
          <p:cNvSpPr txBox="1"/>
          <p:nvPr/>
        </p:nvSpPr>
        <p:spPr>
          <a:xfrm>
            <a:off x="1306440" y="4387680"/>
            <a:ext cx="4572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30"/>
          <p:cNvSpPr txBox="1"/>
          <p:nvPr/>
        </p:nvSpPr>
        <p:spPr>
          <a:xfrm>
            <a:off x="2556000" y="4387680"/>
            <a:ext cx="4572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31"/>
          <p:cNvSpPr txBox="1"/>
          <p:nvPr/>
        </p:nvSpPr>
        <p:spPr>
          <a:xfrm>
            <a:off x="5813280" y="4365720"/>
            <a:ext cx="4874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32"/>
          <p:cNvSpPr txBox="1"/>
          <p:nvPr/>
        </p:nvSpPr>
        <p:spPr>
          <a:xfrm>
            <a:off x="7180200" y="4387680"/>
            <a:ext cx="4874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TextBox 29"/>
          <p:cNvSpPr/>
          <p:nvPr/>
        </p:nvSpPr>
        <p:spPr>
          <a:xfrm>
            <a:off x="500040" y="5643720"/>
            <a:ext cx="3500640" cy="459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80-60-50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5143680" y="5796000"/>
            <a:ext cx="3500280" cy="82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180-120=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140-60=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ти угол А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ти неизвестные углы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003640" y="2349360"/>
            <a:ext cx="2232360" cy="2808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68360" y="5157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H="1" flipV="1">
            <a:off x="2700360" y="3933720"/>
            <a:ext cx="1224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394920" y="3933720"/>
            <a:ext cx="2305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24000" y="5180040"/>
            <a:ext cx="323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2340000" y="3668760"/>
            <a:ext cx="297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3699000" y="518004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WordArt 12"/>
          <p:cNvSpPr txBox="1"/>
          <p:nvPr/>
        </p:nvSpPr>
        <p:spPr>
          <a:xfrm>
            <a:off x="971640" y="4869000"/>
            <a:ext cx="360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3203640" y="4797360"/>
            <a:ext cx="3729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4824360" y="1989000"/>
            <a:ext cx="3240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7155000" y="4892760"/>
            <a:ext cx="2966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16"/>
          <p:cNvSpPr txBox="1"/>
          <p:nvPr/>
        </p:nvSpPr>
        <p:spPr>
          <a:xfrm>
            <a:off x="4635360" y="5035680"/>
            <a:ext cx="297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8"/>
          <p:cNvSpPr txBox="1"/>
          <p:nvPr/>
        </p:nvSpPr>
        <p:spPr>
          <a:xfrm>
            <a:off x="6648480" y="4819680"/>
            <a:ext cx="29988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00040" y="5643720"/>
            <a:ext cx="3500640" cy="4597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00f2"/>
                </a:solidFill>
                <a:latin typeface="Arial"/>
              </a:rPr>
              <a:t>180-(20+40)=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072040" y="5796000"/>
            <a:ext cx="3500640" cy="4597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90-42=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«бухгалтер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560" y="141300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ны повышены на 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95280" y="2765520"/>
          <a:ext cx="8280360" cy="31114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р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р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ру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22"/>
          <p:cNvSpPr/>
          <p:nvPr/>
        </p:nvSpPr>
        <p:spPr>
          <a:xfrm>
            <a:off x="2714760" y="46432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224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4"/>
          <p:cNvSpPr/>
          <p:nvPr/>
        </p:nvSpPr>
        <p:spPr>
          <a:xfrm>
            <a:off x="4714920" y="46432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712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5"/>
          <p:cNvSpPr/>
          <p:nvPr/>
        </p:nvSpPr>
        <p:spPr>
          <a:xfrm>
            <a:off x="6786720" y="46432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55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«капитан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 карманах денег поровну. Из одного в другой карман положили 1 рубль. На сколько больше там ста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j0222015"/>
          <p:cNvPicPr/>
          <p:nvPr/>
        </p:nvPicPr>
        <p:blipFill>
          <a:blip r:embed="rId1"/>
          <a:stretch/>
        </p:blipFill>
        <p:spPr>
          <a:xfrm>
            <a:off x="2556000" y="4005360"/>
            <a:ext cx="3651120" cy="2565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428920" y="3000240"/>
            <a:ext cx="335736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На 2 ру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.   Посчитай, какое стадо обслужить ребятам надо. Индюшат, их 240, водит Катя на приго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шет прутиком Илья, напев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8 уток, один я, куда утки, туда и 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-то громко чересчур раскричались курицы, Сотен пять их было, и они развою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на речке уток 200, как закрякали все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299125"/>
          <p:cNvPicPr/>
          <p:nvPr/>
        </p:nvPicPr>
        <p:blipFill>
          <a:blip r:embed="rId1"/>
          <a:stretch/>
        </p:blipFill>
        <p:spPr>
          <a:xfrm>
            <a:off x="2916360" y="4221000"/>
            <a:ext cx="1963440" cy="2492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072040" y="3786120"/>
            <a:ext cx="2643120" cy="4597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948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040" y="9288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3. Сумма двух чисел больше одного из них на 17 и больше другого на 13. Чему равны эти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500200" y="3357720"/>
            <a:ext cx="278604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7   И  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4. Назовите число, если половина – треть 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5. В саду 33 ветки, на каждом по 33 яблока. Сколько яблок вс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17698"/>
          <p:cNvPicPr/>
          <p:nvPr/>
        </p:nvPicPr>
        <p:blipFill>
          <a:blip r:embed="rId1"/>
          <a:stretch/>
        </p:blipFill>
        <p:spPr>
          <a:xfrm>
            <a:off x="3348000" y="3573360"/>
            <a:ext cx="3187800" cy="3089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786720" y="3181320"/>
            <a:ext cx="2071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*33=1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6. Из спичек составлено равенство, которое, как вы видите, неверное. Как переложить одну спичку, чтобы получилось верное равен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16000" y="5157720"/>
            <a:ext cx="50328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763640" y="5157360"/>
            <a:ext cx="504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2556000" y="515772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987640" y="566100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4643280" y="508464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859280" y="5084640"/>
            <a:ext cx="504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5508720" y="5084640"/>
            <a:ext cx="5032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6156360" y="5516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6156360" y="587700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 flipV="1">
            <a:off x="7596360" y="5084640"/>
            <a:ext cx="72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524720" y="5157720"/>
            <a:ext cx="79236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 flipV="1">
            <a:off x="8675640" y="5084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рошо ли ты усвоил действия с натуральными числ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7472520" cy="1903320"/>
        </p:xfrm>
        <a:graphic>
          <a:graphicData uri="http://schemas.openxmlformats.org/drawingml/2006/table">
            <a:tbl>
              <a:tblPr/>
              <a:tblGrid>
                <a:gridCol w="747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/>
                    </a:solidFill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)  60000 - 408*120+1012*(24*10-235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2)  (8016*276+429*1014 - 264810):42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8360" y="4076640"/>
          <a:ext cx="7559640" cy="1800360"/>
        </p:xfrm>
        <a:graphic>
          <a:graphicData uri="http://schemas.openxmlformats.org/drawingml/2006/table">
            <a:tbl>
              <a:tblPr/>
              <a:tblGrid>
                <a:gridCol w="75596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5*712 - 304*501+834*(245*10-2300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708*398 - 892*211):93572+20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Box 20"/>
          <p:cNvSpPr/>
          <p:nvPr/>
        </p:nvSpPr>
        <p:spPr>
          <a:xfrm>
            <a:off x="6929280" y="2143080"/>
            <a:ext cx="18576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7429680" y="4753080"/>
            <a:ext cx="18572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45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6858000" y="2681280"/>
            <a:ext cx="18572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6429240" y="5286240"/>
            <a:ext cx="18576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7:42:24Z</dcterms:created>
  <dc:creator>Эльвира Николаевна</dc:creator>
  <dc:description/>
  <dc:language>en-US</dc:language>
  <cp:lastModifiedBy>user</cp:lastModifiedBy>
  <dcterms:modified xsi:type="dcterms:W3CDTF">2012-12-21T02:59:51Z</dcterms:modified>
  <cp:revision>13</cp:revision>
  <dc:subject/>
  <dc:title>Слайд 1</dc:title>
</cp:coreProperties>
</file>