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6E3-23ED-40A4-9D31-9DF93170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C30-184D-47FE-928F-65DD9738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53C1-8A9A-436F-AD16-101C6AB5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CDF-A256-4936-A632-3C4971F8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B13C-9B06-48EE-8B1C-14C830AE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226D-86D7-4754-8D97-EB245DB0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21E-A097-43B2-817C-0BB3B7F4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17F4-FDD4-4B49-B256-D8B51349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87B4-38BE-4CDB-8C79-F9BFDCD3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22C-386C-4FE6-A1E5-D34DA488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78BC-40CA-4B07-90B6-2A522510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6FA-CD46-4A30-8662-C96EEA3E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D0C4-1510-4D2F-97F9-B1B6D15E24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курс -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и: Кривошеина Люда, Попова Диана, Кучутова Сая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           О          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755640" y="400536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 flipV="1">
            <a:off x="2268360" y="2349360"/>
            <a:ext cx="129564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5076720" y="40053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5076720" y="184464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5076720" y="378936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 flipV="1">
            <a:off x="5076720" y="2707920"/>
            <a:ext cx="26640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rc 14"/>
          <p:cNvSpPr/>
          <p:nvPr/>
        </p:nvSpPr>
        <p:spPr>
          <a:xfrm>
            <a:off x="5364000" y="3860640"/>
            <a:ext cx="71640" cy="144720"/>
          </a:xfrm>
          <a:custGeom>
            <a:avLst/>
            <a:gdLst>
              <a:gd name="textAreaLeft" fmla="*/ 0 w 71640"/>
              <a:gd name="textAreaRight" fmla="*/ 72000 w 716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rc 15"/>
          <p:cNvSpPr/>
          <p:nvPr/>
        </p:nvSpPr>
        <p:spPr>
          <a:xfrm>
            <a:off x="2411280" y="3789360"/>
            <a:ext cx="144720" cy="287280"/>
          </a:xfrm>
          <a:custGeom>
            <a:avLst/>
            <a:gdLst>
              <a:gd name="textAreaLeft" fmla="*/ 0 w 144720"/>
              <a:gd name="textAreaRight" fmla="*/ 144720 w 14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19321" h="21600">
                <a:moveTo>
                  <a:pt x="-1" y="0"/>
                </a:moveTo>
                <a:cubicBezTo>
                  <a:pt x="8182" y="0"/>
                  <a:pt x="15662" y="4623"/>
                  <a:pt x="19320" y="11942"/>
                </a:cubicBezTo>
              </a:path>
              <a:path stroke="0" w="19321" h="21600">
                <a:moveTo>
                  <a:pt x="-1" y="0"/>
                </a:moveTo>
                <a:cubicBezTo>
                  <a:pt x="8182" y="0"/>
                  <a:pt x="15662" y="4623"/>
                  <a:pt x="19320" y="11942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6"/>
          <p:cNvSpPr txBox="1"/>
          <p:nvPr/>
        </p:nvSpPr>
        <p:spPr>
          <a:xfrm>
            <a:off x="4680000" y="1773360"/>
            <a:ext cx="32364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WordArt 17"/>
          <p:cNvSpPr txBox="1"/>
          <p:nvPr/>
        </p:nvSpPr>
        <p:spPr>
          <a:xfrm>
            <a:off x="4670280" y="3956040"/>
            <a:ext cx="33336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WordArt 18"/>
          <p:cNvSpPr txBox="1"/>
          <p:nvPr/>
        </p:nvSpPr>
        <p:spPr>
          <a:xfrm>
            <a:off x="7659720" y="3573360"/>
            <a:ext cx="29700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WordArt 19"/>
          <p:cNvSpPr txBox="1"/>
          <p:nvPr/>
        </p:nvSpPr>
        <p:spPr>
          <a:xfrm>
            <a:off x="7372440" y="2492280"/>
            <a:ext cx="22392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20"/>
          <p:cNvSpPr txBox="1"/>
          <p:nvPr/>
        </p:nvSpPr>
        <p:spPr>
          <a:xfrm>
            <a:off x="5627520" y="3668760"/>
            <a:ext cx="4572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WordArt 22"/>
          <p:cNvSpPr txBox="1"/>
          <p:nvPr/>
        </p:nvSpPr>
        <p:spPr>
          <a:xfrm>
            <a:off x="2627280" y="3668760"/>
            <a:ext cx="4572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ти угол А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0"/>
          <p:cNvSpPr/>
          <p:nvPr/>
        </p:nvSpPr>
        <p:spPr>
          <a:xfrm>
            <a:off x="500040" y="5072040"/>
            <a:ext cx="350064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0-65=1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TextBox 21"/>
          <p:cNvGrpSpPr/>
          <p:nvPr/>
        </p:nvGrpSpPr>
        <p:grpSpPr>
          <a:xfrm>
            <a:off x="4705200" y="5284800"/>
            <a:ext cx="3706920" cy="609480"/>
            <a:chOff x="4705200" y="5284800"/>
            <a:chExt cx="3706920" cy="609480"/>
          </a:xfrm>
        </p:grpSpPr>
        <p:pic>
          <p:nvPicPr>
            <p:cNvPr id="100" name="TextBox 21" descr=""/>
            <p:cNvPicPr/>
            <p:nvPr/>
          </p:nvPicPr>
          <p:blipFill>
            <a:blip r:embed="rId1"/>
            <a:stretch/>
          </p:blipFill>
          <p:spPr>
            <a:xfrm>
              <a:off x="4705200" y="5284800"/>
              <a:ext cx="37069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857840" y="5357880"/>
              <a:ext cx="35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00"/>
                  </a:solidFill>
                  <a:latin typeface="Arial"/>
                </a:rPr>
                <a:t>90-20=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4"/>
          <p:cNvSpPr/>
          <p:nvPr/>
        </p:nvSpPr>
        <p:spPr>
          <a:xfrm>
            <a:off x="468360" y="472428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 flipH="1" flipV="1">
            <a:off x="900000" y="3141720"/>
            <a:ext cx="1224000" cy="15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 flipV="1">
            <a:off x="2124000" y="3284280"/>
            <a:ext cx="158436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rc 8"/>
          <p:cNvSpPr/>
          <p:nvPr/>
        </p:nvSpPr>
        <p:spPr>
          <a:xfrm>
            <a:off x="2340000" y="4508640"/>
            <a:ext cx="71280" cy="215640"/>
          </a:xfrm>
          <a:custGeom>
            <a:avLst/>
            <a:gdLst>
              <a:gd name="textAreaLeft" fmla="*/ 0 w 71280"/>
              <a:gd name="textAreaRight" fmla="*/ 71640 w 71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9"/>
          <p:cNvSpPr/>
          <p:nvPr/>
        </p:nvSpPr>
        <p:spPr>
          <a:xfrm flipH="1">
            <a:off x="1835280" y="4437000"/>
            <a:ext cx="72720" cy="287280"/>
          </a:xfrm>
          <a:custGeom>
            <a:avLst/>
            <a:gdLst>
              <a:gd name="textAreaLeft" fmla="*/ 360 w 72720"/>
              <a:gd name="textAreaRight" fmla="*/ 73440 w 72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rc 10"/>
          <p:cNvSpPr/>
          <p:nvPr/>
        </p:nvSpPr>
        <p:spPr>
          <a:xfrm flipH="1">
            <a:off x="1761480" y="4365720"/>
            <a:ext cx="73080" cy="360360"/>
          </a:xfrm>
          <a:custGeom>
            <a:avLst/>
            <a:gdLst>
              <a:gd name="textAreaLeft" fmla="*/ -360 w 73080"/>
              <a:gd name="textAreaRight" fmla="*/ 73080 w 730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4788000" y="472428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 flipH="1" flipV="1">
            <a:off x="5508720" y="3141720"/>
            <a:ext cx="1224000" cy="15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6732720" y="3357720"/>
            <a:ext cx="1871640" cy="13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rc 14"/>
          <p:cNvSpPr/>
          <p:nvPr/>
        </p:nvSpPr>
        <p:spPr>
          <a:xfrm>
            <a:off x="6588000" y="450864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 15"/>
          <p:cNvSpPr/>
          <p:nvPr/>
        </p:nvSpPr>
        <p:spPr>
          <a:xfrm>
            <a:off x="6516720" y="4437000"/>
            <a:ext cx="503280" cy="287280"/>
          </a:xfrm>
          <a:custGeom>
            <a:avLst/>
            <a:gdLst>
              <a:gd name="textAreaLeft" fmla="*/ 0 w 503280"/>
              <a:gd name="textAreaRight" fmla="*/ 503640 w 503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rc 18"/>
          <p:cNvSpPr/>
          <p:nvPr/>
        </p:nvSpPr>
        <p:spPr>
          <a:xfrm flipH="1">
            <a:off x="6279480" y="4368960"/>
            <a:ext cx="955800" cy="358560"/>
          </a:xfrm>
          <a:custGeom>
            <a:avLst/>
            <a:gdLst>
              <a:gd name="textAreaLeft" fmla="*/ -360 w 955800"/>
              <a:gd name="textAreaRight" fmla="*/ 955800 w 95580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fill="none" w="22051" h="21600">
                <a:moveTo>
                  <a:pt x="-1" y="4"/>
                </a:moveTo>
                <a:cubicBezTo>
                  <a:pt x="150" y="1"/>
                  <a:pt x="300" y="-1"/>
                  <a:pt x="451" y="0"/>
                </a:cubicBezTo>
                <a:cubicBezTo>
                  <a:pt x="12380" y="0"/>
                  <a:pt x="22051" y="9670"/>
                  <a:pt x="22051" y="21600"/>
                </a:cubicBezTo>
              </a:path>
              <a:path stroke="0" w="22051" h="21600">
                <a:moveTo>
                  <a:pt x="-1" y="4"/>
                </a:moveTo>
                <a:cubicBezTo>
                  <a:pt x="150" y="1"/>
                  <a:pt x="300" y="-1"/>
                  <a:pt x="451" y="0"/>
                </a:cubicBezTo>
                <a:cubicBezTo>
                  <a:pt x="12380" y="0"/>
                  <a:pt x="22051" y="9670"/>
                  <a:pt x="22051" y="21600"/>
                </a:cubicBezTo>
                <a:lnTo>
                  <a:pt x="45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19"/>
          <p:cNvSpPr txBox="1"/>
          <p:nvPr/>
        </p:nvSpPr>
        <p:spPr>
          <a:xfrm>
            <a:off x="539640" y="4748040"/>
            <a:ext cx="22392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WordArt 20"/>
          <p:cNvSpPr txBox="1"/>
          <p:nvPr/>
        </p:nvSpPr>
        <p:spPr>
          <a:xfrm>
            <a:off x="4707000" y="4748040"/>
            <a:ext cx="29664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WordArt 21"/>
          <p:cNvSpPr txBox="1"/>
          <p:nvPr/>
        </p:nvSpPr>
        <p:spPr>
          <a:xfrm>
            <a:off x="1042920" y="2997360"/>
            <a:ext cx="3240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WordArt 22"/>
          <p:cNvSpPr txBox="1"/>
          <p:nvPr/>
        </p:nvSpPr>
        <p:spPr>
          <a:xfrm>
            <a:off x="5580000" y="2803680"/>
            <a:ext cx="3240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WordArt 23"/>
          <p:cNvSpPr txBox="1"/>
          <p:nvPr/>
        </p:nvSpPr>
        <p:spPr>
          <a:xfrm>
            <a:off x="3419640" y="3068640"/>
            <a:ext cx="2966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WordArt 24"/>
          <p:cNvSpPr txBox="1"/>
          <p:nvPr/>
        </p:nvSpPr>
        <p:spPr>
          <a:xfrm>
            <a:off x="8163000" y="3141720"/>
            <a:ext cx="2966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WordArt 25"/>
          <p:cNvSpPr txBox="1"/>
          <p:nvPr/>
        </p:nvSpPr>
        <p:spPr>
          <a:xfrm>
            <a:off x="1935000" y="4748040"/>
            <a:ext cx="33336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WordArt 26"/>
          <p:cNvSpPr txBox="1"/>
          <p:nvPr/>
        </p:nvSpPr>
        <p:spPr>
          <a:xfrm>
            <a:off x="6543720" y="4748040"/>
            <a:ext cx="33336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WordArt 27"/>
          <p:cNvSpPr txBox="1"/>
          <p:nvPr/>
        </p:nvSpPr>
        <p:spPr>
          <a:xfrm>
            <a:off x="3780000" y="4797360"/>
            <a:ext cx="31428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WordArt 28"/>
          <p:cNvSpPr txBox="1"/>
          <p:nvPr/>
        </p:nvSpPr>
        <p:spPr>
          <a:xfrm>
            <a:off x="8218440" y="4748040"/>
            <a:ext cx="31428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WordArt 29"/>
          <p:cNvSpPr txBox="1"/>
          <p:nvPr/>
        </p:nvSpPr>
        <p:spPr>
          <a:xfrm>
            <a:off x="1306440" y="4387680"/>
            <a:ext cx="45720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0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WordArt 30"/>
          <p:cNvSpPr txBox="1"/>
          <p:nvPr/>
        </p:nvSpPr>
        <p:spPr>
          <a:xfrm>
            <a:off x="2556000" y="4387680"/>
            <a:ext cx="45720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0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WordArt 31"/>
          <p:cNvSpPr txBox="1"/>
          <p:nvPr/>
        </p:nvSpPr>
        <p:spPr>
          <a:xfrm>
            <a:off x="5813280" y="4365720"/>
            <a:ext cx="4874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40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WordArt 32"/>
          <p:cNvSpPr txBox="1"/>
          <p:nvPr/>
        </p:nvSpPr>
        <p:spPr>
          <a:xfrm>
            <a:off x="7180200" y="4387680"/>
            <a:ext cx="48744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0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TextBox 29"/>
          <p:cNvSpPr/>
          <p:nvPr/>
        </p:nvSpPr>
        <p:spPr>
          <a:xfrm>
            <a:off x="500040" y="5643720"/>
            <a:ext cx="3500640" cy="459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180-60-50=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0"/>
          <p:cNvSpPr/>
          <p:nvPr/>
        </p:nvSpPr>
        <p:spPr>
          <a:xfrm>
            <a:off x="5143680" y="5796000"/>
            <a:ext cx="3500280" cy="82548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180-120=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140-60=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ти угол А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йти неизвестные углы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5003640" y="2349360"/>
            <a:ext cx="2232360" cy="28083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468360" y="5157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 flipH="1" flipV="1">
            <a:off x="2700360" y="3933720"/>
            <a:ext cx="1224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 flipH="1">
            <a:off x="394920" y="3933720"/>
            <a:ext cx="2305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9"/>
          <p:cNvSpPr txBox="1"/>
          <p:nvPr/>
        </p:nvSpPr>
        <p:spPr>
          <a:xfrm>
            <a:off x="324000" y="5180040"/>
            <a:ext cx="3236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10"/>
          <p:cNvSpPr txBox="1"/>
          <p:nvPr/>
        </p:nvSpPr>
        <p:spPr>
          <a:xfrm>
            <a:off x="2340000" y="3668760"/>
            <a:ext cx="2970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WordArt 11"/>
          <p:cNvSpPr txBox="1"/>
          <p:nvPr/>
        </p:nvSpPr>
        <p:spPr>
          <a:xfrm>
            <a:off x="3699000" y="5180040"/>
            <a:ext cx="2966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WordArt 12"/>
          <p:cNvSpPr txBox="1"/>
          <p:nvPr/>
        </p:nvSpPr>
        <p:spPr>
          <a:xfrm>
            <a:off x="971640" y="4869000"/>
            <a:ext cx="3603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3"/>
          <p:cNvSpPr txBox="1"/>
          <p:nvPr/>
        </p:nvSpPr>
        <p:spPr>
          <a:xfrm>
            <a:off x="3203640" y="4797360"/>
            <a:ext cx="37296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WordArt 14"/>
          <p:cNvSpPr txBox="1"/>
          <p:nvPr/>
        </p:nvSpPr>
        <p:spPr>
          <a:xfrm>
            <a:off x="4824360" y="1989000"/>
            <a:ext cx="32400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WordArt 15"/>
          <p:cNvSpPr txBox="1"/>
          <p:nvPr/>
        </p:nvSpPr>
        <p:spPr>
          <a:xfrm>
            <a:off x="7155000" y="4892760"/>
            <a:ext cx="2966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WordArt 16"/>
          <p:cNvSpPr txBox="1"/>
          <p:nvPr/>
        </p:nvSpPr>
        <p:spPr>
          <a:xfrm>
            <a:off x="4635360" y="5035680"/>
            <a:ext cx="2970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18"/>
          <p:cNvSpPr txBox="1"/>
          <p:nvPr/>
        </p:nvSpPr>
        <p:spPr>
          <a:xfrm>
            <a:off x="6648480" y="4819680"/>
            <a:ext cx="29988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2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500040" y="5643720"/>
            <a:ext cx="3500640" cy="45972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00f2"/>
                </a:solidFill>
                <a:latin typeface="Arial"/>
              </a:rPr>
              <a:t>180-(20+40)=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072040" y="5796000"/>
            <a:ext cx="3500640" cy="4597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90-42=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урс «бухгалтер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560" y="1413000"/>
            <a:ext cx="8893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Цены повышены на 2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95280" y="2765520"/>
          <a:ext cx="8280360" cy="3111480"/>
        </p:xfrm>
        <a:graphic>
          <a:graphicData uri="http://schemas.openxmlformats.org/drawingml/2006/table">
            <a:tbl>
              <a:tblPr/>
              <a:tblGrid>
                <a:gridCol w="2070000"/>
                <a:gridCol w="2070360"/>
                <a:gridCol w="2070000"/>
                <a:gridCol w="2070000"/>
              </a:tblGrid>
              <a:tr h="15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ая ц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ру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ру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ру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ая ц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TextBox 22"/>
          <p:cNvSpPr/>
          <p:nvPr/>
        </p:nvSpPr>
        <p:spPr>
          <a:xfrm>
            <a:off x="2714760" y="464328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224 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4"/>
          <p:cNvSpPr/>
          <p:nvPr/>
        </p:nvSpPr>
        <p:spPr>
          <a:xfrm>
            <a:off x="4714920" y="464328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712 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5"/>
          <p:cNvSpPr/>
          <p:nvPr/>
        </p:nvSpPr>
        <p:spPr>
          <a:xfrm>
            <a:off x="6786720" y="464328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550 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урс «капитан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В карманах денег поровну. Из одного в другой карман положили 1 рубль. На сколько больше там стал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j0222015"/>
          <p:cNvPicPr/>
          <p:nvPr/>
        </p:nvPicPr>
        <p:blipFill>
          <a:blip r:embed="rId1"/>
          <a:stretch/>
        </p:blipFill>
        <p:spPr>
          <a:xfrm>
            <a:off x="2556000" y="4005360"/>
            <a:ext cx="3651120" cy="256536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2428920" y="3000240"/>
            <a:ext cx="335736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(На 2 ру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2.   Посчитай, какое стадо обслужить ребятам надо. Индюшат, их 240, водит Катя на приго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ашет прутиком Илья, напева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«8 уток, один я, куда утки, туда и я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о-то громко чересчур раскричались курицы, Сотен пять их было, и они развоюю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 на речке уток 200, как закрякали все в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j0299125"/>
          <p:cNvPicPr/>
          <p:nvPr/>
        </p:nvPicPr>
        <p:blipFill>
          <a:blip r:embed="rId1"/>
          <a:stretch/>
        </p:blipFill>
        <p:spPr>
          <a:xfrm>
            <a:off x="2916360" y="4221000"/>
            <a:ext cx="1963440" cy="2492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5072040" y="3786120"/>
            <a:ext cx="2643120" cy="4597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948 п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0040" y="9288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3. Сумма двух чисел больше одного из них на 17 и больше другого на 13. Чему равны эти чис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2500200" y="3357720"/>
            <a:ext cx="2786040" cy="459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7   И  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4. Назовите число, если половина – треть е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5. В саду 33 ветки, на каждом по 33 яблока. Сколько яблок все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217698"/>
          <p:cNvPicPr/>
          <p:nvPr/>
        </p:nvPicPr>
        <p:blipFill>
          <a:blip r:embed="rId1"/>
          <a:stretch/>
        </p:blipFill>
        <p:spPr>
          <a:xfrm>
            <a:off x="3348000" y="3573360"/>
            <a:ext cx="3187800" cy="308952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6786720" y="3181320"/>
            <a:ext cx="20714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3*33=10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00040" y="42876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6. Из спичек составлено равенство, которое, как вы видите, неверное. Как переложить одну спичку, чтобы получилось верное равенств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116000" y="5157720"/>
            <a:ext cx="50328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1763640" y="5157360"/>
            <a:ext cx="50472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2556000" y="515772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2987640" y="566100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4643280" y="508464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4859280" y="5084640"/>
            <a:ext cx="50472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 flipV="1">
            <a:off x="5508720" y="5084640"/>
            <a:ext cx="5032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6156360" y="551664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6156360" y="587700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 flipV="1">
            <a:off x="7596360" y="5084640"/>
            <a:ext cx="72072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7524720" y="5157720"/>
            <a:ext cx="79236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6"/>
          <p:cNvSpPr/>
          <p:nvPr/>
        </p:nvSpPr>
        <p:spPr>
          <a:xfrm flipV="1">
            <a:off x="8675640" y="508464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орошо ли ты усвоил действия с натуральными числа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7472520" cy="1903320"/>
        </p:xfrm>
        <a:graphic>
          <a:graphicData uri="http://schemas.openxmlformats.org/drawingml/2006/table">
            <a:tbl>
              <a:tblPr/>
              <a:tblGrid>
                <a:gridCol w="7472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Вариант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/>
                    </a:solidFill>
                  </a:tcPr>
                </a:tc>
              </a:tr>
              <a:tr h="13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)  60000 - 408*120+1012*(24*10-235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2)  (8016*276+429*1014 - 264810):422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009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68360" y="4076640"/>
          <a:ext cx="7559640" cy="1800360"/>
        </p:xfrm>
        <a:graphic>
          <a:graphicData uri="http://schemas.openxmlformats.org/drawingml/2006/table">
            <a:tbl>
              <a:tblPr/>
              <a:tblGrid>
                <a:gridCol w="755964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ff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05*712 - 304*501+834*(245*10-2300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ff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708*398 - 892*211):93572+209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Box 20"/>
          <p:cNvSpPr/>
          <p:nvPr/>
        </p:nvSpPr>
        <p:spPr>
          <a:xfrm>
            <a:off x="6929280" y="2143080"/>
            <a:ext cx="18576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2"/>
          <p:cNvSpPr/>
          <p:nvPr/>
        </p:nvSpPr>
        <p:spPr>
          <a:xfrm>
            <a:off x="7429680" y="4753080"/>
            <a:ext cx="185724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459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3"/>
          <p:cNvSpPr/>
          <p:nvPr/>
        </p:nvSpPr>
        <p:spPr>
          <a:xfrm>
            <a:off x="6858000" y="2681280"/>
            <a:ext cx="185724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6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6429240" y="5286240"/>
            <a:ext cx="18576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07:42:24Z</dcterms:created>
  <dc:creator>Эльвира Николаевна</dc:creator>
  <dc:description/>
  <dc:language>en-US</dc:language>
  <cp:lastModifiedBy>user</cp:lastModifiedBy>
  <dcterms:modified xsi:type="dcterms:W3CDTF">2012-12-21T02:59:51Z</dcterms:modified>
  <cp:revision>13</cp:revision>
  <dc:subject/>
  <dc:title>Слайд 1</dc:title>
</cp:coreProperties>
</file>