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04B-C6F6-41D0-9F93-BF459E50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967-0E9E-4216-893B-8B0011E5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F84-A8DF-499B-85DE-FB21BBDC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9CB-8AFC-4A27-800C-2A9B34BC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023-DF2B-4036-9EBD-53BD6BD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EAB-332A-4C2D-B7CA-A9C1607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467-A634-4F66-A8C6-91658618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4D6-555F-488E-8A72-8F2E896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BE7-464C-445A-B2AF-292A813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A88-0D2B-472C-A3AA-05FB5CB8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798-2DFB-4A87-9E12-404C260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445-6471-46D0-9E29-11DB016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cc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73A8-C94F-4F46-AB0D-3435D1BC6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2556000" y="189000"/>
            <a:ext cx="381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вторение: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836640"/>
            <a:ext cx="9144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формулировать закон всемирного тягот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Верно ли, что притяжение к Земле является одним из примеров всемирного тяготения?          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(Д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 Как меняется сила тяжести, действующая на тело, при его удаления от Земли?          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(Если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h↑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F↓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  По какой формуле можно рассчитать действующую на тело  силу тяжести, если оно находится на небольшой высоте на Землё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  В каком случае сила тяжести, действующая на одно и то же тело, будет больше: если это тело находится в экваториальной  области земного  шара или на одном из полюсов?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0"/>
              <p:cNvSpPr txBox="1"/>
              <p:nvPr/>
            </p:nvSpPr>
            <p:spPr>
              <a:xfrm>
                <a:off x="6948360" y="907920"/>
                <a:ext cx="1870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2"/>
              <p:cNvSpPr txBox="1"/>
              <p:nvPr/>
            </p:nvSpPr>
            <p:spPr>
              <a:xfrm>
                <a:off x="5649840" y="3956040"/>
                <a:ext cx="19908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971640" y="6165720"/>
                <a:ext cx="2463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э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727520" y="6122880"/>
                <a:ext cx="2001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э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Box 7"/>
          <p:cNvSpPr/>
          <p:nvPr/>
        </p:nvSpPr>
        <p:spPr>
          <a:xfrm>
            <a:off x="3492360" y="6237360"/>
            <a:ext cx="10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.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4284720" y="2205000"/>
            <a:ext cx="647640" cy="43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3851280" y="2852640"/>
            <a:ext cx="2592360" cy="43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826920" y="63360"/>
            <a:ext cx="7561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йдём модуль ускорен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395280" y="1123920"/>
            <a:ext cx="2376360" cy="1800360"/>
          </a:xfrm>
          <a:custGeom>
            <a:avLst/>
            <a:gdLst>
              <a:gd name="textAreaLeft" fmla="*/ 37800 w 2376360"/>
              <a:gd name="textAreaRight" fmla="*/ 2338560 w 2376360"/>
              <a:gd name="textAreaTop" fmla="*/ 0 h 1800360"/>
              <a:gd name="textAreaBottom" fmla="*/ 1118880 h 1800360"/>
            </a:gdLst>
            <a:ahLst/>
            <a:rect l="textAreaLeft" t="textAreaTop" r="textAreaRight" b="textAreaBottom"/>
            <a:pathLst>
              <a:path w="21600" h="21600">
                <a:moveTo>
                  <a:pt x="361" y="10457"/>
                </a:moveTo>
                <a:cubicBezTo>
                  <a:pt x="546" y="4825"/>
                  <a:pt x="5165" y="355"/>
                  <a:pt x="10800" y="356"/>
                </a:cubicBezTo>
                <a:cubicBezTo>
                  <a:pt x="16434" y="356"/>
                  <a:pt x="21053" y="4825"/>
                  <a:pt x="21238" y="10457"/>
                </a:cubicBezTo>
                <a:lnTo>
                  <a:pt x="21594" y="10445"/>
                </a:lnTo>
                <a:cubicBezTo>
                  <a:pt x="21402" y="4621"/>
                  <a:pt x="16626" y="-1"/>
                  <a:pt x="10799" y="0"/>
                </a:cubicBezTo>
                <a:cubicBezTo>
                  <a:pt x="4973" y="0"/>
                  <a:pt x="197" y="4621"/>
                  <a:pt x="5" y="1044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547640" y="2205000"/>
            <a:ext cx="1447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755640" y="126828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826920" y="1341360"/>
            <a:ext cx="792360" cy="9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6836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826920" y="907920"/>
            <a:ext cx="79236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971640" y="692280"/>
                <a:ext cx="34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AutoShape 10"/>
          <p:cNvSpPr/>
          <p:nvPr/>
        </p:nvSpPr>
        <p:spPr>
          <a:xfrm>
            <a:off x="2195640" y="119700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268360" y="1268280"/>
            <a:ext cx="71928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2654280" y="1033560"/>
                <a:ext cx="3538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5" name="Text Box 13"/>
          <p:cNvSpPr/>
          <p:nvPr/>
        </p:nvSpPr>
        <p:spPr>
          <a:xfrm>
            <a:off x="2124000" y="76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826920" y="13413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1619280" y="907920"/>
            <a:ext cx="0" cy="865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1618920" y="1268280"/>
            <a:ext cx="64908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1563840" y="692280"/>
                <a:ext cx="610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0" name="Line 18"/>
          <p:cNvSpPr/>
          <p:nvPr/>
        </p:nvSpPr>
        <p:spPr>
          <a:xfrm flipV="1">
            <a:off x="826920" y="1267920"/>
            <a:ext cx="1441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1403280" y="40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1403280" y="17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427640" y="712800"/>
            <a:ext cx="432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∆АОВ и ∆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3492360" y="1287360"/>
            <a:ext cx="565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АОВ – равнобедренный, т.к. ОА=ВО=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3564000" y="1792440"/>
            <a:ext cx="525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M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– равнобедренный, т.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4"/>
              <p:cNvSpPr txBox="1"/>
              <p:nvPr/>
            </p:nvSpPr>
            <p:spPr>
              <a:xfrm>
                <a:off x="7524720" y="1687680"/>
                <a:ext cx="1079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AutoShape 25"/>
          <p:cNvSpPr/>
          <p:nvPr/>
        </p:nvSpPr>
        <p:spPr>
          <a:xfrm>
            <a:off x="8675640" y="1197000"/>
            <a:ext cx="289080" cy="1800360"/>
          </a:xfrm>
          <a:custGeom>
            <a:avLst/>
            <a:gdLst>
              <a:gd name="textAreaLeft" fmla="*/ 0 w 289080"/>
              <a:gd name="textAreaRight" fmla="*/ 104400 w 289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2340000" y="2408400"/>
            <a:ext cx="680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О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MA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т.к. они образованы взаимно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торонами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7"/>
              <p:cNvSpPr txBox="1"/>
              <p:nvPr/>
            </p:nvSpPr>
            <p:spPr>
              <a:xfrm>
                <a:off x="4027320" y="2708280"/>
                <a:ext cx="1376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 Box 28"/>
          <p:cNvSpPr/>
          <p:nvPr/>
        </p:nvSpPr>
        <p:spPr>
          <a:xfrm>
            <a:off x="1403280" y="24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9"/>
              <p:cNvSpPr txBox="1"/>
              <p:nvPr/>
            </p:nvSpPr>
            <p:spPr>
              <a:xfrm>
                <a:off x="6012000" y="2693880"/>
                <a:ext cx="12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0"/>
              <p:cNvSpPr txBox="1"/>
              <p:nvPr/>
            </p:nvSpPr>
            <p:spPr>
              <a:xfrm>
                <a:off x="324000" y="3381480"/>
                <a:ext cx="599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31"/>
          <p:cNvSpPr/>
          <p:nvPr/>
        </p:nvSpPr>
        <p:spPr>
          <a:xfrm>
            <a:off x="971640" y="3448080"/>
            <a:ext cx="504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АОВ подобен 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M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/>
          <p:cNvSpPr/>
          <p:nvPr/>
        </p:nvSpPr>
        <p:spPr>
          <a:xfrm flipH="1" flipV="1" rot="15881400">
            <a:off x="1147680" y="4586760"/>
            <a:ext cx="3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3"/>
              <p:cNvSpPr txBox="1"/>
              <p:nvPr/>
            </p:nvSpPr>
            <p:spPr>
              <a:xfrm>
                <a:off x="3924360" y="3381480"/>
                <a:ext cx="600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4"/>
              <p:cNvSpPr txBox="1"/>
              <p:nvPr/>
            </p:nvSpPr>
            <p:spPr>
              <a:xfrm>
                <a:off x="4500720" y="3164040"/>
                <a:ext cx="12952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35"/>
          <p:cNvSpPr/>
          <p:nvPr/>
        </p:nvSpPr>
        <p:spPr>
          <a:xfrm>
            <a:off x="5940360" y="3376440"/>
            <a:ext cx="107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т.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6"/>
              <p:cNvSpPr txBox="1"/>
              <p:nvPr/>
            </p:nvSpPr>
            <p:spPr>
              <a:xfrm>
                <a:off x="6948360" y="3305160"/>
                <a:ext cx="197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υ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7"/>
              <p:cNvSpPr txBox="1"/>
              <p:nvPr/>
            </p:nvSpPr>
            <p:spPr>
              <a:xfrm>
                <a:off x="338040" y="4245120"/>
                <a:ext cx="12668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t xml:space="preserve">υ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Text Box 38"/>
          <p:cNvSpPr/>
          <p:nvPr/>
        </p:nvSpPr>
        <p:spPr>
          <a:xfrm>
            <a:off x="2050920" y="4456080"/>
            <a:ext cx="151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9"/>
              <p:cNvSpPr txBox="1"/>
              <p:nvPr/>
            </p:nvSpPr>
            <p:spPr>
              <a:xfrm>
                <a:off x="3059280" y="4186080"/>
                <a:ext cx="1384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0"/>
              <p:cNvSpPr txBox="1"/>
              <p:nvPr/>
            </p:nvSpPr>
            <p:spPr>
              <a:xfrm>
                <a:off x="4859280" y="4462560"/>
                <a:ext cx="600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1"/>
              <p:cNvSpPr txBox="1"/>
              <p:nvPr/>
            </p:nvSpPr>
            <p:spPr>
              <a:xfrm>
                <a:off x="5695920" y="3981600"/>
                <a:ext cx="1639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Text Box 42"/>
          <p:cNvSpPr/>
          <p:nvPr/>
        </p:nvSpPr>
        <p:spPr>
          <a:xfrm>
            <a:off x="324000" y="5680080"/>
            <a:ext cx="792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. 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3"/>
              <p:cNvSpPr txBox="1"/>
              <p:nvPr/>
            </p:nvSpPr>
            <p:spPr>
              <a:xfrm>
                <a:off x="1332000" y="5640480"/>
                <a:ext cx="1871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4"/>
              <p:cNvSpPr txBox="1"/>
              <p:nvPr/>
            </p:nvSpPr>
            <p:spPr>
              <a:xfrm>
                <a:off x="3995640" y="5565600"/>
                <a:ext cx="194940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Text Box 45"/>
          <p:cNvSpPr/>
          <p:nvPr/>
        </p:nvSpPr>
        <p:spPr>
          <a:xfrm>
            <a:off x="3348000" y="5680080"/>
            <a:ext cx="5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6084720" y="5680080"/>
            <a:ext cx="863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7"/>
              <p:cNvSpPr txBox="1"/>
              <p:nvPr/>
            </p:nvSpPr>
            <p:spPr>
              <a:xfrm>
                <a:off x="7020000" y="5640480"/>
                <a:ext cx="1871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40"/>
                            </p:stCondLst>
                            <p:childTnLst>
                              <p:par>
                                <p:cTn id="8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340"/>
                            </p:stCondLst>
                            <p:childTnLst>
                              <p:par>
                                <p:cTn id="8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8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66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"/>
                            </p:stCondLst>
                            <p:childTnLst>
                              <p:par>
                                <p:cTn id="9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700"/>
                            </p:stCondLst>
                            <p:childTnLst>
                              <p:par>
                                <p:cTn id="9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80"/>
                            </p:stCondLst>
                            <p:childTnLst>
                              <p:par>
                                <p:cTn id="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280"/>
                            </p:stCondLst>
                            <p:childTnLst>
                              <p:par>
                                <p:cTn id="9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4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250920" y="47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1908000" y="0"/>
                <a:ext cx="1297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3419640" y="404640"/>
                <a:ext cx="6476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4379760" y="333360"/>
                <a:ext cx="1878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4" name="Text Box 8"/>
          <p:cNvSpPr/>
          <p:nvPr/>
        </p:nvSpPr>
        <p:spPr>
          <a:xfrm>
            <a:off x="250920" y="1628640"/>
            <a:ext cx="864072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, под действием которой тело движется по окружности с постоянной по модулю скоростью в каждой точке направлена по радиусу к центру окружности – </a:t>
            </a: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сила центростремитель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2627280" y="3429000"/>
                <a:ext cx="3025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1332000" y="5013360"/>
                <a:ext cx="19652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Text Box 11"/>
          <p:cNvSpPr/>
          <p:nvPr/>
        </p:nvSpPr>
        <p:spPr>
          <a:xfrm>
            <a:off x="3492360" y="5229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стрем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0" y="54936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правлена равнодействующая всех сил, приложенных к телу, если оно движ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. Прямолинейно, с увеличивающейся по модулю скор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. Прямолинейно, с уменьшающейся по модулю скор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. По окружности с постоянной по модулю скор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2843280" y="44280"/>
            <a:ext cx="3024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Arial"/>
              </a:rPr>
              <a:t>Вопросы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371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елосипедист движется по закруглению дороги радиусом 50 м со скоростью 36 км/ч. С каким ускорением он проходит закругление? Какова действующая на его колёса сила трения, выполняющая роль центростремительной силы, если масса велосипедиста 60 к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2400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Что вы знаете об ускорении свободного падения на Лун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2556000" y="189000"/>
            <a:ext cx="381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вторение: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187280" y="1125360"/>
                <a:ext cx="1339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TextBox 4"/>
          <p:cNvSpPr/>
          <p:nvPr/>
        </p:nvSpPr>
        <p:spPr>
          <a:xfrm>
            <a:off x="2556000" y="1268280"/>
            <a:ext cx="28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6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0360" y="1773360"/>
            <a:ext cx="83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Чему равно ускорение свободного падения на Лун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763640" y="2205000"/>
                <a:ext cx="4643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Прямоугольник 7"/>
          <p:cNvSpPr/>
          <p:nvPr/>
        </p:nvSpPr>
        <p:spPr>
          <a:xfrm>
            <a:off x="3276720" y="2276640"/>
            <a:ext cx="1511280" cy="93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788000" y="2276640"/>
            <a:ext cx="1512720" cy="93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0" y="33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Чему равно ускорение свободного падения на высоте над поверхностью Земли, равной двум её радиуса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971640" y="1916280"/>
            <a:ext cx="720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Arial"/>
              </a:rPr>
              <a:t>Равномерное движ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Arial"/>
              </a:rPr>
              <a:t>по окружност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60" name="AutoShape 5"/>
          <p:cNvSpPr/>
          <p:nvPr/>
        </p:nvSpPr>
        <p:spPr>
          <a:xfrm flipV="1">
            <a:off x="0" y="-316080"/>
            <a:ext cx="9144000" cy="549360"/>
          </a:xfrm>
          <a:custGeom>
            <a:avLst/>
            <a:gdLst>
              <a:gd name="textAreaLeft" fmla="*/ 0 w 9144000"/>
              <a:gd name="textAreaRight" fmla="*/ 9144360 w 9144000"/>
              <a:gd name="textAreaTop" fmla="*/ 360 h 549360"/>
              <a:gd name="textAreaBottom" fmla="*/ 196560 h 549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6624720"/>
            <a:ext cx="9144000" cy="5493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49360"/>
              <a:gd name="textAreaBottom" fmla="*/ 196200 h 549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0" y="0"/>
            <a:ext cx="360360" cy="6858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24000" y="-27000"/>
            <a:ext cx="360360" cy="6885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8820000" y="-27000"/>
            <a:ext cx="360360" cy="6885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8459640" y="-27000"/>
            <a:ext cx="360360" cy="6885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116000" y="479736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18-19, упр. 17(1,2), упр 18(1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2411280" y="692280"/>
            <a:ext cx="4104000" cy="792000"/>
          </a:xfrm>
          <a:prstGeom prst="ellipse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37r3"/>
          <p:cNvPicPr/>
          <p:nvPr/>
        </p:nvPicPr>
        <p:blipFill>
          <a:blip r:embed="rId1"/>
          <a:stretch/>
        </p:blipFill>
        <p:spPr>
          <a:xfrm>
            <a:off x="4067280" y="79848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7_6"/>
          <p:cNvPicPr/>
          <p:nvPr/>
        </p:nvPicPr>
        <p:blipFill>
          <a:blip r:embed="rId2">
            <a:lum bright="-12000"/>
          </a:blip>
          <a:srcRect l="21528" t="70810" r="74367" b="22127"/>
          <a:stretch/>
        </p:blipFill>
        <p:spPr>
          <a:xfrm>
            <a:off x="2268360" y="907920"/>
            <a:ext cx="3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rc 35"/>
          <p:cNvSpPr/>
          <p:nvPr/>
        </p:nvSpPr>
        <p:spPr>
          <a:xfrm rot="303000">
            <a:off x="6302520" y="227664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00" h="21584">
                <a:moveTo>
                  <a:pt x="837" y="0"/>
                </a:moveTo>
                <a:cubicBezTo>
                  <a:pt x="12432" y="450"/>
                  <a:pt x="21600" y="9980"/>
                  <a:pt x="21600" y="21584"/>
                </a:cubicBezTo>
              </a:path>
              <a:path stroke="0" w="21600" h="21584">
                <a:moveTo>
                  <a:pt x="837" y="0"/>
                </a:moveTo>
                <a:cubicBezTo>
                  <a:pt x="12432" y="450"/>
                  <a:pt x="21600" y="9980"/>
                  <a:pt x="21600" y="21584"/>
                </a:cubicBezTo>
                <a:lnTo>
                  <a:pt x="0" y="21584"/>
                </a:lnTo>
                <a:close/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19280" y="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Механическ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H="1">
            <a:off x="2340000" y="620640"/>
            <a:ext cx="9367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796000" y="620640"/>
            <a:ext cx="9367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643280" y="549360"/>
            <a:ext cx="0" cy="5688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900000" y="98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ямолиней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0" y="1341360"/>
            <a:ext cx="41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Траектория – прям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580000" y="981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риволиней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680000" y="1341360"/>
            <a:ext cx="41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Траектория – крив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395280" y="246708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68360" y="2540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1619280" y="2324160"/>
            <a:ext cx="431640" cy="43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2050920" y="254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3060720" y="2324160"/>
            <a:ext cx="431640" cy="431640"/>
          </a:xfrm>
          <a:prstGeom prst="flowChartConnector">
            <a:avLst/>
          </a:prstGeom>
          <a:solidFill>
            <a:srgbClr val="b9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1547640" y="184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179280" y="1916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3059280" y="1844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H="1">
            <a:off x="2700000" y="2540160"/>
            <a:ext cx="576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2"/>
              <p:cNvSpPr txBox="1"/>
              <p:nvPr/>
            </p:nvSpPr>
            <p:spPr>
              <a:xfrm>
                <a:off x="2700360" y="249228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2411280" y="1844640"/>
                <a:ext cx="719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Line 25"/>
          <p:cNvSpPr/>
          <p:nvPr/>
        </p:nvSpPr>
        <p:spPr>
          <a:xfrm flipH="1">
            <a:off x="2411280" y="3213000"/>
            <a:ext cx="93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6"/>
              <p:cNvSpPr txBox="1"/>
              <p:nvPr/>
            </p:nvSpPr>
            <p:spPr>
              <a:xfrm>
                <a:off x="2050920" y="278136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" name="Text Box 27"/>
          <p:cNvSpPr/>
          <p:nvPr/>
        </p:nvSpPr>
        <p:spPr>
          <a:xfrm>
            <a:off x="0" y="342900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словие прямолиней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0" y="429264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тела и действующая на тело сила направлена вдоль одной пря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9"/>
          <p:cNvSpPr/>
          <p:nvPr/>
        </p:nvSpPr>
        <p:spPr>
          <a:xfrm>
            <a:off x="5724360" y="318924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0"/>
          <p:cNvSpPr/>
          <p:nvPr/>
        </p:nvSpPr>
        <p:spPr>
          <a:xfrm>
            <a:off x="5796000" y="32608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1"/>
          <p:cNvSpPr/>
          <p:nvPr/>
        </p:nvSpPr>
        <p:spPr>
          <a:xfrm>
            <a:off x="7020000" y="3044880"/>
            <a:ext cx="431640" cy="43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5435640" y="33321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7524720" y="30448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V="1">
            <a:off x="7308720" y="2540160"/>
            <a:ext cx="0" cy="528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8"/>
              <p:cNvSpPr txBox="1"/>
              <p:nvPr/>
            </p:nvSpPr>
            <p:spPr>
              <a:xfrm>
                <a:off x="7380360" y="254160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1" name="AutoShape 39"/>
          <p:cNvSpPr/>
          <p:nvPr/>
        </p:nvSpPr>
        <p:spPr>
          <a:xfrm>
            <a:off x="7236000" y="21812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7164360" y="17478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H="1">
            <a:off x="5796000" y="2421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 flipH="1">
            <a:off x="6372000" y="2421000"/>
            <a:ext cx="431640" cy="360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3"/>
              <p:cNvSpPr txBox="1"/>
              <p:nvPr/>
            </p:nvSpPr>
            <p:spPr>
              <a:xfrm>
                <a:off x="5940360" y="2060640"/>
                <a:ext cx="719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Line 44"/>
          <p:cNvSpPr/>
          <p:nvPr/>
        </p:nvSpPr>
        <p:spPr>
          <a:xfrm flipH="1" flipV="1">
            <a:off x="6516360" y="2060280"/>
            <a:ext cx="360360" cy="360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5"/>
              <p:cNvSpPr txBox="1"/>
              <p:nvPr/>
            </p:nvSpPr>
            <p:spPr>
              <a:xfrm>
                <a:off x="6516720" y="170028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46"/>
          <p:cNvSpPr/>
          <p:nvPr/>
        </p:nvSpPr>
        <p:spPr>
          <a:xfrm>
            <a:off x="4716360" y="371628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словие криволиней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4788000" y="4653000"/>
            <a:ext cx="43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и действующая на тело сила, должны быть направлены вдоль пересекающихся прям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47636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Elec"/>
          <p:cNvPicPr/>
          <p:nvPr/>
        </p:nvPicPr>
        <p:blipFill>
          <a:blip r:embed="rId1"/>
          <a:stretch/>
        </p:blipFill>
        <p:spPr>
          <a:xfrm>
            <a:off x="395280" y="1125360"/>
            <a:ext cx="2519280" cy="189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к7"/>
          <p:cNvPicPr/>
          <p:nvPr/>
        </p:nvPicPr>
        <p:blipFill>
          <a:blip r:embed="rId2"/>
          <a:srcRect l="3106" t="0" r="1953" b="4116"/>
          <a:stretch/>
        </p:blipFill>
        <p:spPr>
          <a:xfrm>
            <a:off x="3348000" y="2492280"/>
            <a:ext cx="2449440" cy="237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annon"/>
          <p:cNvPicPr/>
          <p:nvPr/>
        </p:nvPicPr>
        <p:blipFill>
          <a:blip r:embed="rId3"/>
          <a:stretch/>
        </p:blipFill>
        <p:spPr>
          <a:xfrm>
            <a:off x="6156360" y="1413000"/>
            <a:ext cx="2663640" cy="199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к5"/>
          <p:cNvPicPr/>
          <p:nvPr/>
        </p:nvPicPr>
        <p:blipFill>
          <a:blip r:embed="rId4"/>
          <a:srcRect l="4632" t="10395" r="9264" b="7796"/>
          <a:stretch/>
        </p:blipFill>
        <p:spPr>
          <a:xfrm>
            <a:off x="684360" y="4292640"/>
            <a:ext cx="2165040" cy="183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6"/>
          <p:cNvPicPr/>
          <p:nvPr/>
        </p:nvPicPr>
        <p:blipFill>
          <a:blip r:embed="rId5"/>
          <a:srcRect l="9264" t="10194" r="11579" b="12742"/>
          <a:stretch/>
        </p:blipFill>
        <p:spPr>
          <a:xfrm>
            <a:off x="6659640" y="4581360"/>
            <a:ext cx="19558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50920" y="6021360"/>
            <a:ext cx="295272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3203640" y="6165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3851280" y="616572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572000" y="6165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V="1">
            <a:off x="5219640" y="6093000"/>
            <a:ext cx="360360" cy="7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5724360" y="5949720"/>
            <a:ext cx="287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6156360" y="5516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6659640" y="4941360"/>
            <a:ext cx="14436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 flipV="1">
            <a:off x="6877080" y="443700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6804000" y="357336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rot="20061600">
            <a:off x="4571640" y="3284280"/>
            <a:ext cx="770040" cy="1511280"/>
          </a:xfrm>
          <a:prstGeom prst="rect">
            <a:avLst/>
          </a:prstGeom>
          <a:solidFill>
            <a:srgbClr val="634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rot="20056200">
            <a:off x="3924000" y="1915920"/>
            <a:ext cx="770040" cy="1490400"/>
          </a:xfrm>
          <a:prstGeom prst="rect">
            <a:avLst/>
          </a:prstGeom>
          <a:solidFill>
            <a:srgbClr val="f968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1908000" y="189000"/>
            <a:ext cx="4751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тол (вид сверху)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26836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35280" y="170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68360" y="4437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лонный    жел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012000" y="1413000"/>
            <a:ext cx="31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рик, скатившийся с жел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9"/>
          <p:cNvSpPr/>
          <p:nvPr/>
        </p:nvSpPr>
        <p:spPr>
          <a:xfrm>
            <a:off x="468360" y="5734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8.20809E-006 C 0.18853 0.01017 0.37725 0.02034 0.47933 -8.20809E-006 C 0.58142 -0.02035 0.57742 -0.07029 0.61267 -0.12278 C 0.64791 -0.17527 0.67742 -0.28301 0.69044 -0.31515 E">
                                      <p:cBhvr>
                                        <p:cTn id="3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к14"/>
          <p:cNvPicPr/>
          <p:nvPr/>
        </p:nvPicPr>
        <p:blipFill>
          <a:blip r:embed="rId1"/>
          <a:srcRect l="0" t="5375" r="0" b="0"/>
          <a:stretch/>
        </p:blipFill>
        <p:spPr>
          <a:xfrm>
            <a:off x="0" y="0"/>
            <a:ext cx="4067280" cy="3316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140360" y="836640"/>
            <a:ext cx="453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ую кривую можно всегда представить как совокупность дуг окружностей различных радиу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00000" y="342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риволинейном движении мен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5640" y="3860640"/>
            <a:ext cx="7164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. Координаты Х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. Направление дви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. Направление и модуль скорости и уско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0920" y="544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волинейное движение – это всегда движение с ускорением, даже если по модулю скорость не меня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50920" y="544500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108000" y="544500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гновенная скорость тела в любой точке траектории направлена по касательной к траектории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к11"/>
          <p:cNvPicPr/>
          <p:nvPr/>
        </p:nvPicPr>
        <p:blipFill>
          <a:blip r:embed="rId1"/>
          <a:stretch/>
        </p:blipFill>
        <p:spPr>
          <a:xfrm>
            <a:off x="395280" y="1341360"/>
            <a:ext cx="2660760" cy="3527640"/>
          </a:xfrm>
          <a:prstGeom prst="rect">
            <a:avLst/>
          </a:prstGeom>
          <a:ln w="0">
            <a:noFill/>
          </a:ln>
        </p:spPr>
      </p:pic>
      <p:sp>
        <p:nvSpPr>
          <p:cNvPr id="143" name="Блок-схема: узел 5"/>
          <p:cNvSpPr/>
          <p:nvPr/>
        </p:nvSpPr>
        <p:spPr>
          <a:xfrm>
            <a:off x="1908000" y="2565360"/>
            <a:ext cx="216000" cy="142920"/>
          </a:xfrm>
          <a:prstGeom prst="flowChartConnector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узел 6"/>
          <p:cNvSpPr/>
          <p:nvPr/>
        </p:nvSpPr>
        <p:spPr>
          <a:xfrm>
            <a:off x="2060640" y="2492280"/>
            <a:ext cx="216000" cy="144720"/>
          </a:xfrm>
          <a:prstGeom prst="flowChartConnector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7"/>
          <p:cNvSpPr/>
          <p:nvPr/>
        </p:nvSpPr>
        <p:spPr>
          <a:xfrm>
            <a:off x="1979640" y="2565360"/>
            <a:ext cx="216000" cy="142920"/>
          </a:xfrm>
          <a:prstGeom prst="flowChartConnector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вномерное движение по окру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движение по окружности с постоянной по модулю скор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755640" y="1125360"/>
                <a:ext cx="31687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υ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4788000" y="1413000"/>
                <a:ext cx="21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AutoShape 5"/>
          <p:cNvSpPr/>
          <p:nvPr/>
        </p:nvSpPr>
        <p:spPr>
          <a:xfrm>
            <a:off x="539640" y="2708280"/>
            <a:ext cx="3097440" cy="1873080"/>
          </a:xfrm>
          <a:custGeom>
            <a:avLst/>
            <a:gdLst>
              <a:gd name="textAreaLeft" fmla="*/ 11880 w 3097440"/>
              <a:gd name="textAreaRight" fmla="*/ 3085560 w 3097440"/>
              <a:gd name="textAreaTop" fmla="*/ 0 h 1873080"/>
              <a:gd name="textAreaBottom" fmla="*/ 1050120 h 1873080"/>
            </a:gdLst>
            <a:ahLst/>
            <a:rect l="textAreaLeft" t="textAreaTop" r="textAreaRight" b="textAreaBottom"/>
            <a:pathLst>
              <a:path w="21600" h="21600">
                <a:moveTo>
                  <a:pt x="399" y="9216"/>
                </a:moveTo>
                <a:cubicBezTo>
                  <a:pt x="1182" y="4076"/>
                  <a:pt x="5601" y="279"/>
                  <a:pt x="10800" y="280"/>
                </a:cubicBezTo>
                <a:cubicBezTo>
                  <a:pt x="15998" y="280"/>
                  <a:pt x="20417" y="4076"/>
                  <a:pt x="21200" y="9216"/>
                </a:cubicBezTo>
                <a:lnTo>
                  <a:pt x="21476" y="9173"/>
                </a:lnTo>
                <a:cubicBezTo>
                  <a:pt x="20673" y="3898"/>
                  <a:pt x="16136" y="-1"/>
                  <a:pt x="10799" y="0"/>
                </a:cubicBezTo>
                <a:cubicBezTo>
                  <a:pt x="5463" y="0"/>
                  <a:pt x="926" y="3898"/>
                  <a:pt x="123" y="917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050920" y="4292640"/>
            <a:ext cx="7164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1258920" y="285264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187280" y="278136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55640" y="234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124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25892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27640" y="2349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диус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1258920" y="2491920"/>
            <a:ext cx="936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384200" y="2060640"/>
                <a:ext cx="498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4427640" y="2781360"/>
                <a:ext cx="498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Text Box 16"/>
          <p:cNvSpPr/>
          <p:nvPr/>
        </p:nvSpPr>
        <p:spPr>
          <a:xfrm>
            <a:off x="4859280" y="2997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чальная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/>
          <p:cNvSpPr/>
          <p:nvPr/>
        </p:nvSpPr>
        <p:spPr>
          <a:xfrm>
            <a:off x="2484360" y="270828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627280" y="22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556000" y="2781360"/>
            <a:ext cx="100800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0"/>
              <p:cNvSpPr txBox="1"/>
              <p:nvPr/>
            </p:nvSpPr>
            <p:spPr>
              <a:xfrm>
                <a:off x="3097080" y="2352600"/>
                <a:ext cx="420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1"/>
              <p:cNvSpPr txBox="1"/>
              <p:nvPr/>
            </p:nvSpPr>
            <p:spPr>
              <a:xfrm>
                <a:off x="4500720" y="3429000"/>
                <a:ext cx="420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6" name="Text Box 22"/>
          <p:cNvSpPr/>
          <p:nvPr/>
        </p:nvSpPr>
        <p:spPr>
          <a:xfrm>
            <a:off x="4932360" y="350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ечная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1258920" y="2852640"/>
            <a:ext cx="1008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195640" y="2492280"/>
            <a:ext cx="0" cy="433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5"/>
              <p:cNvSpPr txBox="1"/>
              <p:nvPr/>
            </p:nvSpPr>
            <p:spPr>
              <a:xfrm>
                <a:off x="2124000" y="213372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0" name="Line 26"/>
          <p:cNvSpPr/>
          <p:nvPr/>
        </p:nvSpPr>
        <p:spPr>
          <a:xfrm flipV="1">
            <a:off x="2050920" y="2925360"/>
            <a:ext cx="14472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7"/>
              <p:cNvSpPr txBox="1"/>
              <p:nvPr/>
            </p:nvSpPr>
            <p:spPr>
              <a:xfrm>
                <a:off x="4284720" y="3933720"/>
                <a:ext cx="23032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2" name="Text Box 28"/>
          <p:cNvSpPr/>
          <p:nvPr/>
        </p:nvSpPr>
        <p:spPr>
          <a:xfrm>
            <a:off x="108000" y="4941720"/>
            <a:ext cx="889308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вномерном движении по окружности его ускорение во всех точках окружности устремлено к центру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центростремительное уско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центростремительное уск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9"/>
              <p:cNvSpPr txBox="1"/>
              <p:nvPr/>
            </p:nvSpPr>
            <p:spPr>
              <a:xfrm>
                <a:off x="826920" y="6093000"/>
                <a:ext cx="5097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Rectangle 30"/>
          <p:cNvSpPr/>
          <p:nvPr/>
        </p:nvSpPr>
        <p:spPr>
          <a:xfrm>
            <a:off x="144360" y="1197000"/>
            <a:ext cx="8820360" cy="360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826920" y="2276640"/>
            <a:ext cx="2016360" cy="187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1763640" y="314172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1476360" y="220500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"/>
          <p:cNvSpPr/>
          <p:nvPr/>
        </p:nvSpPr>
        <p:spPr>
          <a:xfrm>
            <a:off x="2700360" y="278136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5"/>
          <p:cNvSpPr/>
          <p:nvPr/>
        </p:nvSpPr>
        <p:spPr>
          <a:xfrm>
            <a:off x="2050920" y="400536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755640" y="335772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1547640" y="2276640"/>
            <a:ext cx="28764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1835280" y="285228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9"/>
          <p:cNvSpPr/>
          <p:nvPr/>
        </p:nvSpPr>
        <p:spPr>
          <a:xfrm flipH="1" flipV="1">
            <a:off x="1835280" y="321264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0"/>
          <p:cNvSpPr/>
          <p:nvPr/>
        </p:nvSpPr>
        <p:spPr>
          <a:xfrm flipV="1">
            <a:off x="826920" y="321300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1"/>
          <p:cNvSpPr/>
          <p:nvPr/>
        </p:nvSpPr>
        <p:spPr>
          <a:xfrm flipV="1">
            <a:off x="1547640" y="2133360"/>
            <a:ext cx="648000" cy="142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2771640" y="2852640"/>
            <a:ext cx="36036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3"/>
          <p:cNvSpPr/>
          <p:nvPr/>
        </p:nvSpPr>
        <p:spPr>
          <a:xfrm flipH="1">
            <a:off x="1476000" y="4149720"/>
            <a:ext cx="647640" cy="142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4"/>
          <p:cNvSpPr/>
          <p:nvPr/>
        </p:nvSpPr>
        <p:spPr>
          <a:xfrm flipH="1" flipV="1">
            <a:off x="684360" y="2852280"/>
            <a:ext cx="14256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5"/>
              <p:cNvSpPr txBox="1"/>
              <p:nvPr/>
            </p:nvSpPr>
            <p:spPr>
              <a:xfrm>
                <a:off x="1547640" y="1700280"/>
                <a:ext cx="409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6"/>
              <p:cNvSpPr txBox="1"/>
              <p:nvPr/>
            </p:nvSpPr>
            <p:spPr>
              <a:xfrm>
                <a:off x="3059280" y="2781360"/>
                <a:ext cx="409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7"/>
              <p:cNvSpPr txBox="1"/>
              <p:nvPr/>
            </p:nvSpPr>
            <p:spPr>
              <a:xfrm>
                <a:off x="2050920" y="4076640"/>
                <a:ext cx="409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8"/>
              <p:cNvSpPr txBox="1"/>
              <p:nvPr/>
            </p:nvSpPr>
            <p:spPr>
              <a:xfrm>
                <a:off x="179280" y="2925720"/>
                <a:ext cx="409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3" name="Line 49"/>
          <p:cNvSpPr/>
          <p:nvPr/>
        </p:nvSpPr>
        <p:spPr>
          <a:xfrm>
            <a:off x="1547640" y="2349360"/>
            <a:ext cx="144720" cy="432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0"/>
          <p:cNvSpPr/>
          <p:nvPr/>
        </p:nvSpPr>
        <p:spPr>
          <a:xfrm flipH="1">
            <a:off x="2268360" y="2852640"/>
            <a:ext cx="432000" cy="216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1"/>
          <p:cNvSpPr/>
          <p:nvPr/>
        </p:nvSpPr>
        <p:spPr>
          <a:xfrm flipH="1" flipV="1">
            <a:off x="1979280" y="3644640"/>
            <a:ext cx="144360" cy="43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2"/>
          <p:cNvSpPr/>
          <p:nvPr/>
        </p:nvSpPr>
        <p:spPr>
          <a:xfrm flipV="1">
            <a:off x="826920" y="3284280"/>
            <a:ext cx="576360" cy="144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3"/>
              <p:cNvSpPr txBox="1"/>
              <p:nvPr/>
            </p:nvSpPr>
            <p:spPr>
              <a:xfrm>
                <a:off x="1692360" y="2276640"/>
                <a:ext cx="565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4"/>
              <p:cNvSpPr txBox="1"/>
              <p:nvPr/>
            </p:nvSpPr>
            <p:spPr>
              <a:xfrm>
                <a:off x="2340000" y="2852640"/>
                <a:ext cx="565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55"/>
              <p:cNvSpPr txBox="1"/>
              <p:nvPr/>
            </p:nvSpPr>
            <p:spPr>
              <a:xfrm>
                <a:off x="1547640" y="3500280"/>
                <a:ext cx="565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6"/>
              <p:cNvSpPr txBox="1"/>
              <p:nvPr/>
            </p:nvSpPr>
            <p:spPr>
              <a:xfrm>
                <a:off x="900000" y="2781360"/>
                <a:ext cx="565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1" name="Text Box 57"/>
          <p:cNvSpPr/>
          <p:nvPr/>
        </p:nvSpPr>
        <p:spPr>
          <a:xfrm>
            <a:off x="3851280" y="18302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юбой точке траект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58"/>
              <p:cNvSpPr txBox="1"/>
              <p:nvPr/>
            </p:nvSpPr>
            <p:spPr>
              <a:xfrm>
                <a:off x="5197320" y="2948040"/>
                <a:ext cx="16844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3" name="AutoShape 60"/>
          <p:cNvSpPr/>
          <p:nvPr/>
        </p:nvSpPr>
        <p:spPr>
          <a:xfrm>
            <a:off x="7596360" y="3573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301"/>
                </a:moveTo>
                <a:lnTo>
                  <a:pt x="7803" y="7301"/>
                </a:lnTo>
                <a:lnTo>
                  <a:pt x="8186" y="7667"/>
                </a:lnTo>
                <a:lnTo>
                  <a:pt x="17395" y="7667"/>
                </a:lnTo>
                <a:lnTo>
                  <a:pt x="17952" y="8224"/>
                </a:lnTo>
                <a:lnTo>
                  <a:pt x="17952" y="8772"/>
                </a:lnTo>
                <a:lnTo>
                  <a:pt x="19797" y="8772"/>
                </a:lnTo>
                <a:lnTo>
                  <a:pt x="20162" y="8224"/>
                </a:lnTo>
                <a:lnTo>
                  <a:pt x="20902" y="8224"/>
                </a:lnTo>
                <a:lnTo>
                  <a:pt x="20902" y="13376"/>
                </a:lnTo>
                <a:lnTo>
                  <a:pt x="20162" y="13376"/>
                </a:lnTo>
                <a:lnTo>
                  <a:pt x="19797" y="12828"/>
                </a:lnTo>
                <a:lnTo>
                  <a:pt x="17952" y="12828"/>
                </a:lnTo>
                <a:lnTo>
                  <a:pt x="17952" y="14107"/>
                </a:lnTo>
                <a:lnTo>
                  <a:pt x="8369" y="14107"/>
                </a:lnTo>
                <a:lnTo>
                  <a:pt x="8369" y="9877"/>
                </a:lnTo>
                <a:lnTo>
                  <a:pt x="8186" y="9877"/>
                </a:lnTo>
                <a:lnTo>
                  <a:pt x="7803" y="10243"/>
                </a:lnTo>
                <a:lnTo>
                  <a:pt x="688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09:21Z</dcterms:created>
  <dc:creator>Andrei</dc:creator>
  <dc:description/>
  <dc:language>en-US</dc:language>
  <cp:lastModifiedBy>Большаковы</cp:lastModifiedBy>
  <dcterms:modified xsi:type="dcterms:W3CDTF">2011-12-04T12:25:52Z</dcterms:modified>
  <cp:revision>16</cp:revision>
  <dc:subject/>
  <dc:title>Слайд 1</dc:title>
</cp:coreProperties>
</file>