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2F7C-A0DA-418C-A902-283ACFE7C7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0127-6C24-418A-91B1-20400ECEF2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3C0-EF42-46AD-91E7-9C992FF0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912-0AB0-441A-9AB7-E5AB8B6F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D88-9C71-4647-80CA-0B7E587B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711-3CFC-4B7E-8092-72DFB949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EE99-1495-45E7-B41D-98081B87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1CBE-C969-4FEF-B705-1DBFE826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D001-4DC4-4891-A3AB-E1C35DDF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3A50-D7F0-4E68-B472-65C2BCE7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39C7-E2C4-45B6-B5D1-10213E25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19D9-D1D8-4261-99B4-2A83F500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1B6B-7873-4C21-A590-E1BCA883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8D0-EC82-4700-B716-BABC1FF7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CA3B-A4E2-4EEF-BD85-0184480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EF27-5079-4000-AD4B-D3AAAE99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D5C5-CE2D-47EE-8E51-AF9D93E4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49BD-5169-4C92-B035-7412667A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06D6-3346-45B7-AD59-95B1D46B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01D-A3DF-44F7-BB01-224BC9B8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4E3-A688-49CC-98A1-1703E9C3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047-E52C-443E-BF83-0239FE7E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DC7-C3C5-49D3-BAA9-BEE78E07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4B3-A898-4BBD-8736-F8DC4980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FBF-8140-457D-BEEC-FEACF98B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C64-7E21-4061-A4B1-9A0ADB0E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FA22-97B5-4AAF-BF49-BE102E9452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CAFA-F0B4-4862-AE95-DB498BFE62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ogika.vobrazovanie.ru/index.php?link=eyler.html&amp;&amp;a=kr_e.htm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26_&#1075;&#1086;&#1076;" TargetMode="External"/><Relationship Id="rId2" Type="http://schemas.openxmlformats.org/officeDocument/2006/relationships/hyperlink" Target="http://ru.wikipedia.org/wiki/&#1057;&#1072;&#1085;&#1082;&#1090;-&#1055;&#1077;&#1090;&#1077;&#1088;&#1073;&#1091;&#1088;&#1075;" TargetMode="External"/><Relationship Id="rId3" Type="http://schemas.openxmlformats.org/officeDocument/2006/relationships/hyperlink" Target="http://ru.wikipedia.org/wiki/1731" TargetMode="External"/><Relationship Id="rId4" Type="http://schemas.openxmlformats.org/officeDocument/2006/relationships/hyperlink" Target="http://ru.wikipedia.org/wiki/1741" TargetMode="External"/><Relationship Id="rId5" Type="http://schemas.openxmlformats.org/officeDocument/2006/relationships/hyperlink" Target="http://ru.wikipedia.org/wiki/1766_&#1075;&#1086;&#1076;" TargetMode="External"/><Relationship Id="rId6" Type="http://schemas.openxmlformats.org/officeDocument/2006/relationships/hyperlink" Target="http://ru.wikipedia.org/wiki/&#1057;&#1072;&#1085;&#1082;&#1090;-&#1055;&#1077;&#1090;&#1077;&#1088;&#1073;&#1091;&#1088;&#1075;&#1089;&#1082;&#1072;&#1103;_&#1040;&#1082;&#1072;&#1076;&#1077;&#1084;&#1080;&#1103;_&#1053;&#1072;&#1091;&#1082;" TargetMode="External"/><Relationship Id="rId7" Type="http://schemas.openxmlformats.org/officeDocument/2006/relationships/hyperlink" Target="http://ru.wikipedia.org/wiki/1741" TargetMode="External"/><Relationship Id="rId8" Type="http://schemas.openxmlformats.org/officeDocument/2006/relationships/hyperlink" Target="http://ru.wikipedia.org/wiki/1766_&#1075;&#1086;&#1076;" TargetMode="External"/><Relationship Id="rId9" Type="http://schemas.openxmlformats.org/officeDocument/2006/relationships/hyperlink" Target="http://ru.wikipedia.org/wiki/&#1041;&#1077;&#1088;&#1083;&#1080;&#1085;" TargetMode="External"/><Relationship Id="rId10" Type="http://schemas.openxmlformats.org/officeDocument/2006/relationships/hyperlink" Target="http://ru.wikipedia.org/wiki/&#1056;&#1091;&#1089;&#1089;&#1082;&#1080;&#1081;_&#1103;&#1079;&#1099;&#1082;" TargetMode="External"/><Relationship Id="rId11" Type="http://schemas.openxmlformats.org/officeDocument/2006/relationships/hyperlink" Target="http://ru.wikipedia.org/wiki/&#1050;&#1086;&#1090;&#1077;&#1083;&#1100;&#1085;&#1080;&#1082;&#1086;&#1074;,_&#1057;&#1077;&#1084;&#1105;&#1085;_&#1050;&#1080;&#1088;&#1080;&#1083;&#1083;&#1086;&#1074;&#1080;&#1095;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«КРУГИ ЭЙЛЕР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уги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Эйл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геометрическая схема, с помощью которой можно изобразить отношения между подмножествами, для наглядного представления  о чем-либо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18"/>
          <p:cNvPicPr/>
          <p:nvPr/>
        </p:nvPicPr>
        <p:blipFill>
          <a:blip r:embed="rId1"/>
          <a:stretch/>
        </p:blipFill>
        <p:spPr>
          <a:xfrm>
            <a:off x="1835280" y="476280"/>
            <a:ext cx="5267160" cy="23335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7"/>
          <p:cNvSpPr/>
          <p:nvPr/>
        </p:nvSpPr>
        <p:spPr>
          <a:xfrm>
            <a:off x="684360" y="317808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8 – (11 + 3 + 1 + 6 + 2 + 7) = 8 – человек смотрят только «Губка Боб Квадратные Штаны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аем вывод, что «Губка Боб Квадратные Штаны» выбрали 8 + 2 + 1 + 6 = 17 человек.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твет. 17 человек выбрали мультфильм «Губка Боб Квадратные Штаны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«Мир музыки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агазин «Мир музыки» пришло 35 покупателей. Из них 20 человек купили новый диск певицы Максим, 11 – диск Земфиры, 10 человек не купили ни одного диска. Сколько человек купили диски и Максим, и Земфиры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шение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Изобразим эти множества на кругах Эйлер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4" descr="19"/>
          <p:cNvPicPr/>
          <p:nvPr/>
        </p:nvPicPr>
        <p:blipFill>
          <a:blip r:embed="rId1"/>
          <a:stretch/>
        </p:blipFill>
        <p:spPr>
          <a:xfrm>
            <a:off x="2664000" y="2803680"/>
            <a:ext cx="3816000" cy="21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ерь посчитаем: Всего внутри большого круга 35 покупателей, внутри двух меньших 35–10=25 покупателей. По условию задачи 20 покупателей купили новый диск певицы Максим, следовательно, 25 – 20 = 5 покупателей купили только диск Земфиры. А в задаче сказано, что 11 покупателей купили диск Земфиры, значит 11 – 5 = 6 покупателей купили диски и Максим, и Земфир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20"/>
          <p:cNvPicPr/>
          <p:nvPr/>
        </p:nvPicPr>
        <p:blipFill>
          <a:blip r:embed="rId1"/>
          <a:stretch/>
        </p:blipFill>
        <p:spPr>
          <a:xfrm>
            <a:off x="2484360" y="907920"/>
            <a:ext cx="3819600" cy="2114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1116360" y="4365000"/>
            <a:ext cx="67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твет: 6 покупателей купили диски и Максим, и Земфир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Гарри Поттер, Рон и Гермиона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полке стояло 26 волшебных книг по заклинаниям, все они были прочитаны. Из них 4 прочитал и Гарри Поттер, и Рон. Гермиона прочитала 7 книг, которых не читали ни Гарри Поттер, ни Рон, и две книги, которые читал Гарри Поттер. Всего Гарри Поттер прочитал 11 книг. Сколько книг прочитал только Рон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Решение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Учитывая условия задачи, чертеж будет таков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4" descr="21"/>
          <p:cNvPicPr/>
          <p:nvPr/>
        </p:nvPicPr>
        <p:blipFill>
          <a:blip r:embed="rId1"/>
          <a:stretch/>
        </p:blipFill>
        <p:spPr>
          <a:xfrm>
            <a:off x="2857680" y="3105000"/>
            <a:ext cx="342900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как Гарри Поттер всего прочитал 11 книг, из них 4 книги читал Рон и 2 книги – Гермиона, то 11 – 4 – 2 = 5 – книг прочитал только Гарри. Следователь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6 – 7 – 2 – 5 – 4 = 8 – книг прочитал только Рон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твет. 8 книг прочитал только Р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Пионерский лагерь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ионерском лагере 70 ребят. Из них 27 занимаются в драмкружке, 32 поют в хоре, 22 увлекаются спортом. В драмкружке 10 ребят из хора, в хоре 6 спортсменов, в драмкружке 8 спортсменов; 3 спортсмена посещают и драмкружок и хор. Сколько ребят не поют, не увлекаются спортом, не занимаются в драмкружке? Сколько ребят заняты только спорто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ешение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зобразим множества следующим образом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4" descr="22"/>
          <p:cNvPicPr/>
          <p:nvPr/>
        </p:nvPicPr>
        <p:blipFill>
          <a:blip r:embed="rId1"/>
          <a:stretch/>
        </p:blipFill>
        <p:spPr>
          <a:xfrm>
            <a:off x="2827440" y="2728800"/>
            <a:ext cx="34923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5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33564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0 – (6 + 8 + 10 + 3 + 13 + 6 + 5) = 19 – ребят не поют, не увлекаются спортом, не занимаются в драмкружке. Только спортом заняты 5 челове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твет. 5 человек заняты только спор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Экстрим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100 ребят, отправляющихся в детский оздоровительный лагерь, кататься на сноуборде умеют 30 ребят, на скейтборде – 28, на роликах – 42. На скейтборде и на сноуборде умеют кататься 8 ребят, на скейтборде и на роликах – 10, на сноуборде и на роликах – 5, а на всех трех – 3. Сколько ребят не умеют кататься ни на сноуборде, ни на скейтборде, ни на роли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Picture 4" descr="23"/>
          <p:cNvPicPr/>
          <p:nvPr/>
        </p:nvPicPr>
        <p:blipFill>
          <a:blip r:embed="rId1"/>
          <a:stretch/>
        </p:blipFill>
        <p:spPr>
          <a:xfrm>
            <a:off x="2665440" y="2606760"/>
            <a:ext cx="368928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ми тремя спортивными снарядами владеют три человека, значит, в общей части кругов вписываем число 3. На скейтборде и на роликах умеют кататься 10 человек, а 3 из них катаются еще и на сноуборде. Следовательно, кататься только на скейтборде и на роликах умеют 10-3=7 ребят. Аналогично получаем, что только на скейтборде и на сноуборде умеют кататься 8-3=5 ребят, а только на сноуборде и на роликах 5-3=2 человека. Внесем эти данные в соответствующие части. Определим теперь, сколько человек умеют кататься только на одном спортивном снаряде. Кататься на сноуборде умеют 30 человек, но 5+3+2=10 из них владеют и другими снарядами, следовательно, только на сноуборде умеют кататься 20 ребят. Аналогично получаем, что только на скейтборде умеют кататься 13 ребят, а только на роликах – 30 ребят. По условию задачи всего 100 ребят. 20+13+30+5+7+2+3=80 – ребят умеют кататься хотя бы на одном спортивном снаряде. Следовательно, 20 человек не умеют кататься ни на одном спортивном снаряд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твет. 20 человек не умеют кататься ни на одном спортивном снаряд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орт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1547640" y="1557360"/>
            <a:ext cx="5688360" cy="496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2050920" y="2276640"/>
            <a:ext cx="4681800" cy="403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2627280" y="3213000"/>
            <a:ext cx="151308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3348000" y="3716280"/>
            <a:ext cx="151128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2556000" y="4076640"/>
            <a:ext cx="1224000" cy="1297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3564000" y="2997360"/>
            <a:ext cx="1295280" cy="115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3276720" y="1916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пта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5003640" y="39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скетбол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277164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334800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370836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2700360" y="472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г ат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851280" y="4570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3995640" y="3274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ильмы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1476360" y="2637000"/>
            <a:ext cx="2374920" cy="252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5"/>
          <p:cNvSpPr/>
          <p:nvPr/>
        </p:nvSpPr>
        <p:spPr>
          <a:xfrm>
            <a:off x="2987640" y="2421000"/>
            <a:ext cx="2449440" cy="2519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2484360" y="3789360"/>
            <a:ext cx="2303640" cy="259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169236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ль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995640" y="35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во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20364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700360" y="47862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2843280" y="5589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а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Школьные предметы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1619280" y="1197000"/>
            <a:ext cx="5832360" cy="532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2627280" y="2492280"/>
            <a:ext cx="1944720" cy="208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4572000" y="2492280"/>
            <a:ext cx="2016000" cy="201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3059280" y="2997360"/>
            <a:ext cx="115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ман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788000" y="306864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298764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. сбере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2843280" y="49417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Овал 10"/>
          <p:cNvSpPr/>
          <p:nvPr/>
        </p:nvSpPr>
        <p:spPr>
          <a:xfrm>
            <a:off x="2050920" y="1700280"/>
            <a:ext cx="4897440" cy="4392720"/>
          </a:xfrm>
          <a:prstGeom prst="ellipse">
            <a:avLst/>
          </a:prstGeom>
          <a:noFill/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обби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1403280" y="1268280"/>
            <a:ext cx="6264360" cy="540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1619280" y="1700280"/>
            <a:ext cx="5832360" cy="439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2340000" y="3284640"/>
            <a:ext cx="1655640" cy="15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3419640" y="2997360"/>
            <a:ext cx="1657080" cy="1584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3059280" y="3933720"/>
            <a:ext cx="165564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3276720" y="6093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3132000" y="609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ниги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514836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рт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3348000" y="4797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с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3635280" y="40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2484360" y="407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н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4067280" y="32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н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узык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Oval 4"/>
          <p:cNvSpPr/>
          <p:nvPr/>
        </p:nvSpPr>
        <p:spPr>
          <a:xfrm>
            <a:off x="1908000" y="2349360"/>
            <a:ext cx="1656000" cy="15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2268360" y="3429000"/>
            <a:ext cx="1440000" cy="1150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2987640" y="2637000"/>
            <a:ext cx="144000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3564000" y="3860640"/>
            <a:ext cx="1584360" cy="136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2268360" y="2852640"/>
            <a:ext cx="5749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059280" y="3429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635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э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255600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3708360" y="4365720"/>
            <a:ext cx="1368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ансо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ти полжизни провёл в России, где внёс существенный вклад в становление российской науки. В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1726 год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н был приглашён работать в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Санкт-Петербур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уда переехал годом позже. С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173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174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а также с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1766 г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ыл академиком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Петербургской Академии Нау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174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1766 год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ботал в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Берлин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ставаясь одновременно почётным членом Петербургской Академии). Хорошо знал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русский язы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часть своих сочинений (особенно учебники) публиковал на русском. Первые русские академики-математики (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С. К. Котельник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и астрономы (С. Я. Румовский) были учениками Эйлера. Некоторые из его потомков до сих пор живут в России.[2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"Обитаемый остров" и "Стиляги"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оторые ребята любят ходить в кино. Известно, что 15 ребят смотрели фильм «Обитаемый остров», 11 человек – фильм «Стиляги», из них 6 смотрели и «Обитаемый остров», и «Стиляги». Сколько человек смотрели только фильм «Стиляги»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14"/>
          <p:cNvPicPr/>
          <p:nvPr/>
        </p:nvPicPr>
        <p:blipFill>
          <a:blip r:embed="rId1"/>
          <a:stretch/>
        </p:blipFill>
        <p:spPr>
          <a:xfrm>
            <a:off x="2044800" y="2428920"/>
            <a:ext cx="5054400" cy="1525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1620360" y="836640"/>
            <a:ext cx="441576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тим два множества таким образом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50920" y="444672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 человек, которые смотрели фильмы «Обитаемый остров» и «Стиляги», помещаем в пересечение множест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 – 6 = 9 – человек, которые смотрели только «Обитаемый остров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 – 6 = 5 – человек, которые смотрели только «Стиляги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учаем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15"/>
          <p:cNvPicPr/>
          <p:nvPr/>
        </p:nvPicPr>
        <p:blipFill>
          <a:blip r:embed="rId1"/>
          <a:stretch/>
        </p:blipFill>
        <p:spPr>
          <a:xfrm>
            <a:off x="1835280" y="1197000"/>
            <a:ext cx="5057640" cy="1533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468360" y="440280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вет. 5 человек смотрели только «Стиляг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Любимые мультфильм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реди школьников шестого класса проводилось анкетирование по любимым мультфильмам. Самыми популярными оказались три мультфильма: «Белоснежка и семь гномов», «Губка Боб Квадратные Штаны», «Волк и теленок». Всего в классе 38 человек. «Белоснежку и семь гномов» выбрали 21 ученик, среди которых трое назвали еще «Волк и теленок», шестеро – «Губка Боб Квадратные Штаны», а один написал все три мультфильма. Мультфильм «Волк и теленок» назвали 13 ребят, среди которых пятеро выбрали сразу два мультфильма. Сколько человек выбрали мультфильм «Губка Боб Квадратные Штаны»?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ecff"/>
                </a:solidFill>
                <a:latin typeface="Arial"/>
              </a:rPr>
              <a:t>Решение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В этой задаче 3 множества, из условий задачи видно, что все они пересекаются между собой. Получаем такой чертеж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4" descr="16"/>
          <p:cNvPicPr/>
          <p:nvPr/>
        </p:nvPicPr>
        <p:blipFill>
          <a:blip r:embed="rId1"/>
          <a:stretch/>
        </p:blipFill>
        <p:spPr>
          <a:xfrm>
            <a:off x="1944720" y="2698920"/>
            <a:ext cx="525456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Учитывая условие, что среди ребят, которые назвали мультфильм «Волк и теленок» пятеро выбрали сразу два мультфильма, получаем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4" descr="17"/>
          <p:cNvPicPr/>
          <p:nvPr/>
        </p:nvPicPr>
        <p:blipFill>
          <a:blip r:embed="rId1"/>
          <a:stretch/>
        </p:blipFill>
        <p:spPr>
          <a:xfrm>
            <a:off x="1836720" y="2351160"/>
            <a:ext cx="5265720" cy="23223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612720" y="5084640"/>
            <a:ext cx="802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1 – 3 – 6 – 1 = 11 – ребят выбрали только «Белоснежку и семь гномов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 – 3 – 1 – 2 = 7 – ребят смотрят только «Волк и теленок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6:22:25Z</dcterms:created>
  <dc:creator>1</dc:creator>
  <dc:description/>
  <dc:language>en-US</dc:language>
  <cp:lastModifiedBy>VOA</cp:lastModifiedBy>
  <dcterms:modified xsi:type="dcterms:W3CDTF">2012-04-28T05:15:29Z</dcterms:modified>
  <cp:revision>40</cp:revision>
  <dc:subject/>
  <dc:title>«КРУГИ ЭЙЛЕРА»</dc:title>
</cp:coreProperties>
</file>