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575-3E4D-4D1E-9FA5-C76B0195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03D-616D-4B18-BE70-38AA72A4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6E6-876F-4A93-AD7D-05B66D0F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B42-F18B-4364-A777-41076F53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9479-FD16-45D3-95DC-869BAD7F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17EC-A520-4287-97C5-9CBFFC4F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C100-8811-4265-A467-C4210F14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2FA9-C44E-4270-96E6-41B52B94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6FF9-3914-4FBC-A43A-D7BB35F1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840D-393D-49B7-A86F-251904A7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39C1-E8CD-4A23-837B-09B5B68D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E1E-8B77-4CEB-B46D-1DD6E28E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FBB1-8142-49FA-852E-ED3AA85A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485A-8CA5-4C61-BE8B-86B89B9D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1112-5A5E-4658-8C47-6A46F9F1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44D7-93E7-41F0-A115-88C606A7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86EE-D050-4D0E-BD59-C2BDF078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B5D-CEF1-43CD-A564-62EE799B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047-30F5-43BD-A738-30B4A4E4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18F-0B10-45B7-8D93-18E46872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FAD-423D-44FB-BA62-470CCF33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E56-2812-4ECB-ACB3-4C38C666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E70-D8D0-4B3F-899C-42DDB76B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A5C-FAEF-4CF0-9C90-22131D83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A76A-544E-440D-940D-C6E48CA13FB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E689-5650-4135-B889-E4A2B2886B6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1996560"/>
            <a:ext cx="777708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Comic Sans MS"/>
              </a:rPr>
              <a:t>Кто хочет стать отличником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995640" y="5300280"/>
            <a:ext cx="4353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Подготовила учитель математики СОШ№11 Лапшова Татьяна Григорье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92282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Равенство двух отношени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Частно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ропорция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Тождество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Уравне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92282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Миллион миллионо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Биллион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Триллион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Квадроллион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Квинтиллион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1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92282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Подтверждение какого-либо положения фактами или доводами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Вывод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Синтез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Доказательство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Наглядность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Отборочный 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Расположите числа в порядке убывания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. О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B. 78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С. 35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Д. 12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Как называют числа, которые складывают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Делители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Частны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Множители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лагаемы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Число делится на 10, если запись оканчивается н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5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4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3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Автор учебника математики, по которому вы занимаетес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Виленкин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Атанасян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Никольски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Алиев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.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 Операция, обратная умножению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Умноже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ложе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Вычита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Деле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. Великое множество (в старину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Гущ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тог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Куч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Тьм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“Землемерие” в переводе на греческий язык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Геостанция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География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Геометрия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Геополитик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79280" y="277920"/>
            <a:ext cx="5040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Отборочный 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асположите числа в порядке возраст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. 7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. 10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. 12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. 2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Иллюстративная задач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оказ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Наказ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Выраже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ример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. Наука о числах и операциях над ним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Алгебр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Математик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Геометрия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Арифметик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. Метод, отыская простых чисел, называетс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Решето Эратосфен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Сито Евклида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Способ Архимед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Дуга Аристотеля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1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. Число, равное сумме всех его делителей, называетс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Точным числом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Абсолютным числом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овершенным числом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ростым числом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Отборочный 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Расположите числа в порядке возраста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А. 0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В. –5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С. 3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Д. –3126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колько сотен в числе 2961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Девять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Шесть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Дв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Одн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Число делится на 5, если его запись оканчивается н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3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2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5 и 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92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Число богатырей на известной картине В. Васнецов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3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6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5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2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92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Единственное простое   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                 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четное числ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2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8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92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чётная доска у древних греков и римлян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алочки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чёты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Абак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Калькулято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8487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вопрос №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1. Числа, которые употребляются при счёте, называются: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Натуральны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Дробны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Целы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Рациональны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92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.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озраст совершеннолети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6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8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2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21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92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.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Как называется целое число, краткое дву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росто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оставно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Нечётно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Чётно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92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Название знаменитой книги Евклид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Конец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Начало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Вступле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Оконча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92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Математическая зависимость, выраженная условными знакам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Равенство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Уравне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Формул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Закон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1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92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Округленное, не совсем точное, значение числ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окращённо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риближённое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Кротко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Уменьшенно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Отборочный 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Расположите числа в порядке убыва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А. 1/7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В. 1/6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С. 1/3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Д. 1/10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Полупрямая линия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Луч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Отрезок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Угол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Окружность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Расстояние от точки окружности до её центр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Радиус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Хорд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Диаметр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Отрезок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Расстояние от точки окружности до её центр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Радиус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Хорд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Диаметр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Отрезок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Наибольший общий делитель взаимно простых чисе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1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О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2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10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Как называется результат сложения двух чисел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Разность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Сумма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Произведени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Частно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Что у римлян обозначает слово “унция”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/2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/4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/3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/12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Как называется деление отрезка, при котором длина всего отрезка так относится к длине его большей части, как длин большей части к меньшей част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Серебряная пропорц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Золотое сечен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Золотая пропорц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Божественное сечен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Ни одно число нельзя делить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амо на себя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На 1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На 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На 1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Чему равно отношение чисел 20 и 4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80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6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24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5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Verdana"/>
              </a:rPr>
              <a:t>Результат вычитания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 Сумма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 Произведение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 Частное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 Разность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1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Наименьшее трёхзначное чётное числ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99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00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0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999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1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Наименьшее трёхзначное чётное числ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99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00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0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999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Отборочный 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Расположите числа в порядке возраста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А. 3/7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В. 1/7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С. 5/7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Д. 7/7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Кто способствовал признанию отрицательных чисел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Евклид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Виноградов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ифагор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Декарт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Как называют два числа, каждое из которых равно сумме делителей другого числа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Соседн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Приятельск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Дружественны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Товарищеск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Чему равно значение </a:t>
            </a: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                     </a:t>
            </a: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разности а – а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2а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а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–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Как называются многоугольники, у которых все стороны и углы равны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Точны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Красивы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Абсолютны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Правильны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“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Чёртова дюжина”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2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3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6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Неполное количество чего-нибудь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Избыток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Недостаток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Ущерб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Недостач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Куб единственного простого чётного числ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8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4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3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отая часть числа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Четверть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Десяток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роцент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оловин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Научное предложение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Гипотез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Открыт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равило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Вывод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. Разделение на множител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Группировк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очета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Разложе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ерестановк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1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Математическое равенство, в котором одна или несколько букв считаются неизвестными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Неравенство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Уравнен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Пример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Двойное неравенство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Как называется закон, </a:t>
            </a: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                   </a:t>
            </a: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а + в = в + а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Переместительны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Сочетательны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Распределительны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Заменительный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ff0066"/>
                </a:solidFill>
                <a:latin typeface="Verdana"/>
              </a:rPr>
              <a:t>20 = 6 * 3 + 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Verdana"/>
              </a:rPr>
              <a:t>2 есть... от деления числа 20 </a:t>
            </a: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                                  </a:t>
            </a:r>
            <a:r>
              <a:rPr b="0" lang="ru-RU" sz="3600" spc="-1" strike="noStrike">
                <a:solidFill>
                  <a:srgbClr val="ff0066"/>
                </a:solidFill>
                <a:latin typeface="Verdana"/>
              </a:rPr>
              <a:t>на число 6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Множитель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Остаток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Частное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Делитель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Положение, выражающее закономерность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Формула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. Анализ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Метод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равило.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. Русский математик - педагог XVII века, автор первого русского учебника арифметики, по которому учился М.В. Ломонос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Магницк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Толст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Ушинск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Карамзи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6:48:38Z</dcterms:created>
  <dc:creator>Таня</dc:creator>
  <dc:description/>
  <dc:language>en-US</dc:language>
  <cp:lastModifiedBy>Таня</cp:lastModifiedBy>
  <dcterms:modified xsi:type="dcterms:W3CDTF">2008-01-28T18:45:20Z</dcterms:modified>
  <cp:revision>2</cp:revision>
  <dc:subject/>
  <dc:title>Кто хочет стать отличником?</dc:title>
</cp:coreProperties>
</file>