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96A-F70E-4872-A560-D6DBA0DB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FA1A-F4F2-4AD3-AF13-0BE35448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121-8EB9-4BE1-B9DB-68F0BAAD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59AE-9847-45F9-A935-748716B0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2FD6-3A61-4F85-90BE-48911727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1C61-87C6-4C49-8525-60A3360A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0E86-13E8-415F-973E-F1E8BB65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1A78-5748-495B-AAD1-9D36C8C8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1B82-6BFF-4087-8EA0-D94EFCF3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B5A0-9E72-4505-9830-66757248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79D6-7B4D-4270-89D0-66C19130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85E-7B96-4DB5-9EB4-37CF5476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D9C3-0565-406C-87BD-4C607D3A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9E26-40E5-4FEF-8D84-84B80FB3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6CE8-26ED-48C9-89CD-2529AE4C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8AC1-C5E0-4C25-AD79-0A19FDA7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46B3-9606-4D69-B0A7-FB513D46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E3C-0ED5-4E9E-895D-3DC43BDE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67E-02CA-4D32-9937-6C3F8B38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483-23E6-479B-9208-7AA2A969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82B5-F296-447F-B143-7986B411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C454-0C19-4F47-BE12-BA9C7FF9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DEC-42A0-44C9-8396-3E40FD44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4FD6-E02B-4605-B783-56F43919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95FB-B91C-4BB2-BCB0-F909D41D348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F3F6-84DC-4A75-AF8C-F80DD592BE4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1996560"/>
            <a:ext cx="777708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Comic Sans MS"/>
              </a:rPr>
              <a:t>Кто хочет стать отличником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995640" y="5300280"/>
            <a:ext cx="4353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Подготовила учитель математики СОШ№11 Лапшова Татьяна Григорьев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820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8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92282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Равенство двух отношени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Частно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ропорция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Тождество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Уравне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820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9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92282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Миллион миллионо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Биллион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Триллион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Квадроллион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Квинтиллион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820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1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92282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Подтверждение какого-либо положения фактами или доводами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Вывод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Синтез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Доказательство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Наглядность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Отборочный ту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Расположите числа в порядке убывания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. О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B. 78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С. 35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Д. 12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Как называют числа, которые складывают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Делители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Частны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Множители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Слагаемы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Число делится на 10, если запись оканчивается н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5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4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3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Автор учебника математики, по которому вы занимаетес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Виленкин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Атанасян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Никольский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Алиев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.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 Операция, обратная умножению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Умноже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Сложе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Вычита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Деле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. Великое множество (в старину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Гущ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Стог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Куч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Тьм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“Землемерие” в переводе на греческий язык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Геостанция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География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Геометрия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Геополитик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79280" y="277920"/>
            <a:ext cx="5040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Отборочный ту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асположите числа в порядке возраст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. 7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. 10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. 12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Д. 2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Иллюстративная задач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оказ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Наказ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Выраже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ример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8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. Наука о числах и операциях над ним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Алгебр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Математик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Геометрия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Арифметик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9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. Метод, отыская простых чисел, называетс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Решето Эратосфен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Сито Евклида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Способ Архимед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Дуга Аристотеля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1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. Число, равное сумме всех его делителей, называетс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Точным числом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Абсолютным числом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Совершенным числом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ростым числом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Отборочный ту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Расположите числа в порядке возрастан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А. 0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В. –5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С. 3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Д. –3126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колько сотен в числе 2961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Девять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Шесть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Дв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Одн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Число делится на 5, если его запись оканчивается н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3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2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5 и 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92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Число богатырей на известной картине В. Васнецов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3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6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5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2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92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Единственное простое   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                 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четное число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2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3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8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92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чётная доска у древних греков и римлян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алочки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Счёты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Абак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Калькулято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8487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вопрос №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1. Числа, которые употребляются при счёте, называются: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Натуральны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Дробны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Целы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Рациональны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92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.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Возраст совершеннолети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6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18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2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21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92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.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Как называется целое число, краткое двум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росто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Составно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Нечётно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Чётно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8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92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Название знаменитой книги Евклид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Конец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Начало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Вступле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Оконча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9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92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Математическая зависимость, выраженная условными знакам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Равенство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Уравне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Формул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Закон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I I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1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92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Округленное, не совсем точное, значение числ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Сокращённо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риближённое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Кротко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Уменьшенно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Отборочный ту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Расположите числа в порядке убыван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А. 1/7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В. 1/6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С. 1/3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Д. 1/10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Полупрямая линия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Луч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Отрезок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Угол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Окружность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Расстояние от точки окружности до её центр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Радиус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Хорд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Диаметр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Отрезок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Расстояние от точки окружности до её центр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Радиус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Хорд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Диаметр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Отрезок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Наибольший общий делитель взаимно простых чисе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1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О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2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10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820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Как называется результат сложения двух чисел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Разность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Сумма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Произведени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Частно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Что у римлян обозначает слово “унция”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/2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/4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/3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/12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Как называется деление отрезка, при котором длина всего отрезка так относится к длине его большей части, как длин большей части к меньшей част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Серебряная пропорция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Золотое сечени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Золотая пропорция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Божественное сечени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Ни одно число нельзя делить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Само на себя.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На 1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На 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На 1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8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Чему равно отношение чисел 20 и 4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80.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6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24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5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9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Verdana"/>
              </a:rPr>
              <a:t>Результат вычитания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 Сумма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 Произведение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 Частное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 Разность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1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Наименьшее трёхзначное чётное число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99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100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0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999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1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Наименьшее трёхзначное чётное число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99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100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0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999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Отборочный ту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Расположите числа в порядке возрастан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А. 3/7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В. 1/7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С. 5/7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Д. 7/7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Кто способствовал признанию отрицательных чисел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Евклид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Виноградов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ифагор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Декарт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Как называют два числа, каждое из которых равно сумме делителей другого числа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Соседни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Приятельски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Дружественны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Товарищески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820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Чему равно значение </a:t>
            </a: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                     </a:t>
            </a: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разности а – а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2а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а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–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Как называются многоугольники, у которых все стороны и углы равны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Точны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Красивы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Абсолютны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Правильны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“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Чёртова дюжина”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2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3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6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Неполное количество чего-нибудь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Избыток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Недостаток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Ущерб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Недостач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Куб единственного простого чётного числ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1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8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4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3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отая часть числа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Четверть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Десяток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роцент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оловин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8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Научное предложение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Гипотез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Открыт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равило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Вывод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9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. Разделение на множител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Группировк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Сочета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Разложение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ерестановк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V 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1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Математическое равенство, в котором одна или несколько букв считаются неизвестными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Неравенство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Уравнени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Пример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Двойное неравенство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820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Как называется закон, </a:t>
            </a: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                   </a:t>
            </a: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а + в = в + а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Переместительный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В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Сочетательный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Распределительный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Заменительный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820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ff0066"/>
                </a:solidFill>
                <a:latin typeface="Verdana"/>
              </a:rPr>
              <a:t>20 = 6 * 3 + 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Verdana"/>
              </a:rPr>
              <a:t>2 есть... от деления числа 20 </a:t>
            </a: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                                  </a:t>
            </a:r>
            <a:r>
              <a:rPr b="0" lang="ru-RU" sz="3600" spc="-1" strike="noStrike">
                <a:solidFill>
                  <a:srgbClr val="ff0066"/>
                </a:solidFill>
                <a:latin typeface="Verdana"/>
              </a:rPr>
              <a:t>на число 6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Множитель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Остаток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Частное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Делитель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820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Положение, выражающее закономерность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А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Формула.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В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. Анализ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Метод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Правило..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820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Comic Sans MS"/>
              </a:rPr>
              <a:t>   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ИГРА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I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    </a:t>
            </a:r>
            <a:r>
              <a:rPr b="0" lang="ru-RU" sz="5400" spc="-1" strike="noStrike">
                <a:solidFill>
                  <a:srgbClr val="009900"/>
                </a:solidFill>
                <a:latin typeface="Georgia"/>
              </a:rPr>
              <a:t>вопрос №</a:t>
            </a:r>
            <a:r>
              <a:rPr b="0" lang="en-US" sz="5400" spc="-1" strike="noStrike">
                <a:solidFill>
                  <a:srgbClr val="009900"/>
                </a:solidFill>
                <a:latin typeface="Georgia"/>
              </a:rPr>
              <a:t>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. Русский математик - педагог XVII века, автор первого русского учебника арифметики, по которому учился М.В. Ломонос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Магницки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Толст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С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Ушински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Д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Карамзин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6:48:38Z</dcterms:created>
  <dc:creator>Таня</dc:creator>
  <dc:description/>
  <dc:language>en-US</dc:language>
  <cp:lastModifiedBy>Таня</cp:lastModifiedBy>
  <dcterms:modified xsi:type="dcterms:W3CDTF">2008-01-28T18:45:20Z</dcterms:modified>
  <cp:revision>2</cp:revision>
  <dc:subject/>
  <dc:title>Кто хочет стать отличником?</dc:title>
</cp:coreProperties>
</file>