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92E-D2CE-44F1-B351-134477A7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B54-BB73-4FA2-922D-9F81ECA7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70E-1886-4D4F-9F62-1AF73609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2C2-7A9B-473E-8C5B-65A14091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582E-D737-42DD-A759-ECB4B424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D4FD-FCFF-48E4-8375-06F674CF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FB71-0A6E-4421-BACE-C66313F1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CFAC-628A-4F3F-901B-F5073D1D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E9D8-E230-4811-992A-FB8F8EF2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E64A-D295-4333-98BA-7B595CF4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AD86-7BBC-4440-89B6-498B1974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AA6-5A18-4C61-9B51-7AE18BF0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2D37-59F6-4F37-B793-E9F5900D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9F0F-6F4C-4C06-A0F2-E6028FD7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18F8-B1D7-438F-98EC-B20FDF68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3017-247E-4AF6-BF9F-92347F2F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3787-7DD1-4452-AB3F-7A85848F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F699-9B66-479C-B796-8D8A2178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D1E4B-471D-449B-B1C7-CB7BDEB4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A1C2D-C9E7-4755-8F26-C1554B9C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DD0FF-3ED9-4D8C-8195-7477C48E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C8824-6D66-4478-A5C6-E63EFD49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71D-5C28-4FE1-A640-32EA44F9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7C80-BBA5-4C09-B396-359ABB30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44C0-1A1A-46D6-911B-6D38749E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C0C57-D4B4-44FD-AF4C-FD6FB2FA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6A8E3-CE63-4766-B464-F7E01733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430D6-7997-427A-B410-5C12DE3F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E7851-37EB-47B4-ABCC-D7502693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4A04D-A9C2-42EB-9DEF-06898D42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8841A-07EC-4CA4-B3AF-96299372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FF149-A660-4F11-95E5-BDA44EFC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5E44F-3FDE-4F3E-8243-8D009D7C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5FC-E55F-41D3-9EC2-B0B4315C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089B3-252F-4F98-9BDC-2B0E74FF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D79FF-37EF-45A3-A14D-E98C8B4D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DA3A9-67CC-47C6-B4A7-7AFF1212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F1ECE-19C2-48BE-A094-65A76999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05EE0-EEC2-4C29-A903-4AEB85E9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74C40-3A95-4D24-B35B-55DE6565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35030-2B34-4689-8507-7DDC16C8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21F1B-FC1E-470D-9369-C1425EEF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12C50-A339-42A8-92B7-F6E1E9F4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A6183-A52C-4259-8C9A-07158252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A74-E117-42F5-9AD9-74A17BA2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31854-E79B-4FCC-8303-C9709C5E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B5B92-29C0-4421-AB9C-716E29B8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F9D5A-7E15-4016-B363-69E0271B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F6CA5-A151-49B5-BF5F-963BC5FC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D9778-5754-4B1F-B84F-4B45CD35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83707-6E89-47E8-B5EB-654948E2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1FD3E-5E44-4CA9-8366-6F5E1820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D398B-EF69-4317-98AD-6EF2EA47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629EE-F22E-4412-AD9F-0E98D419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41294-494B-45B3-B2BE-BF438AD7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DE6-3780-442D-9C7C-C66F96C3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5D077-D0B0-4901-8C02-E65831E6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2EAED-F4E7-446C-87B5-8B46C10F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171C7-4A6C-4324-B43D-C9A8CCAA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C8CC3-CC0A-4553-ADAA-2000BC9D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74F38-7EC6-40E7-A85E-23550657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A0B16-08BB-4B36-A5CF-8D2B589D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E55E0-FA1D-4AAD-94F4-44238973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7CDFF-A2C1-4E89-8431-7CACB84A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69012-ADA7-496E-9BA1-56FA1C09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78BFA-8DF8-4DE0-B337-899E0CF9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AFB-C8A7-43EF-99B5-7249E739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D3EEE-340C-4F2D-965B-8A3AA619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CA717-4E45-42B1-B4B7-9B001D51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F22B1-27F1-4DF9-AD62-845A137D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57127-B713-4EE1-B72C-7930A4A4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04B93-79B2-4828-ADD1-28033AC2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49932-56C1-4499-AFA2-F250B146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81F1D-AA0A-4C51-9F23-D509DE55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02AA1-87C1-4FBD-889C-36BA0957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C4C83-4E0F-4B61-BADD-88E630ED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7AF4A-A5FD-4AB7-89FE-BF4E0C3D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C3A-9D04-4941-B800-BFF6EBCE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F0526-3744-4D0F-B1CD-3FF42B2B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0F0E5-5487-4C40-A695-B5E670DC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3159B-7908-4E34-88B5-4C528A92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6A97E-9952-4036-BF79-50EC17FB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2C30F-7A63-43FB-857F-6398DB4B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0F2DF-8556-4DA0-980E-98CDDB6C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EE878-5F7E-4577-803C-48811F24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F1EF0-3244-486B-B8D1-4DE1ABA9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64085-4373-442B-B4E5-3ED5E724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462B3-901C-47FE-B1B6-AF0E153C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E50-D757-4E4F-ADF2-AA4BB04B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DC9AD-801D-4D49-A8CC-84FC163C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BF7DF-BE7D-4D83-9388-44F262EE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72C08-38CA-4013-97B4-EC0E0EF7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98B87-765E-4B9E-81D2-C518AFBD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90B30-76DF-4E24-A6ED-B7D8D824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84963-F054-42C2-8E88-486FE390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5DF5C-0BA9-40B2-A44D-62997F46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6069-4785-427B-941E-BA14D8B4CD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8ABF-EA6D-4BF3-A0AA-214D7E660FCA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F57E-E35C-41CB-A371-AB697DADFF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B15A-2096-40BD-ACB1-FD7A432A6F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F45A-48F3-4ED2-A81F-D62C41AFB9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3BB6-51FD-4773-96D6-B1ECAAB39B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9CF5-F124-4CAC-91C4-52194A3A19D6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9966-3224-4B92-9E17-274062399D10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3" descr=""/>
          <p:cNvPicPr/>
          <p:nvPr/>
        </p:nvPicPr>
        <p:blipFill>
          <a:blip r:embed="rId1"/>
          <a:stretch/>
        </p:blipFill>
        <p:spPr>
          <a:xfrm>
            <a:off x="530280" y="2328840"/>
            <a:ext cx="8242200" cy="270684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2"/>
          <p:cNvSpPr/>
          <p:nvPr/>
        </p:nvSpPr>
        <p:spPr>
          <a:xfrm>
            <a:off x="533520" y="4572000"/>
            <a:ext cx="82296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Кузьмина И.В., учитель 1 класса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НОУ Гимназия «Мастер-класс»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пос. Огниково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7.12. 2010 год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347" name="Picture 5" descr="http://enlargethespirit.files.wordpress.com/2010/01/picture-family.jpg?w=550&amp;h=316"/>
          <p:cNvPicPr/>
          <p:nvPr/>
        </p:nvPicPr>
        <p:blipFill>
          <a:blip r:embed="rId2"/>
          <a:stretch/>
        </p:blipFill>
        <p:spPr>
          <a:xfrm>
            <a:off x="2438280" y="228600"/>
            <a:ext cx="4114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http://www.buenaforma.org/wp-content/uploads/2011/08/miop%C3%ADa.jpg"/>
          <p:cNvPicPr/>
          <p:nvPr/>
        </p:nvPicPr>
        <p:blipFill>
          <a:blip r:embed="rId3"/>
          <a:stretch/>
        </p:blipFill>
        <p:spPr>
          <a:xfrm>
            <a:off x="533520" y="1752480"/>
            <a:ext cx="80769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одолжить воспитание гигиенических навыков детей дома и в школе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Родителям контролировать соблюдение детьми режима дн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Использовать рекомендации по формированию правильной осанки, рациональному питанию и профилактике близорукост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казывать детям помощь в укреплении здоровь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9080" cy="15973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5" name="Picture 2" descr="C:\Users\Пользователь\Desktop\x_db6d10aa.jpg"/>
          <p:cNvPicPr/>
          <p:nvPr/>
        </p:nvPicPr>
        <p:blipFill>
          <a:blip r:embed="rId2"/>
          <a:stretch/>
        </p:blipFill>
        <p:spPr>
          <a:xfrm>
            <a:off x="533520" y="2438280"/>
            <a:ext cx="822960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WordArt 5"/>
          <p:cNvSpPr txBox="1"/>
          <p:nvPr/>
        </p:nvSpPr>
        <p:spPr>
          <a:xfrm>
            <a:off x="1371600" y="533520"/>
            <a:ext cx="64008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П А С И Б О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 А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Н И М А Н И Е 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298440" y="1212840"/>
            <a:ext cx="8474040" cy="1536840"/>
          </a:xfrm>
          <a:prstGeom prst="rect">
            <a:avLst/>
          </a:prstGeom>
          <a:ln w="0">
            <a:noFill/>
          </a:ln>
        </p:spPr>
      </p:pic>
      <p:pic>
        <p:nvPicPr>
          <p:cNvPr id="349" name="Rectangle 3" descr=""/>
          <p:cNvPicPr/>
          <p:nvPr/>
        </p:nvPicPr>
        <p:blipFill>
          <a:blip r:embed="rId2"/>
          <a:stretch/>
        </p:blipFill>
        <p:spPr>
          <a:xfrm>
            <a:off x="298440" y="225360"/>
            <a:ext cx="8858160" cy="5419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C:\Users\Пользователь\Desktop\page_apteka.jpg"/>
          <p:cNvPicPr/>
          <p:nvPr/>
        </p:nvPicPr>
        <p:blipFill>
          <a:blip r:embed="rId3"/>
          <a:stretch/>
        </p:blipFill>
        <p:spPr>
          <a:xfrm>
            <a:off x="533520" y="4724280"/>
            <a:ext cx="327636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242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яешь ли ты дома утреннюю зарядку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d13b"/>
                </a:solidFill>
                <a:latin typeface="Times New Roman"/>
              </a:rPr>
              <a:t>/25 % детей/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яют ли твои родители утреннюю зарядку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d13b"/>
                </a:solidFill>
                <a:latin typeface="Times New Roman"/>
              </a:rPr>
              <a:t>/10 % родителей/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долго ты смотришь телевизор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7fd13b"/>
                </a:solidFill>
                <a:latin typeface="Times New Roman"/>
              </a:rPr>
              <a:t>в среднем от 3 ч. до 5 ч./ /65 % детей/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олько времени проводишь возле компьютера, игровых приставок, телевизора?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d13b"/>
                </a:solidFill>
                <a:latin typeface="Times New Roman"/>
              </a:rPr>
              <a:t>( от 2 ч. до 3 ч.) /50 % детей/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блюдаешь ли ты режим дня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7fd13b"/>
                </a:solidFill>
                <a:latin typeface="Times New Roman"/>
              </a:rPr>
              <a:t>20 % детей/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755640" y="-36360"/>
            <a:ext cx="8199360" cy="1341360"/>
          </a:xfrm>
          <a:prstGeom prst="rect">
            <a:avLst/>
          </a:prstGeom>
          <a:ln w="0">
            <a:noFill/>
          </a:ln>
        </p:spPr>
      </p:pic>
      <p:pic>
        <p:nvPicPr>
          <p:cNvPr id="354" name="Rectangle 3" descr=""/>
          <p:cNvPicPr/>
          <p:nvPr/>
        </p:nvPicPr>
        <p:blipFill>
          <a:blip r:embed="rId2"/>
          <a:stretch/>
        </p:blipFill>
        <p:spPr>
          <a:xfrm>
            <a:off x="285840" y="1103400"/>
            <a:ext cx="8950320" cy="4620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http://www.drpbody.com/images/clean_items.gif"/>
          <p:cNvPicPr/>
          <p:nvPr/>
        </p:nvPicPr>
        <p:blipFill>
          <a:blip r:embed="rId3"/>
          <a:stretch/>
        </p:blipFill>
        <p:spPr>
          <a:xfrm>
            <a:off x="5410080" y="4324320"/>
            <a:ext cx="34671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2492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жим дня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ациональное питание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Формирование правильной осанки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офилактика близорукости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3" descr=""/>
          <p:cNvPicPr/>
          <p:nvPr/>
        </p:nvPicPr>
        <p:blipFill>
          <a:blip r:embed="rId1"/>
          <a:stretch/>
        </p:blipFill>
        <p:spPr>
          <a:xfrm>
            <a:off x="682560" y="1938240"/>
            <a:ext cx="84679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ttp://dobrochan.ru/src/jpg/1108/9f4587a8e538.jpg"/>
          <p:cNvPicPr/>
          <p:nvPr/>
        </p:nvPicPr>
        <p:blipFill>
          <a:blip r:embed="rId3"/>
          <a:stretch/>
        </p:blipFill>
        <p:spPr>
          <a:xfrm>
            <a:off x="228600" y="1447920"/>
            <a:ext cx="876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http://img0.liveinternet.ru/images/attach/c/2/71/407/71407728_1298984869_e56ec0b8fbe1f8f6ddfca71e93d5b8d0_XL.jpg"/>
          <p:cNvPicPr/>
          <p:nvPr/>
        </p:nvPicPr>
        <p:blipFill>
          <a:blip r:embed="rId3"/>
          <a:stretch/>
        </p:blipFill>
        <p:spPr>
          <a:xfrm>
            <a:off x="457200" y="1496880"/>
            <a:ext cx="847260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577360" cy="1547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http://www.medical-enc.ru/16/images/ranets.jpg"/>
          <p:cNvPicPr/>
          <p:nvPr/>
        </p:nvPicPr>
        <p:blipFill>
          <a:blip r:embed="rId3"/>
          <a:stretch/>
        </p:blipFill>
        <p:spPr>
          <a:xfrm>
            <a:off x="1752480" y="1752480"/>
            <a:ext cx="5715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12-02T16:28:28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