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23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C428-A8E9-414C-8D00-0C7BB8272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A7F5-7C9A-4884-B30E-704ECE1C8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58AF-B67E-4C03-BF62-F9923909B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84CC-4750-40C7-9BCD-F18D770C0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2909E-A21D-445F-94EE-7794D1C4B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B53F1-92C8-4816-B987-BAEE88729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03926-2A36-49D4-861C-965A29980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2658A-0EFE-4E3D-941B-22DD476F7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73A43-EB3E-45AA-8C1C-839D07BC3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2FBD4-06BB-4B7D-840E-D827B9589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E7229-997E-41D3-BDA0-32E634110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E86A-BA62-42AC-9301-108588B2A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0E203-F6B8-4F5E-BE4B-C7597923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E955C-AEFB-4117-B4DE-50982BCBD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AC38F-84E9-40CD-9247-C6BFEC247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16F7D-A8FC-4ECB-BB4F-98F36F860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5E92A-0691-410E-99F8-3011748C1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2281C-67B0-4249-AFED-FA191BF98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6D016-8860-4DA9-B485-C393C16CB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8C648-3A44-4D22-94CB-16B624E04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AB681-EBCE-4243-8974-DBDADDE4F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006E5-987A-410E-A29F-C383E9F9C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9E57-6DA0-435D-A1BD-7E50B70F3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D00A1-69F3-4706-BED8-371370FD1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4AAF2-BD1D-445E-8879-44DA4590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FE192-6E8F-45AF-9355-B4CAD7218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D880F-373A-479D-A374-87883A8E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B47C5-46F4-4153-ABFE-40A9DB37E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047FA-39A4-483B-AE53-298613D6D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FEBB0-0928-4FEA-B014-EC795728D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0A6BD-1A2C-4A51-8BE3-858E8ACCF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56386-9A19-4CF6-BA83-8DD79F683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2D8C8-DB4F-4C1C-A672-62DB4C7BA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0C98-C9A1-4B49-864F-9D9C1AB73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7A116-E433-4E7B-9E47-2259DB87B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8B7A5-9AA1-482F-9E11-DD2E5CFDF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F0FF6-D40B-40C1-8AD3-3D2F70F3F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36FB6-EBDD-49C5-B6AD-68F1ABA3D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0A59B-3112-4173-B7A0-9A81313F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E458E-9FC2-43A4-B5A1-BFA85EEB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F1BA1-53F6-4917-88E1-C40209948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55BD4-4815-42AE-BD82-32845AFA2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DB362-2DAC-4EB1-903F-F988F5472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DA60EF-2A8D-482A-B696-B937B5DE4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A947-B93A-43B5-BE70-882A2050F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68CB4-E2E0-4B59-961B-84207EF01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4B520A-D431-404A-A195-4178745E6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FB30D9-C4CB-4BF0-96AF-FE572A900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498FDB-94A9-467B-9697-8727C966E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1438B-D802-4ADE-85D4-87F0AF5D2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DB319B-A4F0-4730-AB84-FE5C84DB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958624-54DD-4EF9-9809-B7C57E174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EB5DB-E84C-47EC-8439-1F7090EB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EE5D02-D5C2-4103-B3F1-5B7E0B129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69BCF9-6659-442B-94D9-1187DBAAC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0D16-F17F-483E-B4B6-287DBB0DE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DCF79E-BCAC-4511-B2D1-6EC0868AE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1DFEDD-0F51-4152-9453-AF1E7C8B1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1E34B5-03C8-4DCE-B9E7-1506E0317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B03ED3-3146-4797-BB43-8A93D4C67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8D7939-76C7-466E-9CE0-5EC4960E6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21BB1E-6C92-4716-9E4F-8CE80A82E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3CB59F-3DB1-4EBA-9406-0D9DEAEE5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53DF28-FE75-41FC-B007-D69B7174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2F3B28-882B-4678-8FCC-B6773BC4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DB61E4-9344-4096-9D7B-CEF4719B7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BDF6-69C3-42BB-B34C-FA150AE6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DA3C2C-8BC1-4700-87A8-549540BBF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8CA1ED-44B1-4B93-92E9-E6C52F768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D0BA05-BAA2-4050-AF8E-EDAC1C944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55282D-6D68-4CA2-A520-5FD4D6E89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F3F298-92A3-44DD-B953-D3CA2479E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6AF775-1DC6-49F3-98B2-87A4D81A5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094182-2342-4424-BEFC-22E028655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42613D-01B6-49CD-890E-8FEF13B9E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872DAF-8CF4-4AEB-897A-DC78FD4E2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CD7482-60DD-4458-83E0-D5D29AB0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89C3-BF37-44DE-A450-11879E695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D3A3C0-D9BC-4A80-9D97-4F1EDBE12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D4C83A-70F8-483A-90F3-6DF8DFF4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FC6B38-7B94-4366-8F3C-8C4BBA07E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563DC7-EFFD-40A2-9540-244ED1BF4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F35DF6-9BEF-4668-88F9-1E6104E7B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2C98CA-3FAE-4EEF-8FFC-5C6C95D6C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C7A29B-CEE3-4307-8504-F10177DFD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4EB16F-3DFE-45B9-ABB6-F40C1BF74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C9957E-E6B0-4AD0-BF65-6AC649526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D66772-23A2-4D63-B513-566075AC4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0573-2197-4362-9DA6-414EAF334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CB65A0-E3A5-47FF-8B3A-D6A1FB4E2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F50871-C27D-46AB-A109-197BFD21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623491-EFAE-4A55-8168-944238A95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B4D7C5-7733-4A29-A0ED-11B93AB3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023F3D-8F5A-475D-B769-300D373AB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7C5816-B535-49C3-810F-0797A5EB0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E5E56E-6209-4D95-9750-0F4A7B8E5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>
                  <a:alpha val="1176"/>
                </a:srgbClr>
              </a:gs>
              <a:gs pos="100000">
                <a:srgbClr val="d6ec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cc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fc3c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CF131-CE2A-4B0E-864D-06C962298E9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>
                  <a:alpha val="1176"/>
                </a:srgbClr>
              </a:gs>
              <a:gs pos="100000">
                <a:srgbClr val="d6ec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cc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fc3c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459205"/>
              </a:gs>
              <a:gs pos="100000">
                <a:srgbClr val="a7ff79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6B46C-0CE3-42A5-8B5E-2612BD3CC3A0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>
                  <a:alpha val="1176"/>
                </a:srgbClr>
              </a:gs>
              <a:gs pos="100000">
                <a:srgbClr val="d6ec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cc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fc3c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58C46-D7DC-463C-B0B7-23A2D00408C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>
                  <a:alpha val="1176"/>
                </a:srgbClr>
              </a:gs>
              <a:gs pos="100000">
                <a:srgbClr val="d6ec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459205"/>
              </a:gs>
              <a:gs pos="100000">
                <a:srgbClr val="a7ff79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35" name="Прямая соединительная линия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fc3c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36" name="Прямая соединительная линия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cc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2F575-D22F-4789-B1CD-7C341A04EBB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>
                  <a:alpha val="1176"/>
                </a:srgbClr>
              </a:gs>
              <a:gs pos="100000">
                <a:srgbClr val="d6ec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79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cc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80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fc3c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48D31-93C2-459E-BB25-5791B31C53A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FFC65-A680-452A-AB05-C9A3A081347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B2FA5-B4A3-4D2C-BD25-716DA9487A5A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A2005-0185-4FAF-A443-8165B5D6F46F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Rectangle 3" descr=""/>
          <p:cNvPicPr/>
          <p:nvPr/>
        </p:nvPicPr>
        <p:blipFill>
          <a:blip r:embed="rId1"/>
          <a:stretch/>
        </p:blipFill>
        <p:spPr>
          <a:xfrm>
            <a:off x="530280" y="2328840"/>
            <a:ext cx="8242200" cy="2706840"/>
          </a:xfrm>
          <a:prstGeom prst="rect">
            <a:avLst/>
          </a:prstGeom>
          <a:ln w="0">
            <a:noFill/>
          </a:ln>
        </p:spPr>
      </p:pic>
      <p:sp>
        <p:nvSpPr>
          <p:cNvPr id="346" name="Rectangle 2"/>
          <p:cNvSpPr/>
          <p:nvPr/>
        </p:nvSpPr>
        <p:spPr>
          <a:xfrm>
            <a:off x="533520" y="4572000"/>
            <a:ext cx="8229600" cy="19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2800" spc="-1" strike="noStrike">
                <a:solidFill>
                  <a:srgbClr val="d6ecff"/>
                </a:solidFill>
                <a:latin typeface="Times New Roman"/>
              </a:rPr>
              <a:t>Кузьмина И.В., учитель 1 класса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ecff"/>
                </a:solidFill>
                <a:latin typeface="Times New Roman"/>
              </a:rPr>
              <a:t>НОУ Гимназия «Мастер-класс» 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ecff"/>
                </a:solidFill>
                <a:latin typeface="Times New Roman"/>
              </a:rPr>
              <a:t>пос. Огниково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ecff"/>
                </a:solidFill>
                <a:latin typeface="Times New Roman"/>
              </a:rPr>
              <a:t>7.12. 2010 год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347" name="Picture 5" descr="http://enlargethespirit.files.wordpress.com/2010/01/picture-family.jpg?w=550&amp;h=316"/>
          <p:cNvPicPr/>
          <p:nvPr/>
        </p:nvPicPr>
        <p:blipFill>
          <a:blip r:embed="rId2"/>
          <a:stretch/>
        </p:blipFill>
        <p:spPr>
          <a:xfrm>
            <a:off x="2438280" y="228600"/>
            <a:ext cx="41148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457200" y="1882800"/>
            <a:ext cx="8229600" cy="457200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2" descr="http://www.buenaforma.org/wp-content/uploads/2011/08/miop%C3%ADa.jpg"/>
          <p:cNvPicPr/>
          <p:nvPr/>
        </p:nvPicPr>
        <p:blipFill>
          <a:blip r:embed="rId3"/>
          <a:stretch/>
        </p:blipFill>
        <p:spPr>
          <a:xfrm>
            <a:off x="533520" y="1752480"/>
            <a:ext cx="807696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 txBox="1"/>
          <p:nvPr/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Продолжить воспитание гигиенических навыков детей дома и в школе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Родителям контролировать соблюдение детьми режима дня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Использовать рекомендации по формированию правильной осанки, рациональному питанию и профилактике близорукости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Оказывать детям помощь в укреплении здоровья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Заголовок 1" descr=""/>
          <p:cNvPicPr/>
          <p:nvPr/>
        </p:nvPicPr>
        <p:blipFill>
          <a:blip r:embed="rId1"/>
          <a:stretch/>
        </p:blipFill>
        <p:spPr>
          <a:xfrm>
            <a:off x="536400" y="652320"/>
            <a:ext cx="8479080" cy="159732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541440" y="2249640"/>
            <a:ext cx="8061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5" name="Picture 2" descr="C:\Users\Пользователь\Desktop\x_db6d10aa.jpg"/>
          <p:cNvPicPr/>
          <p:nvPr/>
        </p:nvPicPr>
        <p:blipFill>
          <a:blip r:embed="rId2"/>
          <a:stretch/>
        </p:blipFill>
        <p:spPr>
          <a:xfrm>
            <a:off x="533520" y="2438280"/>
            <a:ext cx="8229600" cy="41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WordArt 5"/>
          <p:cNvSpPr txBox="1"/>
          <p:nvPr/>
        </p:nvSpPr>
        <p:spPr>
          <a:xfrm>
            <a:off x="1371600" y="533520"/>
            <a:ext cx="6400800" cy="541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 П А С И Б О 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 </a:t>
            </a: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 А 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 Н И М А Н И Е !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Rectangle 2" descr=""/>
          <p:cNvPicPr/>
          <p:nvPr/>
        </p:nvPicPr>
        <p:blipFill>
          <a:blip r:embed="rId1"/>
          <a:stretch/>
        </p:blipFill>
        <p:spPr>
          <a:xfrm>
            <a:off x="298440" y="1212840"/>
            <a:ext cx="8474040" cy="1536840"/>
          </a:xfrm>
          <a:prstGeom prst="rect">
            <a:avLst/>
          </a:prstGeom>
          <a:ln w="0">
            <a:noFill/>
          </a:ln>
        </p:spPr>
      </p:pic>
      <p:pic>
        <p:nvPicPr>
          <p:cNvPr id="349" name="Rectangle 3" descr=""/>
          <p:cNvPicPr/>
          <p:nvPr/>
        </p:nvPicPr>
        <p:blipFill>
          <a:blip r:embed="rId2"/>
          <a:stretch/>
        </p:blipFill>
        <p:spPr>
          <a:xfrm>
            <a:off x="298440" y="225360"/>
            <a:ext cx="8858160" cy="54198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3" descr="C:\Users\Пользователь\Desktop\page_apteka.jpg"/>
          <p:cNvPicPr/>
          <p:nvPr/>
        </p:nvPicPr>
        <p:blipFill>
          <a:blip r:embed="rId3"/>
          <a:stretch/>
        </p:blipFill>
        <p:spPr>
          <a:xfrm>
            <a:off x="533520" y="4724280"/>
            <a:ext cx="3276360" cy="18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Rectangle 2" descr=""/>
          <p:cNvPicPr/>
          <p:nvPr/>
        </p:nvPicPr>
        <p:blipFill>
          <a:blip r:embed="rId1"/>
          <a:stretch/>
        </p:blipFill>
        <p:spPr>
          <a:xfrm>
            <a:off x="450720" y="36360"/>
            <a:ext cx="8242560" cy="152424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 txBox="1"/>
          <p:nvPr/>
        </p:nvSpPr>
        <p:spPr>
          <a:xfrm>
            <a:off x="228600" y="16002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378720">
              <a:lnSpc>
                <a:spcPct val="90000"/>
              </a:lnSpc>
              <a:spcBef>
                <a:spcPts val="700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полняешь ли ты дома утреннюю зарядку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fd13b"/>
                </a:solidFill>
                <a:latin typeface="Times New Roman"/>
              </a:rPr>
              <a:t>/25 % детей/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lnSpc>
                <a:spcPct val="90000"/>
              </a:lnSpc>
              <a:spcBef>
                <a:spcPts val="700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полняют ли твои родители утреннюю зарядку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fd13b"/>
                </a:solidFill>
                <a:latin typeface="Times New Roman"/>
              </a:rPr>
              <a:t>/10 % родителей/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lnSpc>
                <a:spcPct val="90000"/>
              </a:lnSpc>
              <a:spcBef>
                <a:spcPts val="700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к долго ты смотришь телевизор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1" lang="ru-RU" sz="2800" spc="-1" strike="noStrike">
                <a:solidFill>
                  <a:srgbClr val="7fd13b"/>
                </a:solidFill>
                <a:latin typeface="Times New Roman"/>
              </a:rPr>
              <a:t>в среднем от 3 ч. до 5 ч./ /65 % детей/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lnSpc>
                <a:spcPct val="90000"/>
              </a:lnSpc>
              <a:spcBef>
                <a:spcPts val="700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колько времени проводишь возле компьютера, игровых приставок, телевизора?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fd13b"/>
                </a:solidFill>
                <a:latin typeface="Times New Roman"/>
              </a:rPr>
              <a:t>( от 2 ч. до 3 ч.) /50 % детей/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lnSpc>
                <a:spcPct val="90000"/>
              </a:lnSpc>
              <a:spcBef>
                <a:spcPts val="700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блюдаешь ли ты режим дня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1" lang="ru-RU" sz="2800" spc="-1" strike="noStrike">
                <a:solidFill>
                  <a:srgbClr val="7fd13b"/>
                </a:solidFill>
                <a:latin typeface="Times New Roman"/>
              </a:rPr>
              <a:t>20 % детей/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Rectangle 2" descr=""/>
          <p:cNvPicPr/>
          <p:nvPr/>
        </p:nvPicPr>
        <p:blipFill>
          <a:blip r:embed="rId1"/>
          <a:stretch/>
        </p:blipFill>
        <p:spPr>
          <a:xfrm>
            <a:off x="755640" y="-36360"/>
            <a:ext cx="8199360" cy="1341360"/>
          </a:xfrm>
          <a:prstGeom prst="rect">
            <a:avLst/>
          </a:prstGeom>
          <a:ln w="0">
            <a:noFill/>
          </a:ln>
        </p:spPr>
      </p:pic>
      <p:pic>
        <p:nvPicPr>
          <p:cNvPr id="354" name="Rectangle 3" descr=""/>
          <p:cNvPicPr/>
          <p:nvPr/>
        </p:nvPicPr>
        <p:blipFill>
          <a:blip r:embed="rId2"/>
          <a:stretch/>
        </p:blipFill>
        <p:spPr>
          <a:xfrm>
            <a:off x="285840" y="1103400"/>
            <a:ext cx="8950320" cy="46209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5" descr="http://www.drpbody.com/images/clean_items.gif"/>
          <p:cNvPicPr/>
          <p:nvPr/>
        </p:nvPicPr>
        <p:blipFill>
          <a:blip r:embed="rId3"/>
          <a:stretch/>
        </p:blipFill>
        <p:spPr>
          <a:xfrm>
            <a:off x="5410080" y="4324320"/>
            <a:ext cx="346716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Rectangle 2" descr=""/>
          <p:cNvPicPr/>
          <p:nvPr/>
        </p:nvPicPr>
        <p:blipFill>
          <a:blip r:embed="rId1"/>
          <a:stretch/>
        </p:blipFill>
        <p:spPr>
          <a:xfrm>
            <a:off x="450720" y="49320"/>
            <a:ext cx="8242560" cy="124920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Режим дня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Рациональное питание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Формирование правильной осанки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рофилактика близорукости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Заголовок 3" descr=""/>
          <p:cNvPicPr/>
          <p:nvPr/>
        </p:nvPicPr>
        <p:blipFill>
          <a:blip r:embed="rId1"/>
          <a:stretch/>
        </p:blipFill>
        <p:spPr>
          <a:xfrm>
            <a:off x="682560" y="1938240"/>
            <a:ext cx="846792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457200" y="1882800"/>
            <a:ext cx="8229600" cy="45720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2" descr="http://dobrochan.ru/src/jpg/1108/9f4587a8e538.jpg"/>
          <p:cNvPicPr/>
          <p:nvPr/>
        </p:nvPicPr>
        <p:blipFill>
          <a:blip r:embed="rId3"/>
          <a:stretch/>
        </p:blipFill>
        <p:spPr>
          <a:xfrm>
            <a:off x="228600" y="1447920"/>
            <a:ext cx="8763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457200" y="1882800"/>
            <a:ext cx="8229600" cy="45720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2" descr="http://img0.liveinternet.ru/images/attach/c/2/71/407/71407728_1298984869_e56ec0b8fbe1f8f6ddfca71e93d5b8d0_XL.jpg"/>
          <p:cNvPicPr/>
          <p:nvPr/>
        </p:nvPicPr>
        <p:blipFill>
          <a:blip r:embed="rId3"/>
          <a:stretch/>
        </p:blipFill>
        <p:spPr>
          <a:xfrm>
            <a:off x="457200" y="1496880"/>
            <a:ext cx="8472600" cy="498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577360" cy="154764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457200" y="1882800"/>
            <a:ext cx="8229600" cy="45720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2" descr="http://www.medical-enc.ru/16/images/ranets.jpg"/>
          <p:cNvPicPr/>
          <p:nvPr/>
        </p:nvPicPr>
        <p:blipFill>
          <a:blip r:embed="rId3"/>
          <a:stretch/>
        </p:blipFill>
        <p:spPr>
          <a:xfrm>
            <a:off x="1752480" y="1752480"/>
            <a:ext cx="5715000" cy="46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2-12-02T16:28:28Z</dcterms:modified>
  <cp:revision>5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