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611-67AA-4566-9011-7C1B59CDE7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80E2-DE5A-474B-940A-D3DA83D9583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0644-935D-4B4B-B87D-BBB9721F94E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FC09-E8CE-4821-8998-6ED36416BFB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D123-BA71-4B8F-A306-DACEF70D311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1FFB-905C-438F-A71F-6999EE2A96C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8EEB-752E-4646-BA8F-05E4364B325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038-4312-4268-936E-3474EDADB79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413-B0C7-41F7-A086-8C66EB2660E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7708-62C6-4491-B43A-F19EC5D3970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4FEF-F4D3-46F7-AD36-9EC58D14CD1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C1C-1339-4642-86EB-7C5DFA5339E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F74B-06A7-49BC-BE02-0A12A5D7361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C22-4902-425F-A4EA-D49B495C0D4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9FE-67CA-441D-8C04-7881D2091D5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518-84FF-4CCC-9ADB-43F2007E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DF5-F810-48F5-A81E-E6DF08D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424-15A3-4D3C-8365-F3666981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F72-E369-4876-8B5E-1704397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E0C-32AB-40AC-9F5F-BB070914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0CA3-9631-4AD0-ABD5-EFD3DE92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17E0-DA70-430A-ADC3-A00B5BE7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521-3647-4C7B-BCBF-316C61B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BD51-9B71-47FC-BEB5-150F3BD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AA1C-4194-48D4-B3A2-29B6782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C19-542D-4053-B56C-68387F7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365-0CA5-40CB-8CD7-6BEC94B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5043-D993-4C69-A25F-D1B9360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E04-85AD-49B1-87DC-A5DFA17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C44-342F-4CF1-B41D-1822957C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2D6-06B4-430C-A9E7-AF997DF3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5B1F-7DF2-4871-BDD2-158B7F36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F1F-548D-4433-81B3-BC148DD1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700-EDE0-4419-A877-5FF3CF0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15C-B84A-4662-81D7-A5E06BF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036-2BA9-4D83-8AC1-6A67D2A2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654-E68C-4402-8016-252D962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964-6047-4965-9FAE-A7026D2D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888-E8F7-46E2-92A2-A13420F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7CE6-F4F1-413A-BDC5-768038BBD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5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70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71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72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1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23B-2CF0-4AA9-B946-A21A065FFAE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418240" cy="20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AnastasiaScript"/>
              </a:rPr>
              <a:t>Квиллинг – мастер-класс.</a:t>
            </a: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876560" y="5072040"/>
            <a:ext cx="426708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имся на уроках технолог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6072120" cy="14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5880" y="499680"/>
            <a:ext cx="650088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nastasiaScript"/>
              </a:rPr>
              <a:t>6. Собираем и склеиваем панно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 центре расположите гусеницу, а чтобы она ожила, приклейте глаза, рот. Свободные места на панно заполните цветами и бабочками, выполненными из спиралек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иралька с зажимом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елается из обычной спиральки путём сжимания её пальцами с одной стороны. Спиральку с зажимом можно использовать в качестве лепестка или листочка для цветка, для крыльев бабоч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Чтобы работа была прочнее и долго вам служила, все детали приклеивайте на клей «Момент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Наклеивая элементы панно, не нажимайте слишком сильно, чтобы не повредить детал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7" name="Рисунок 5" descr=""/>
          <p:cNvPicPr/>
          <p:nvPr/>
        </p:nvPicPr>
        <p:blipFill>
          <a:blip r:embed="rId3"/>
          <a:srcRect l="3237" t="8880" r="0" b="0"/>
          <a:stretch/>
        </p:blipFill>
        <p:spPr>
          <a:xfrm>
            <a:off x="1500120" y="4714920"/>
            <a:ext cx="188460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4"/>
          <a:srcRect l="3029" t="8697" r="0" b="0"/>
          <a:stretch/>
        </p:blipFill>
        <p:spPr>
          <a:xfrm>
            <a:off x="6286680" y="4643280"/>
            <a:ext cx="1928520" cy="133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5"/>
          <p:cNvPicPr/>
          <p:nvPr/>
        </p:nvPicPr>
        <p:blipFill>
          <a:blip r:embed="rId5"/>
          <a:stretch/>
        </p:blipFill>
        <p:spPr>
          <a:xfrm>
            <a:off x="3857760" y="4714920"/>
            <a:ext cx="18572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Любуемся своей работой</a:t>
            </a:r>
            <a:br>
              <a:rPr sz="36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71" name="Picture 4" descr="D:\Новая папка\SDC10798.JPG"/>
          <p:cNvPicPr/>
          <p:nvPr/>
        </p:nvPicPr>
        <p:blipFill>
          <a:blip r:embed="rId1"/>
          <a:stretch/>
        </p:blipFill>
        <p:spPr>
          <a:xfrm>
            <a:off x="1519200" y="1905120"/>
            <a:ext cx="732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Спасибо за внимание!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571760"/>
            <a:ext cx="69915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от такой мастер-класс  по квиллингу у меня получился, надеюсь он поможет вам освоить основы этой замечательной техники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Рисунок 3" descr="C:\Documents and Settings\Владелец\Local Settings\Temporary Internet Files\Content.Word\SDC10705.jpg"/>
          <p:cNvPicPr/>
          <p:nvPr/>
        </p:nvPicPr>
        <p:blipFill>
          <a:blip r:embed="rId1"/>
          <a:stretch/>
        </p:blipFill>
        <p:spPr>
          <a:xfrm>
            <a:off x="1214280" y="3214800"/>
            <a:ext cx="3000600" cy="242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:\Новая папка\IMG_5408.jpg"/>
          <p:cNvPicPr/>
          <p:nvPr/>
        </p:nvPicPr>
        <p:blipFill>
          <a:blip r:embed="rId2"/>
          <a:stretch/>
        </p:blipFill>
        <p:spPr>
          <a:xfrm>
            <a:off x="5000760" y="3214800"/>
            <a:ext cx="3767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Элементы квиллинга, </a:t>
            </a:r>
            <a:br>
              <a:rPr sz="3600"/>
            </a:br>
            <a:r>
              <a:rPr b="0" lang="ru-RU" sz="3600" spc="-1" strike="noStrike">
                <a:solidFill>
                  <a:srgbClr val="f3f3f3"/>
                </a:solidFill>
                <a:latin typeface="AnastasiaScript"/>
              </a:rPr>
              <a:t>используемые в работе</a:t>
            </a:r>
            <a:br>
              <a:rPr sz="54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4920" y="1905120"/>
            <a:ext cx="470556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гусеницы используйте тугой ролл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амая простая форма - при помощи  инструмента для скручивания скручиваем полоску бумаги  в плотный ролл, приклеиваем край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цветов и бабочек используем форму ролла ( спиральки)  «капля»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Заготовкам можно придавать самые различные формы, выполняя сжатия и вмятин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Это заготовки «капля» и «лепесток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8" descr="PICT0835"/>
          <p:cNvPicPr/>
          <p:nvPr/>
        </p:nvPicPr>
        <p:blipFill>
          <a:blip r:embed="rId1"/>
          <a:stretch/>
        </p:blipFill>
        <p:spPr>
          <a:xfrm>
            <a:off x="6000840" y="785880"/>
            <a:ext cx="2643120" cy="176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ICT0837"/>
          <p:cNvPicPr/>
          <p:nvPr/>
        </p:nvPicPr>
        <p:blipFill>
          <a:blip r:embed="rId2"/>
          <a:stretch/>
        </p:blipFill>
        <p:spPr>
          <a:xfrm>
            <a:off x="6072120" y="2857680"/>
            <a:ext cx="2500560" cy="166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PICT0839"/>
          <p:cNvPicPr/>
          <p:nvPr/>
        </p:nvPicPr>
        <p:blipFill>
          <a:blip r:embed="rId3"/>
          <a:stretch/>
        </p:blipFill>
        <p:spPr>
          <a:xfrm>
            <a:off x="6072120" y="4857840"/>
            <a:ext cx="2643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37720"/>
            <a:ext cx="779616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Виды типовых фигур</a:t>
            </a:r>
            <a:endParaRPr b="0" lang="en-US" sz="48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82" name="Picture 5" descr="1"/>
          <p:cNvPicPr/>
          <p:nvPr/>
        </p:nvPicPr>
        <p:blipFill>
          <a:blip r:embed="rId1"/>
          <a:stretch/>
        </p:blipFill>
        <p:spPr>
          <a:xfrm>
            <a:off x="1116000" y="1989000"/>
            <a:ext cx="1498680" cy="1511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2"/>
          <p:cNvPicPr/>
          <p:nvPr/>
        </p:nvPicPr>
        <p:blipFill>
          <a:blip r:embed="rId2"/>
          <a:stretch/>
        </p:blipFill>
        <p:spPr>
          <a:xfrm>
            <a:off x="3419640" y="1989000"/>
            <a:ext cx="1488960" cy="151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11"/>
          <p:cNvPicPr/>
          <p:nvPr/>
        </p:nvPicPr>
        <p:blipFill>
          <a:blip r:embed="rId3"/>
          <a:stretch/>
        </p:blipFill>
        <p:spPr>
          <a:xfrm>
            <a:off x="3492360" y="5157720"/>
            <a:ext cx="1511280" cy="1481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4"/>
          <p:cNvPicPr/>
          <p:nvPr/>
        </p:nvPicPr>
        <p:blipFill>
          <a:blip r:embed="rId4"/>
          <a:stretch/>
        </p:blipFill>
        <p:spPr>
          <a:xfrm>
            <a:off x="5435640" y="5229360"/>
            <a:ext cx="1512720" cy="130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5"/>
          <p:cNvPicPr/>
          <p:nvPr/>
        </p:nvPicPr>
        <p:blipFill>
          <a:blip r:embed="rId5"/>
          <a:stretch/>
        </p:blipFill>
        <p:spPr>
          <a:xfrm>
            <a:off x="5219640" y="3645000"/>
            <a:ext cx="145908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6"/>
          <p:cNvPicPr/>
          <p:nvPr/>
        </p:nvPicPr>
        <p:blipFill>
          <a:blip r:embed="rId6"/>
          <a:stretch/>
        </p:blipFill>
        <p:spPr>
          <a:xfrm>
            <a:off x="3564000" y="3789360"/>
            <a:ext cx="1368360" cy="135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7"/>
          <p:cNvPicPr/>
          <p:nvPr/>
        </p:nvPicPr>
        <p:blipFill>
          <a:blip r:embed="rId7"/>
          <a:stretch/>
        </p:blipFill>
        <p:spPr>
          <a:xfrm>
            <a:off x="1187280" y="3573360"/>
            <a:ext cx="1440000" cy="142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8"/>
          <p:cNvPicPr/>
          <p:nvPr/>
        </p:nvPicPr>
        <p:blipFill>
          <a:blip r:embed="rId8"/>
          <a:stretch/>
        </p:blipFill>
        <p:spPr>
          <a:xfrm>
            <a:off x="7164360" y="3573360"/>
            <a:ext cx="140976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9"/>
          <p:cNvPicPr/>
          <p:nvPr/>
        </p:nvPicPr>
        <p:blipFill>
          <a:blip r:embed="rId9"/>
          <a:stretch/>
        </p:blipFill>
        <p:spPr>
          <a:xfrm>
            <a:off x="7093080" y="2133720"/>
            <a:ext cx="1439640" cy="138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10"/>
          <p:cNvPicPr/>
          <p:nvPr/>
        </p:nvPicPr>
        <p:blipFill>
          <a:blip r:embed="rId10"/>
          <a:stretch/>
        </p:blipFill>
        <p:spPr>
          <a:xfrm>
            <a:off x="5219640" y="2133720"/>
            <a:ext cx="1513080" cy="145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12"/>
          <p:cNvPicPr/>
          <p:nvPr/>
        </p:nvPicPr>
        <p:blipFill>
          <a:blip r:embed="rId11"/>
          <a:stretch/>
        </p:blipFill>
        <p:spPr>
          <a:xfrm>
            <a:off x="1258920" y="5013360"/>
            <a:ext cx="1515960" cy="1584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6"/>
          <p:cNvSpPr txBox="1"/>
          <p:nvPr/>
        </p:nvSpPr>
        <p:spPr>
          <a:xfrm>
            <a:off x="1116000" y="198900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17"/>
          <p:cNvSpPr txBox="1"/>
          <p:nvPr/>
        </p:nvSpPr>
        <p:spPr>
          <a:xfrm>
            <a:off x="3276720" y="206064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18"/>
          <p:cNvSpPr txBox="1"/>
          <p:nvPr/>
        </p:nvSpPr>
        <p:spPr>
          <a:xfrm>
            <a:off x="7020000" y="2133720"/>
            <a:ext cx="1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9"/>
          <p:cNvSpPr txBox="1"/>
          <p:nvPr/>
        </p:nvSpPr>
        <p:spPr>
          <a:xfrm>
            <a:off x="7093080" y="364500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20"/>
          <p:cNvSpPr txBox="1"/>
          <p:nvPr/>
        </p:nvSpPr>
        <p:spPr>
          <a:xfrm>
            <a:off x="5148360" y="364500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21"/>
          <p:cNvSpPr txBox="1"/>
          <p:nvPr/>
        </p:nvSpPr>
        <p:spPr>
          <a:xfrm>
            <a:off x="3492360" y="3645000"/>
            <a:ext cx="1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22"/>
          <p:cNvSpPr txBox="1"/>
          <p:nvPr/>
        </p:nvSpPr>
        <p:spPr>
          <a:xfrm>
            <a:off x="1042920" y="357336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23"/>
          <p:cNvSpPr txBox="1"/>
          <p:nvPr/>
        </p:nvSpPr>
        <p:spPr>
          <a:xfrm>
            <a:off x="1187280" y="5084640"/>
            <a:ext cx="1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24"/>
          <p:cNvSpPr txBox="1"/>
          <p:nvPr/>
        </p:nvSpPr>
        <p:spPr>
          <a:xfrm>
            <a:off x="3276720" y="5157720"/>
            <a:ext cx="32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5292720" y="5229360"/>
            <a:ext cx="3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5148360" y="2060640"/>
            <a:ext cx="18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предлагаю Вам выполнить панно в технике  </a:t>
            </a:r>
            <a:r>
              <a:rPr b="0" lang="ru-RU" sz="3600" spc="-1" strike="noStrike" u="sng">
                <a:solidFill>
                  <a:srgbClr val="ff9966"/>
                </a:solidFill>
                <a:uFillTx/>
                <a:latin typeface="AnastasiaScript"/>
                <a:hlinkClick r:id="rId1" action="ppaction://hlinksldjump"/>
              </a:rPr>
              <a:t>квиллинг</a:t>
            </a: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   </a:t>
            </a:r>
            <a:br>
              <a:rPr sz="3600"/>
            </a:br>
            <a:r>
              <a:rPr b="1" lang="ru-RU" sz="3600" spc="-1" strike="noStrike">
                <a:solidFill>
                  <a:srgbClr val="47ffff"/>
                </a:solidFill>
                <a:latin typeface="AnastasiaScript"/>
              </a:rPr>
              <a:t>          «Весёлая гусеница» 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428720" y="2499840"/>
            <a:ext cx="4552920" cy="33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00a"/>
                </a:solidFill>
                <a:latin typeface="Times New Roman"/>
                <a:ea typeface="Times New Roman"/>
              </a:rPr>
              <a:t>Квиллинг- увлечение, в результате которого можно сделать разнообразные миниатюры из бумаги. Для того чтобы освоить искусство квиллинга достаточно лишь освоить изготовление отдельных элементов миниатюр, а затем уже готовить из них разные поделки, открытки, картины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00a"/>
                </a:solidFill>
                <a:latin typeface="Times New Roman"/>
                <a:ea typeface="Times New Roman"/>
              </a:rPr>
              <a:t>Я хочу представить вашему вниманию квиллинг мастер-класс, в результате которого покажу, как изготовить панн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Picture 5" descr="D:\Новая папка\SDC10798.JPG"/>
          <p:cNvPicPr/>
          <p:nvPr/>
        </p:nvPicPr>
        <p:blipFill>
          <a:blip r:embed="rId2"/>
          <a:stretch/>
        </p:blipFill>
        <p:spPr>
          <a:xfrm>
            <a:off x="357120" y="3000240"/>
            <a:ext cx="40752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3f3f3"/>
                </a:solidFill>
                <a:latin typeface="AnastasiaScript"/>
              </a:rPr>
              <a:t>Квиллинг</a:t>
            </a: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42880" y="1904760"/>
            <a:ext cx="471492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умагокручение (также квиллинг англ. </a:t>
            </a:r>
            <a:r>
              <a:rPr b="0" i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quilling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— от слова </a:t>
            </a:r>
            <a:r>
              <a:rPr b="0" i="1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quill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(птичье перо)) -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Из бумажных спиралей создают цветы и узоры, которые затем используют обычно для украшения открыток, альбомов, подарочных упаковок, рамок для фотографий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Искусство пришло в Россию из Кореи. Как хобби также популярно в Германии, Англии и Америке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Квиллинг ещё называют "бумажной филигранью". Это простой и очень красивый вид рукоделия, не требующий больших затрат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 rot="20905200">
            <a:off x="603000" y="3957120"/>
            <a:ext cx="2616120" cy="2003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Рисунки\IMG_5413.jpg"/>
          <p:cNvPicPr/>
          <p:nvPr/>
        </p:nvPicPr>
        <p:blipFill>
          <a:blip r:embed="rId6"/>
          <a:stretch/>
        </p:blipFill>
        <p:spPr>
          <a:xfrm rot="408000">
            <a:off x="2230200" y="1320840"/>
            <a:ext cx="19555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3f3f3"/>
                </a:solidFill>
                <a:latin typeface="AnastasiaScript"/>
              </a:rPr>
              <a:t>Подготовка к работе</a:t>
            </a: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69600" y="1475280"/>
            <a:ext cx="1717560" cy="1263240"/>
          </a:xfrm>
          <a:prstGeom prst="rect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txBody>
          <a:bodyPr lIns="92160" rIns="92160" tIns="46080" bIns="46080" anchor="ctr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1.Материлы 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инструмен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Овал 5">
            <a:hlinkClick r:id="rId1" action="ppaction://hlinksldjump"/>
          </p:cNvPr>
          <p:cNvSpPr/>
          <p:nvPr/>
        </p:nvSpPr>
        <p:spPr>
          <a:xfrm>
            <a:off x="5929200" y="1143000"/>
            <a:ext cx="2714760" cy="2071800"/>
          </a:xfrm>
          <a:prstGeom prst="ellipse">
            <a:avLst/>
          </a:prstGeom>
          <a:solidFill>
            <a:srgbClr val="d43f16"/>
          </a:solidFill>
          <a:ln w="255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2. Подготовка поло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Овал 7">
            <a:hlinkClick r:id="rId2" action="ppaction://hlinksldjump"/>
          </p:cNvPr>
          <p:cNvSpPr/>
          <p:nvPr/>
        </p:nvSpPr>
        <p:spPr>
          <a:xfrm>
            <a:off x="3500280" y="2428920"/>
            <a:ext cx="2786400" cy="1928880"/>
          </a:xfrm>
          <a:prstGeom prst="ellipse">
            <a:avLst/>
          </a:prstGeom>
          <a:solidFill>
            <a:srgbClr val="d43f16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3. Создание основных элементов квиллин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Овал 8">
            <a:hlinkClick r:id="rId3" action="ppaction://hlinksldjump"/>
          </p:cNvPr>
          <p:cNvSpPr/>
          <p:nvPr/>
        </p:nvSpPr>
        <p:spPr>
          <a:xfrm>
            <a:off x="3357720" y="5072040"/>
            <a:ext cx="2786040" cy="1785960"/>
          </a:xfrm>
          <a:prstGeom prst="ellipse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5. Приступаем к созданию панн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Овал 9">
            <a:hlinkClick r:id="rId4" action="ppaction://hlinksldjump"/>
          </p:cNvPr>
          <p:cNvSpPr/>
          <p:nvPr/>
        </p:nvSpPr>
        <p:spPr>
          <a:xfrm>
            <a:off x="1214280" y="3714840"/>
            <a:ext cx="2786400" cy="1785960"/>
          </a:xfrm>
          <a:prstGeom prst="ellipse">
            <a:avLst/>
          </a:prstGeom>
          <a:solidFill>
            <a:srgbClr val="d93c1d"/>
          </a:solidFill>
          <a:ln w="25560">
            <a:solidFill>
              <a:srgbClr val="9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 Narrow"/>
              </a:rPr>
              <a:t>4. Если Вас заинтересовал квиллин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10" descr="HEDGEHG2"/>
          <p:cNvPicPr/>
          <p:nvPr/>
        </p:nvPicPr>
        <p:blipFill>
          <a:blip r:embed="rId5"/>
          <a:stretch/>
        </p:blipFill>
        <p:spPr>
          <a:xfrm>
            <a:off x="6500880" y="3786120"/>
            <a:ext cx="2432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3f3f3"/>
                </a:solidFill>
                <a:latin typeface="AnastasiaScript"/>
              </a:rPr>
              <a:t>Материалы и инструменты </a:t>
            </a: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95280" y="1904760"/>
            <a:ext cx="720576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Полоски из двухсторонней цветной бумаги 0,3-0,5 мм для цветов, полоски шириной 50 м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Приспособление для скручивания полосок (может подойти обыкновенный стержень от ручк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Линей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анцелярский нож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лей П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Клей «Момент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Arial Narrow"/>
              </a:rPr>
              <a:t>Ножн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Приступаем к созданию панно «Весёлая гусеница»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5960" y="2356920"/>
            <a:ext cx="6286320" cy="36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реализации своей идеи создайте эскиз, то есть нарисуйте на основе  картину   будущей работы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Можно использовать картинки из детских книг, раскрас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 процессе работы прикладывайте скрученные элементы к эскизу, но не приклеивайте их сразу. У вас будет возможность вносить небольшие измен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Не бойтесь, если результат будет отличаться от эскиз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12142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nastasiaScript"/>
              </a:rPr>
              <a:t>1. Создаем эскиз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3f3f3"/>
                </a:solidFill>
                <a:latin typeface="AnastasiaScript"/>
              </a:rPr>
              <a:t>Последовательность выполнения работы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9680" y="1928880"/>
            <a:ext cx="63579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Arial Narrow"/>
              </a:rPr>
              <a:t>     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создания такого панно необходимо нарезать полоски зеленого, желтого, оранжевого, красного цвета шириной 0,3-0,5 мм  для цветов и бабочек,  шириной 50 мм для туловища гусеницы  из стандартного листа бумаги А4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3. Крутим роллы для цветов и бабочек, и для туловища гусен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оформления туловища  нарезаем мелко бахрому по всей желтой полоске , пока она не закончится. Скручиваем туго в роллы, добавляя немного клея для надежности. </a:t>
            </a:r>
            <a:br>
              <a:rPr sz="1600"/>
            </a:br>
            <a:r>
              <a:rPr b="0" lang="ru-RU" sz="16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При накручивании любого элемента необходимо учитывать, что размер всегда зависит от длинны полоски и толщины бумаг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выполнения цветов, бабочек  – по одной полоск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– две полос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00040" y="142884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2. Нарезаем  поло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Рисунок 4" descr="D:\Новая папка\SDC10921.JPG"/>
          <p:cNvPicPr/>
          <p:nvPr/>
        </p:nvPicPr>
        <p:blipFill>
          <a:blip r:embed="rId3"/>
          <a:srcRect l="15883" t="6473" r="11908" b="6674"/>
          <a:stretch/>
        </p:blipFill>
        <p:spPr>
          <a:xfrm>
            <a:off x="6786720" y="4643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C:\Documents and Settings\Владелец\Local Settings\Temporary Internet Files\Content.Word\SDC10919.jpg"/>
          <p:cNvPicPr/>
          <p:nvPr/>
        </p:nvPicPr>
        <p:blipFill>
          <a:blip r:embed="rId4"/>
          <a:stretch/>
        </p:blipFill>
        <p:spPr>
          <a:xfrm>
            <a:off x="6786720" y="928800"/>
            <a:ext cx="1785960" cy="142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:\Новая папка\SDC10920.JPG"/>
          <p:cNvPicPr/>
          <p:nvPr/>
        </p:nvPicPr>
        <p:blipFill>
          <a:blip r:embed="rId5"/>
          <a:srcRect l="0" t="6890" r="0" b="0"/>
          <a:stretch/>
        </p:blipFill>
        <p:spPr>
          <a:xfrm>
            <a:off x="6786720" y="2500200"/>
            <a:ext cx="17859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92912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3. Собираем готовые роллы </a:t>
            </a:r>
            <a:br>
              <a:rPr sz="32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85560" y="150012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Для туловища используйте  полоски бумаги, склеенные вдвое, длину регулируйте по необходимости. С помощью ножниц придаём фор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nastasiaScript"/>
              </a:rPr>
              <a:t>4. Составляем композицию  по эскиз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Разложите  заготовки для туловища  и цвет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Выберите  материал для фона, рам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Picture 4" descr="D:\Новая папка\SDC10922.JPG"/>
          <p:cNvPicPr/>
          <p:nvPr/>
        </p:nvPicPr>
        <p:blipFill>
          <a:blip r:embed="rId1"/>
          <a:stretch/>
        </p:blipFill>
        <p:spPr>
          <a:xfrm>
            <a:off x="6357960" y="1143000"/>
            <a:ext cx="2500200" cy="29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D:\Новая папка\SDC10923.JPG"/>
          <p:cNvPicPr/>
          <p:nvPr/>
        </p:nvPicPr>
        <p:blipFill>
          <a:blip r:embed="rId2"/>
          <a:stretch/>
        </p:blipFill>
        <p:spPr>
          <a:xfrm>
            <a:off x="5072040" y="3429000"/>
            <a:ext cx="2441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nastasiaScript"/>
              </a:rPr>
              <a:t>5. Выбираем  и оформляем основу панно</a:t>
            </a: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1904760"/>
            <a:ext cx="3348000" cy="38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Если у вас нет подходящей рамки , то в качестве фона можно использовать потолочную плитку предварительно обклеив бумагой или коробки из-под конфет.</a:t>
            </a:r>
            <a:br>
              <a:rPr sz="1800"/>
            </a:br>
            <a:r>
              <a:rPr b="0" lang="ru-RU" sz="18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ture 4" descr="D:\Новая папка\SDC10924.JPG"/>
          <p:cNvPicPr/>
          <p:nvPr/>
        </p:nvPicPr>
        <p:blipFill>
          <a:blip r:embed="rId1"/>
          <a:stretch/>
        </p:blipFill>
        <p:spPr>
          <a:xfrm>
            <a:off x="6215040" y="1428840"/>
            <a:ext cx="253512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C:\Documents and Settings\Владелец\Local Settings\Temporary Internet Files\Content.Word\SDC10925.jpg"/>
          <p:cNvPicPr/>
          <p:nvPr/>
        </p:nvPicPr>
        <p:blipFill>
          <a:blip r:embed="rId2"/>
          <a:stretch/>
        </p:blipFill>
        <p:spPr>
          <a:xfrm>
            <a:off x="4429080" y="4214880"/>
            <a:ext cx="2508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24:28Z</dcterms:created>
  <dc:creator>*</dc:creator>
  <dc:description/>
  <dc:language>en-US</dc:language>
  <cp:lastModifiedBy>u</cp:lastModifiedBy>
  <dcterms:modified xsi:type="dcterms:W3CDTF">2012-12-08T11:19:59Z</dcterms:modified>
  <cp:revision>31</cp:revision>
  <dc:subject/>
  <dc:title>Квиллинг – мастер-класс, как сделать цветок </dc:title>
</cp:coreProperties>
</file>