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DF4-EE51-4BAE-B77E-1D3495D3D9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958-B74F-4B3F-A118-2BD2DFA9A07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EAD-1605-4669-B702-6FDBCA2868D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F71-DF03-49FE-9509-004B3F96937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290-AE4E-4353-8108-E2909A07748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AE9C-A270-4BBF-9199-4954D3C58B8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1FA8-ED1A-43B9-9579-B5C2C5F179E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6AF-DA2E-4F92-8317-6030D6E754B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41F-AE89-4242-8100-EB1566AEA80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8A3-E6A1-4CDA-95C5-1BCF7AF7840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AE0-574A-4E6C-B33E-117CF9BC7FC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DC8-7E0A-42F7-BEC2-F1E9234A507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FF5-0897-40F7-85A8-1C51E46991D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0675-3D28-41B2-8A17-1DE0CC2CAF0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E53-1286-4D1D-BBB0-D0A84E31951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A9C-A23B-4531-BCF2-6BB69609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926-0BAC-4EF9-B75B-887A3C7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2A2-92FA-4E2E-B21E-FEF4A50F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2C2-55C2-453D-9DA1-E8116AFA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DBAB-4F6F-41A6-9F12-2DDD8AD4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790-2948-4AB9-B5D5-1785F56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A07-82B4-4DD6-9717-F4FF3EC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C87-D242-4D25-AFAB-2E540DAE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BEA4-A926-4FA8-9314-68329210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E83-56E0-4159-90E1-BA59156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ECF-81DD-4206-8A55-5979A2C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FBE-FFB4-433A-800D-14DE08E2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42B3-A43C-4FFB-9D82-0F0F4C3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BFAA-6A9A-4C05-8BD4-EB1C0F4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57D2-759D-4D5B-9BEF-1761F45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ED98-0725-427A-9327-846FA962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112-A1A0-4A28-89B9-BE9E278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14E-55C1-4682-B134-AE5E535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1DC-C4AD-4A06-A2FF-AE02450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4D0-3E1D-46DD-A9B7-DC650B4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DFB-6AB8-444D-9656-6B04C71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ED5-AB25-4C87-BF9D-6952FA1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BB6-C15A-414F-9640-1E4B2A49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DC8-9AF8-4E21-9528-C68C50F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D530-A32E-424C-9711-7DACFE1CC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5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70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71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72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1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3FE-3130-4F40-8A9C-620B28017DA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418240" cy="20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AnastasiaScript"/>
              </a:rPr>
              <a:t>Квиллинг – мастер-класс.</a:t>
            </a: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876560" y="5072040"/>
            <a:ext cx="426708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имся на уроках технолог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6072120" cy="14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5880" y="499680"/>
            <a:ext cx="650088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nastasiaScript"/>
              </a:rPr>
              <a:t>6. Собираем и склеиваем панно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 центре расположите гусеницу, а чтобы она ожила, приклейте глаза, рот. Свободные места на панно заполните цветами и бабочками, выполненными из спиралек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иралька с зажимом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елается из обычной спиральки путём сжимания её пальцами с одной стороны. Спиральку с зажимом можно использовать в качестве лепестка или листочка для цветка, для крыльев бабоч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Чтобы работа была прочнее и долго вам служила, все детали приклеивайте на клей «Момент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Наклеивая элементы панно, не нажимайте слишком сильно, чтобы не повредить детал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7" name="Рисунок 5" descr=""/>
          <p:cNvPicPr/>
          <p:nvPr/>
        </p:nvPicPr>
        <p:blipFill>
          <a:blip r:embed="rId3"/>
          <a:srcRect l="3237" t="8880" r="0" b="0"/>
          <a:stretch/>
        </p:blipFill>
        <p:spPr>
          <a:xfrm>
            <a:off x="1500120" y="4714920"/>
            <a:ext cx="188460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4"/>
          <a:srcRect l="3029" t="8697" r="0" b="0"/>
          <a:stretch/>
        </p:blipFill>
        <p:spPr>
          <a:xfrm>
            <a:off x="6286680" y="4643280"/>
            <a:ext cx="1928520" cy="133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5"/>
          <p:cNvPicPr/>
          <p:nvPr/>
        </p:nvPicPr>
        <p:blipFill>
          <a:blip r:embed="rId5"/>
          <a:stretch/>
        </p:blipFill>
        <p:spPr>
          <a:xfrm>
            <a:off x="3857760" y="4714920"/>
            <a:ext cx="18572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Любуемся своей работой</a:t>
            </a:r>
            <a:br>
              <a:rPr sz="36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71" name="Picture 4" descr="D:\Новая папка\SDC10798.JPG"/>
          <p:cNvPicPr/>
          <p:nvPr/>
        </p:nvPicPr>
        <p:blipFill>
          <a:blip r:embed="rId1"/>
          <a:stretch/>
        </p:blipFill>
        <p:spPr>
          <a:xfrm>
            <a:off x="1519200" y="1905120"/>
            <a:ext cx="732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Спасибо за внимание!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571760"/>
            <a:ext cx="69915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от такой мастер-класс  по квиллингу у меня получился, надеюсь он поможет вам освоить основы этой замечательной техники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Рисунок 3" descr="C:\Documents and Settings\Владелец\Local Settings\Temporary Internet Files\Content.Word\SDC10705.jpg"/>
          <p:cNvPicPr/>
          <p:nvPr/>
        </p:nvPicPr>
        <p:blipFill>
          <a:blip r:embed="rId1"/>
          <a:stretch/>
        </p:blipFill>
        <p:spPr>
          <a:xfrm>
            <a:off x="1214280" y="3214800"/>
            <a:ext cx="3000600" cy="242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:\Новая папка\IMG_5408.jpg"/>
          <p:cNvPicPr/>
          <p:nvPr/>
        </p:nvPicPr>
        <p:blipFill>
          <a:blip r:embed="rId2"/>
          <a:stretch/>
        </p:blipFill>
        <p:spPr>
          <a:xfrm>
            <a:off x="5000760" y="3214800"/>
            <a:ext cx="3767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Элементы квиллинга, </a:t>
            </a:r>
            <a:br>
              <a:rPr sz="3600"/>
            </a:b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используемые в работе</a:t>
            </a:r>
            <a:br>
              <a:rPr sz="54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4920" y="1905120"/>
            <a:ext cx="470556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гусеницы используйте тугой рол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амая простая форма - при помощи  инструмента для скручивания скручиваем полоску бумаги  в плотный ролл, приклеиваем край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цветов и бабочек используем форму ролла ( спиральки)  «капля»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Заготовкам можно придавать самые различные формы, выполняя сжатия и вмятин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Это заготовки «капля» и «лепесток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8" descr="PICT0835"/>
          <p:cNvPicPr/>
          <p:nvPr/>
        </p:nvPicPr>
        <p:blipFill>
          <a:blip r:embed="rId1"/>
          <a:stretch/>
        </p:blipFill>
        <p:spPr>
          <a:xfrm>
            <a:off x="6000840" y="785880"/>
            <a:ext cx="2643120" cy="176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ICT0837"/>
          <p:cNvPicPr/>
          <p:nvPr/>
        </p:nvPicPr>
        <p:blipFill>
          <a:blip r:embed="rId2"/>
          <a:stretch/>
        </p:blipFill>
        <p:spPr>
          <a:xfrm>
            <a:off x="6072120" y="2857680"/>
            <a:ext cx="2500560" cy="166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PICT0839"/>
          <p:cNvPicPr/>
          <p:nvPr/>
        </p:nvPicPr>
        <p:blipFill>
          <a:blip r:embed="rId3"/>
          <a:stretch/>
        </p:blipFill>
        <p:spPr>
          <a:xfrm>
            <a:off x="6072120" y="4857840"/>
            <a:ext cx="2643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37720"/>
            <a:ext cx="779616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Виды типовых фигур</a:t>
            </a:r>
            <a:endParaRPr b="0" lang="en-US" sz="48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82" name="Picture 5" descr="1"/>
          <p:cNvPicPr/>
          <p:nvPr/>
        </p:nvPicPr>
        <p:blipFill>
          <a:blip r:embed="rId1"/>
          <a:stretch/>
        </p:blipFill>
        <p:spPr>
          <a:xfrm>
            <a:off x="1116000" y="1989000"/>
            <a:ext cx="149868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2"/>
          <p:cNvPicPr/>
          <p:nvPr/>
        </p:nvPicPr>
        <p:blipFill>
          <a:blip r:embed="rId2"/>
          <a:stretch/>
        </p:blipFill>
        <p:spPr>
          <a:xfrm>
            <a:off x="3419640" y="1989000"/>
            <a:ext cx="1488960" cy="151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11"/>
          <p:cNvPicPr/>
          <p:nvPr/>
        </p:nvPicPr>
        <p:blipFill>
          <a:blip r:embed="rId3"/>
          <a:stretch/>
        </p:blipFill>
        <p:spPr>
          <a:xfrm>
            <a:off x="3492360" y="5157720"/>
            <a:ext cx="1511280" cy="1481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4"/>
          <p:cNvPicPr/>
          <p:nvPr/>
        </p:nvPicPr>
        <p:blipFill>
          <a:blip r:embed="rId4"/>
          <a:stretch/>
        </p:blipFill>
        <p:spPr>
          <a:xfrm>
            <a:off x="5435640" y="5229360"/>
            <a:ext cx="1512720" cy="130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5"/>
          <p:cNvPicPr/>
          <p:nvPr/>
        </p:nvPicPr>
        <p:blipFill>
          <a:blip r:embed="rId5"/>
          <a:stretch/>
        </p:blipFill>
        <p:spPr>
          <a:xfrm>
            <a:off x="5219640" y="3645000"/>
            <a:ext cx="145908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6"/>
          <p:cNvPicPr/>
          <p:nvPr/>
        </p:nvPicPr>
        <p:blipFill>
          <a:blip r:embed="rId6"/>
          <a:stretch/>
        </p:blipFill>
        <p:spPr>
          <a:xfrm>
            <a:off x="3564000" y="3789360"/>
            <a:ext cx="1368360" cy="135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7"/>
          <p:cNvPicPr/>
          <p:nvPr/>
        </p:nvPicPr>
        <p:blipFill>
          <a:blip r:embed="rId7"/>
          <a:stretch/>
        </p:blipFill>
        <p:spPr>
          <a:xfrm>
            <a:off x="1187280" y="3573360"/>
            <a:ext cx="1440000" cy="142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8"/>
          <p:cNvPicPr/>
          <p:nvPr/>
        </p:nvPicPr>
        <p:blipFill>
          <a:blip r:embed="rId8"/>
          <a:stretch/>
        </p:blipFill>
        <p:spPr>
          <a:xfrm>
            <a:off x="7164360" y="3573360"/>
            <a:ext cx="140976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9"/>
          <p:cNvPicPr/>
          <p:nvPr/>
        </p:nvPicPr>
        <p:blipFill>
          <a:blip r:embed="rId9"/>
          <a:stretch/>
        </p:blipFill>
        <p:spPr>
          <a:xfrm>
            <a:off x="7093080" y="2133720"/>
            <a:ext cx="1439640" cy="138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10"/>
          <p:cNvPicPr/>
          <p:nvPr/>
        </p:nvPicPr>
        <p:blipFill>
          <a:blip r:embed="rId10"/>
          <a:stretch/>
        </p:blipFill>
        <p:spPr>
          <a:xfrm>
            <a:off x="5219640" y="2133720"/>
            <a:ext cx="1513080" cy="145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12"/>
          <p:cNvPicPr/>
          <p:nvPr/>
        </p:nvPicPr>
        <p:blipFill>
          <a:blip r:embed="rId11"/>
          <a:stretch/>
        </p:blipFill>
        <p:spPr>
          <a:xfrm>
            <a:off x="1258920" y="5013360"/>
            <a:ext cx="1515960" cy="1584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6"/>
          <p:cNvSpPr txBox="1"/>
          <p:nvPr/>
        </p:nvSpPr>
        <p:spPr>
          <a:xfrm>
            <a:off x="1116000" y="198900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17"/>
          <p:cNvSpPr txBox="1"/>
          <p:nvPr/>
        </p:nvSpPr>
        <p:spPr>
          <a:xfrm>
            <a:off x="3276720" y="206064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18"/>
          <p:cNvSpPr txBox="1"/>
          <p:nvPr/>
        </p:nvSpPr>
        <p:spPr>
          <a:xfrm>
            <a:off x="7020000" y="2133720"/>
            <a:ext cx="1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9"/>
          <p:cNvSpPr txBox="1"/>
          <p:nvPr/>
        </p:nvSpPr>
        <p:spPr>
          <a:xfrm>
            <a:off x="7093080" y="364500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20"/>
          <p:cNvSpPr txBox="1"/>
          <p:nvPr/>
        </p:nvSpPr>
        <p:spPr>
          <a:xfrm>
            <a:off x="5148360" y="364500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21"/>
          <p:cNvSpPr txBox="1"/>
          <p:nvPr/>
        </p:nvSpPr>
        <p:spPr>
          <a:xfrm>
            <a:off x="3492360" y="3645000"/>
            <a:ext cx="1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22"/>
          <p:cNvSpPr txBox="1"/>
          <p:nvPr/>
        </p:nvSpPr>
        <p:spPr>
          <a:xfrm>
            <a:off x="1042920" y="357336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23"/>
          <p:cNvSpPr txBox="1"/>
          <p:nvPr/>
        </p:nvSpPr>
        <p:spPr>
          <a:xfrm>
            <a:off x="1187280" y="508464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24"/>
          <p:cNvSpPr txBox="1"/>
          <p:nvPr/>
        </p:nvSpPr>
        <p:spPr>
          <a:xfrm>
            <a:off x="3276720" y="5157720"/>
            <a:ext cx="32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5292720" y="5229360"/>
            <a:ext cx="3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5148360" y="206064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предлагаю Вам выполнить панно в технике  </a:t>
            </a:r>
            <a:r>
              <a:rPr b="0" lang="ru-RU" sz="3600" spc="-1" strike="noStrike" u="sng">
                <a:solidFill>
                  <a:srgbClr val="ff9966"/>
                </a:solidFill>
                <a:uFillTx/>
                <a:latin typeface="AnastasiaScript"/>
                <a:hlinkClick r:id="rId1" action="ppaction://hlinksldjump"/>
              </a:rPr>
              <a:t>квиллинг</a:t>
            </a: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   </a:t>
            </a:r>
            <a:br>
              <a:rPr sz="3600"/>
            </a:b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          «Весёлая гусеница» 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428720" y="2499840"/>
            <a:ext cx="4552920" cy="33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00a"/>
                </a:solidFill>
                <a:latin typeface="Times New Roman"/>
                <a:ea typeface="Times New Roman"/>
              </a:rPr>
              <a:t>Квиллинг- увлечение, в результате которого можно сделать разнообразные миниатюры из бумаги. Для того чтобы освоить искусство квиллинга достаточно лишь освоить изготовление отдельных элементов миниатюр, а затем уже готовить из них разные поделки, открытки, картины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00a"/>
                </a:solidFill>
                <a:latin typeface="Times New Roman"/>
                <a:ea typeface="Times New Roman"/>
              </a:rPr>
              <a:t>Я хочу представить вашему вниманию квиллинг мастер-класс, в результате которого покажу, как изготовить панн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Picture 5" descr="D:\Новая папка\SDC10798.JPG"/>
          <p:cNvPicPr/>
          <p:nvPr/>
        </p:nvPicPr>
        <p:blipFill>
          <a:blip r:embed="rId2"/>
          <a:stretch/>
        </p:blipFill>
        <p:spPr>
          <a:xfrm>
            <a:off x="357120" y="3000240"/>
            <a:ext cx="40752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3f3f3"/>
                </a:solidFill>
                <a:latin typeface="AnastasiaScript"/>
              </a:rPr>
              <a:t>Квиллинг</a:t>
            </a: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42880" y="1904760"/>
            <a:ext cx="471492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умагокручение (также квиллинг англ. </a:t>
            </a:r>
            <a:r>
              <a:rPr b="0" i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quilling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— от слова </a:t>
            </a:r>
            <a:r>
              <a:rPr b="0" i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quill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(птичье перо)) -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Из бумажных спиралей создают цветы и узоры, которые затем используют обычно для украшения открыток, альбомов, подарочных упаковок, рамок для фотографий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Искусство пришло в Россию из Кореи. Как хобби также популярно в Германии, Англии и Америке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Квиллинг ещё называют "бумажной филигранью". Это простой и очень красивый вид рукоделия, не требующий больших затрат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 rot="20905200">
            <a:off x="603000" y="3957120"/>
            <a:ext cx="2616120" cy="2003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Рисунки\IMG_5413.jpg"/>
          <p:cNvPicPr/>
          <p:nvPr/>
        </p:nvPicPr>
        <p:blipFill>
          <a:blip r:embed="rId6"/>
          <a:stretch/>
        </p:blipFill>
        <p:spPr>
          <a:xfrm rot="408000">
            <a:off x="2230200" y="1320840"/>
            <a:ext cx="19555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3f3f3"/>
                </a:solidFill>
                <a:latin typeface="AnastasiaScript"/>
              </a:rPr>
              <a:t>Подготовка к работе</a:t>
            </a: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69600" y="1475280"/>
            <a:ext cx="1717560" cy="1263240"/>
          </a:xfrm>
          <a:prstGeom prst="rect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txBody>
          <a:bodyPr lIns="92160" rIns="92160" tIns="46080" bIns="46080" anchor="ctr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1.Материлы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инструмен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Овал 5">
            <a:hlinkClick r:id="rId1" action="ppaction://hlinksldjump"/>
          </p:cNvPr>
          <p:cNvSpPr/>
          <p:nvPr/>
        </p:nvSpPr>
        <p:spPr>
          <a:xfrm>
            <a:off x="5929200" y="1143000"/>
            <a:ext cx="2714760" cy="2071800"/>
          </a:xfrm>
          <a:prstGeom prst="ellipse">
            <a:avLst/>
          </a:prstGeom>
          <a:solidFill>
            <a:srgbClr val="d43f16"/>
          </a:solidFill>
          <a:ln w="255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2. Подготовка поло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Овал 7">
            <a:hlinkClick r:id="rId2" action="ppaction://hlinksldjump"/>
          </p:cNvPr>
          <p:cNvSpPr/>
          <p:nvPr/>
        </p:nvSpPr>
        <p:spPr>
          <a:xfrm>
            <a:off x="3500280" y="2428920"/>
            <a:ext cx="2786400" cy="1928880"/>
          </a:xfrm>
          <a:prstGeom prst="ellipse">
            <a:avLst/>
          </a:prstGeom>
          <a:solidFill>
            <a:srgbClr val="d43f16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3. Создание основных элементов квиллин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Овал 8">
            <a:hlinkClick r:id="rId3" action="ppaction://hlinksldjump"/>
          </p:cNvPr>
          <p:cNvSpPr/>
          <p:nvPr/>
        </p:nvSpPr>
        <p:spPr>
          <a:xfrm>
            <a:off x="3357720" y="5072040"/>
            <a:ext cx="2786040" cy="1785960"/>
          </a:xfrm>
          <a:prstGeom prst="ellipse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5. Приступаем к созданию панн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Овал 9">
            <a:hlinkClick r:id="rId4" action="ppaction://hlinksldjump"/>
          </p:cNvPr>
          <p:cNvSpPr/>
          <p:nvPr/>
        </p:nvSpPr>
        <p:spPr>
          <a:xfrm>
            <a:off x="1214280" y="3714840"/>
            <a:ext cx="2786400" cy="1785960"/>
          </a:xfrm>
          <a:prstGeom prst="ellipse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4. Если Вас заинтересовал квиллин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10" descr="HEDGEHG2"/>
          <p:cNvPicPr/>
          <p:nvPr/>
        </p:nvPicPr>
        <p:blipFill>
          <a:blip r:embed="rId5"/>
          <a:stretch/>
        </p:blipFill>
        <p:spPr>
          <a:xfrm>
            <a:off x="6500880" y="3786120"/>
            <a:ext cx="2432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3f3f3"/>
                </a:solidFill>
                <a:latin typeface="AnastasiaScript"/>
              </a:rPr>
              <a:t>Материалы и инструменты </a:t>
            </a: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95280" y="1904760"/>
            <a:ext cx="720576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Полоски из двухсторонней цветной бумаги 0,3-0,5 мм для цветов, полоски шириной 50 м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Приспособление для скручивания полосок (может подойти обыкновенный стержень от ручк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Линей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анцелярский нож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лей П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лей «Момент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Ножн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Приступаем к созданию панно «Весёлая гусеница»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5960" y="2356920"/>
            <a:ext cx="6286320" cy="36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реализации своей идеи создайте эскиз, то есть нарисуйте на основе  картину   будущей работы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Можно использовать картинки из детских книг, раскрас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 процессе работы прикладывайте скрученные элементы к эскизу, но не приклеивайте их сразу. У вас будет возможность вносить небольшие измен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Не бойтесь, если результат будет отличаться от эскиз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12142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nastasiaScript"/>
              </a:rPr>
              <a:t>1. Создаем эскиз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Последовательность выполнения работы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9680" y="1928880"/>
            <a:ext cx="63579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Arial Narrow"/>
              </a:rPr>
              <a:t>    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создания такого панно необходимо нарезать полоски зеленого, желтого, оранжевого, красного цвета шириной 0,3-0,5 мм  для цветов и бабочек,  шириной 50 мм для туловища гусеницы  из стандартного листа бумаги А4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3. Крутим роллы для цветов и бабочек, и для туловища гусен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оформления туловища  нарезаем мелко бахрому по всей желтой полоске , пока она не закончится. Скручиваем туго в роллы, добавляя немного клея для надежности. </a:t>
            </a:r>
            <a:br>
              <a:rPr sz="1600"/>
            </a:br>
            <a:r>
              <a:rPr b="0" lang="ru-RU" sz="16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При накручивании любого элемента необходимо учитывать, что размер всегда зависит от длинны полоски и толщины бумаг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выполнения цветов, бабочек  – по одной полоск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– две полос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00040" y="142884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2. Нарезаем  поло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Рисунок 4" descr="D:\Новая папка\SDC10921.JPG"/>
          <p:cNvPicPr/>
          <p:nvPr/>
        </p:nvPicPr>
        <p:blipFill>
          <a:blip r:embed="rId3"/>
          <a:srcRect l="15883" t="6473" r="11908" b="6674"/>
          <a:stretch/>
        </p:blipFill>
        <p:spPr>
          <a:xfrm>
            <a:off x="6786720" y="4643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C:\Documents and Settings\Владелец\Local Settings\Temporary Internet Files\Content.Word\SDC10919.jpg"/>
          <p:cNvPicPr/>
          <p:nvPr/>
        </p:nvPicPr>
        <p:blipFill>
          <a:blip r:embed="rId4"/>
          <a:stretch/>
        </p:blipFill>
        <p:spPr>
          <a:xfrm>
            <a:off x="6786720" y="928800"/>
            <a:ext cx="1785960" cy="142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:\Новая папка\SDC10920.JPG"/>
          <p:cNvPicPr/>
          <p:nvPr/>
        </p:nvPicPr>
        <p:blipFill>
          <a:blip r:embed="rId5"/>
          <a:srcRect l="0" t="6890" r="0" b="0"/>
          <a:stretch/>
        </p:blipFill>
        <p:spPr>
          <a:xfrm>
            <a:off x="6786720" y="2500200"/>
            <a:ext cx="17859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92912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3. Собираем готовые роллы </a:t>
            </a:r>
            <a:br>
              <a:rPr sz="32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85560" y="150012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используйте  полоски бумаги, склеенные вдвое, длину регулируйте по необходимости. С помощью ножниц придаём фор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4. Составляем композицию  по эскиз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Разложите  заготовки для туловища  и цвет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ыберите  материал для фона, рам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Picture 4" descr="D:\Новая папка\SDC10922.JPG"/>
          <p:cNvPicPr/>
          <p:nvPr/>
        </p:nvPicPr>
        <p:blipFill>
          <a:blip r:embed="rId1"/>
          <a:stretch/>
        </p:blipFill>
        <p:spPr>
          <a:xfrm>
            <a:off x="6357960" y="1143000"/>
            <a:ext cx="2500200" cy="29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D:\Новая папка\SDC10923.JPG"/>
          <p:cNvPicPr/>
          <p:nvPr/>
        </p:nvPicPr>
        <p:blipFill>
          <a:blip r:embed="rId2"/>
          <a:stretch/>
        </p:blipFill>
        <p:spPr>
          <a:xfrm>
            <a:off x="5072040" y="3429000"/>
            <a:ext cx="2441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nastasiaScript"/>
              </a:rPr>
              <a:t>5. Выбираем  и оформляем основу панно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1904760"/>
            <a:ext cx="3348000" cy="38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Если у вас нет подходящей рамки , то в качестве фона можно использовать потолочную плитку предварительно обклеив бумагой или коробки из-под конфет.</a:t>
            </a:r>
            <a:br>
              <a:rPr sz="1800"/>
            </a:br>
            <a:r>
              <a:rPr b="0" lang="ru-RU" sz="18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ture 4" descr="D:\Новая папка\SDC10924.JPG"/>
          <p:cNvPicPr/>
          <p:nvPr/>
        </p:nvPicPr>
        <p:blipFill>
          <a:blip r:embed="rId1"/>
          <a:stretch/>
        </p:blipFill>
        <p:spPr>
          <a:xfrm>
            <a:off x="6215040" y="1428840"/>
            <a:ext cx="253512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C:\Documents and Settings\Владелец\Local Settings\Temporary Internet Files\Content.Word\SDC10925.jpg"/>
          <p:cNvPicPr/>
          <p:nvPr/>
        </p:nvPicPr>
        <p:blipFill>
          <a:blip r:embed="rId2"/>
          <a:stretch/>
        </p:blipFill>
        <p:spPr>
          <a:xfrm>
            <a:off x="4429080" y="4214880"/>
            <a:ext cx="2508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24:28Z</dcterms:created>
  <dc:creator>*</dc:creator>
  <dc:description/>
  <dc:language>en-US</dc:language>
  <cp:lastModifiedBy>u</cp:lastModifiedBy>
  <dcterms:modified xsi:type="dcterms:W3CDTF">2012-12-08T11:19:59Z</dcterms:modified>
  <cp:revision>31</cp:revision>
  <dc:subject/>
  <dc:title>Квиллинг – мастер-класс, как сделать цветок </dc:title>
</cp:coreProperties>
</file>