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DA7-08FB-4399-A191-7940FD29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763-4E62-4045-8F44-47B29DAF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4F2-B805-4E8C-93DA-309DE402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5DB-E4A1-42FD-82B8-F098B570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A9BE-B659-43E5-9282-E1A1E4FF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4BAD-52D5-48AB-BF62-B3206C85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814D-63C2-4A8D-B6B2-E5656A2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B91C-1ED3-4E8A-B4C9-84286080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7FD3-F803-4D5C-953C-A9C6F806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8930-F47D-48A3-8A09-F8245A49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E0B-0B34-4B53-A6CF-58A3DC0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10E-2FBB-4FDE-84E7-85F2715F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3973-9C5D-42BF-A3FE-3E4553A6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2E5E-8558-42A6-AE06-5D729B6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447-F4A5-48A8-A431-37BB6AF1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89A-EBFB-4EFC-83C7-C6DF4092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4B92-0171-4489-A1A1-EA38F728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B72-D2DE-48E0-A5DF-34C88A9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6E3-2ACB-48DF-888D-2C632FD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49C-0EB5-46D9-A3B6-A64E8159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27E-AA03-45AC-938B-EB89DB2A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733-35C6-4576-9DFC-5D3C3CFE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AB2-6216-4E3F-B453-331285C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E97-99FB-4E2E-BCC1-4A87AE24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0F54-6C6A-4595-8092-9AA2679C0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290-FEE8-46BF-ADBB-347EE66D8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5&amp;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www.katjushik.ru%2Fimages%2FIMG_5363-300x225.jpg&amp;pos=1350&amp;rpt=simage&amp;lr=1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80;&#1079;&#1075;&#1086;&#1090;&#1086;&#1074;&#1083;&#1077;&#1085;&#1080;&#1077;%20&#1087;&#1086;&#1076;&#1077;&#1083;&#1086;&#1082;%20&#1080;&#1079;%20&#1082;&#1086;&#1078;&#1080;&amp;noreask=1&amp;img_url=cl49902.tmweb.ru%2Fwp-content%2Fuploads%2F2011%2F04%2FIMG_6398.jpg&amp;pos=144&amp;rpt=simage&amp;lr=1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4&amp;text=&#1086;&#1088;&#1080;&#1075;&#1072;&#1084;&#1080;%20&#1082;&#1086;&#1096;&#1082;&#1072;&amp;noreask=1&amp;img_url=savepic.ru%2F389289.jpg&amp;pos=1043&amp;rpt=simage&amp;lr=14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p=4&amp;text=&#1082;&#1072;&#1088;&#1090;&#1080;&#1085;&#1082;&#1080;%20&#1082;%20&#1082;&#1088;&#1091;&#1078;&#1082;&#1091;%20&#1087;&#1086;%20&#1076;&#1077;&#1082;&#1086;&#1088;&#1072;&#1090;&#1080;&#1074;&#1085;&#1086;-&#1087;&#1088;&#1080;&#1082;&#1083;&#1072;&#1076;&#1085;&#1086;&#1084;&#1091;%20&#1080;&#1089;&#1082;&#1091;&#1089;&#1089;&#1090;&#1074;&#1091;&amp;noreask=1&amp;img_url=www.bombox.ru%2Fcomponents%2Fcom_joomgallery%2Fimg_originals%2F___84%2F-____-_7_38%2F__-_____257%2F_-____-_____2010_20100324_1139468807.jpg&amp;pos=126&amp;rpt=simage&amp;lr=1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2;&#1072;&#1088;&#1090;&#1080;&#1085;&#1082;&#1080;%20&#1082;%20&#1082;&#1088;&#1091;&#1078;&#1082;&#1091;%20&#1087;&#1086;%20&#1076;&#1077;&#1082;&#1086;&#1088;&#1072;&#1090;&#1080;&#1074;&#1085;&#1086;-&#1087;&#1088;&#1080;&#1082;&#1083;&#1072;&#1076;&#1085;&#1086;&#1084;&#1091;%20&#1080;&#1089;&#1082;&#1091;&#1089;&#1089;&#1090;&#1074;&#1091;&amp;noreask=1&amp;img_url=news.nikcity.com%2Fstorage%2Fimages%2F2012_03%2F32086_16_800x536.jpeg&amp;pos=73&amp;rpt=simage&amp;lr=1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&amp;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www.hobbygirl.ru%2Fcmsfiles%2Fimage%2F01%281%29.jpg&amp;pos=245&amp;rpt=simage&amp;lr=14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img0.liveinternet.ru%2Fimages%2Fattach%2Fc%2F3%2F76%2F154%2F76154410_large_1e5b4dd057ce.jpg&amp;pos=1&amp;rpt=simage&amp;lr=14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p=22&amp;text=&#1087;&#1086;&#1076;&#1077;&#1083;&#1082;&#1072;%20&#1080;&#1079;%20&#1087;&#1088;&#1080;&#1088;&#1086;&#1076;&#1085;&#1086;&#1075;&#1086;%20&#1084;&#1072;&#1090;&#1077;&#1088;&#1080;&#1072;&#1083;&#1072;&amp;noreask=1&amp;img_url=stranamasterov.ru%2Ffiles%2Fimagecache%2Forig_with_logo3%2Fi2010%2F10%2F11%2Fp1010981.jpg&amp;pos=689&amp;rpt=simage&amp;lr=14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p=30&amp;text=&#1080;&#1075;&#1088;&#1091;&#1096;&#1082;&#1080;%20&#1080;&#1079;%20&#1087;&#1086;&#1084;&#1087;&#1086;&#1085;&#1086;&#1074;&amp;img_url=bigls.com.ua%2Fuploads%2Fimages%2F8%2F5%2F9%2F5%2F93%2F568c942523.jpg&amp;pos=926&amp;rpt=simage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text=&#1087;&#1086;&#1076;&#1077;&#1083;&#1082;&#1080;%20&#1080;&#1079;%20&#1073;&#1091;&#1084;&#1072;&#1075;&#1080;&amp;noreask=1&amp;img_url=gallery.forum-grad.ru%2Ffiles%2F7%2F1%2F8%2F6%2F4%2F635.jpg&amp;pos=0&amp;rpt=simage&amp;lr=14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9&amp;text=&#1087;&#1086;&#1076;&#1077;&#1083;&#1082;&#1072;%20&#1080;&#1079;%20&#1087;&#1088;&#1080;&#1088;&#1086;&#1076;&#1085;&#1086;&#1075;&#1086;%20&#1084;&#1072;&#1090;&#1077;&#1088;&#1080;&#1072;&#1083;&#1072;&amp;noreask=1&amp;img_url=www.teremoc.ru%2Fmasterim%2Fchudo%2F200a.jpg&amp;pos=594&amp;rpt=simage&amp;lr=14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0;&#1075;&#1088;&#1091;&#1096;&#1082;&#1080;%20&#1080;&#1079;%20&#1087;&#1086;&#1084;&#1087;&#1086;&#1085;&#1086;&#1074;&amp;img_url=torrents.bookaudio.ru%2Fimages%2F1-6962.jpg&amp;pos=202&amp;rpt=simage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p=13&amp;text=&#1086;&#1088;&#1080;&#1075;&#1072;&#1084;&#1080;%20&#1082;&#1086;&#1096;&#1082;&#1072;&amp;noreask=1&amp;img_url=www.relef.ru%2Fdata%2Fcatalog%2Fproducts%2F120867.jpg&amp;pos=393&amp;rpt=simage&amp;lr=14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p=3&amp;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s017.radikal.ru%2Fi409%2F1202%2F6f%2F699463da3a06.jpg&amp;pos=110&amp;rpt=simage&amp;lr=14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yandex.ru/yandsearch?p=2&amp;text=&#1086;&#1073;&#1083;&#1086;&#1078;&#1082;&#1072;%20&#1082;&#1085;&#1080;&#1075;&#1080;%20&#1087;&#1086;&#1076;&#1077;&#1083;&#1082;&#1080;%20&#1080;&#1079;%20&#1087;&#1088;&#1080;&#1088;&#1086;&#1076;&#1085;&#1086;&#1075;&#1086;%20&#1084;&#1072;&#1090;&#1077;&#1088;&#1080;&#1072;&#1083;&#1072;&amp;img_url=www.dom-knigi.ru%2Fimages%2Fimage.asp%3FArt%3D359038&amp;pos=72&amp;rpt=simage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2&amp;text=&#1082;&#1072;&#1088;&#1090;&#1080;&#1085;&#1082;&#1080;%20&#1074;&#1099;&#1089;&#1090;&#1072;&#1074;&#1086;&#1082;%20&#1087;&#1086;&#1076;&#1077;&#1083;&#1086;&#1082;&amp;img_url=img0.liveinternet.ru%2Fimages%2Fattach%2Fc%2F0%2F53%2F60%2F53060628_rozhi013.jpg&amp;pos=662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Arial"/>
              </a:rPr>
              <a:t>Государственное бюджетное образовательное учреждение дополнительного профессионального образования Тверской областной институт усовершенствования учителей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грамма внеурочной деятельности                      художественно - эстетического направле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 Маленький мастер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93372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eec94"/>
                </a:solidFill>
                <a:uFillTx/>
                <a:latin typeface="Times New Roman"/>
              </a:rPr>
              <a:t>Автор проекта: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орянова О.П.- МОУ ООШ № 1 п. Спир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371628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ктуальност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ажнейшей целью современного образования и одной из приоритетных задач общества и государства является воспитание нравственного, ответственного, инициативного и компетентного гражданина Росс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2943720"/>
            <a:ext cx="87850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ольшое внимание уделено организации внеурочной деятельности, как дополнительной  среды развития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неурочная  художественная деятельность может способствовать в первую очередь духовно-нравственному развитию и воспитанию школьника, так как синтезирует различные  виды творчества. Одним из таких  видов является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екоративно-прикладное искусств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1592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е условий для развития творческих способностей и самореализации детей посредством включения их в различные виды прикладного творче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0280"/>
            <a:ext cx="193176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645000"/>
            <a:ext cx="50421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28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 развивать интерес и любовь к прикладному творчеству, основанному на    народных традиция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прививать и поощрять любознательность, фантазию и воображение в поисках новых форм и декоративных средств выражения образа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развивать трудолюбие, целеустремлённость, усидчивость и аккуратность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стимулировать детей к дальнейшему самообразованию и        самосовершенствованию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воспитывать бережное отношение к природе и любовь к Родин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развивать умения контактировать со сверстниками, в твор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развивать стремление к творческой самореализаци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15920"/>
            <a:ext cx="27367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9708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чебно-тематический пл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№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ы                           Всего часов    Теория   Практика        1.     Вводное занятие                      2                         1                  1      2.     Работа с бумагой                     6                         1                  5      3.     Работа с пряжей                       6                         1                  5       4.     Работа с природными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териалами                            6                         1      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.     Кожная пластика                       5                         1                  4       6.    Лепка из солёного теста         7                         1                  6    7.    Отчётная выставка рабо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учающихся                            1                                             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того:         33                         6                 2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189000"/>
            <a:ext cx="981000" cy="112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456160"/>
            <a:ext cx="187164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5456160"/>
            <a:ext cx="1871640" cy="1401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27280" y="5429160"/>
            <a:ext cx="20462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429160"/>
            <a:ext cx="218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13080" y="277560"/>
            <a:ext cx="92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анируемые результат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ащиеся получат начальные представления о материальной культуре, как продукте творческой, предметно-преобразующей деятельности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получат начальные знания и представления о наиболее важных правилах дизайна, которые необходимо учитывать при создании предметов материальной культуры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научатся использовать приобретённые знания и умения для творческой самореализации при оформлении своего дома и классной комнаты, при изготовлении подарков близким и друзьям, игрушечных моделей, художественно-декоративных и других издел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получат первоначальный опыт трудового самовоспитания: научатся самостоятельно обслуживать себя в школе, дома, элементарно ухаживать за одеждой и обувью, помогать младшим и старшим, оказывать доступную помощь по хозяйств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189000"/>
            <a:ext cx="1074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202"/>
                </a:solidFill>
                <a:latin typeface="Times New Roman"/>
              </a:rPr>
              <a:t>У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иверсальные </a:t>
            </a:r>
            <a:r>
              <a:rPr b="1" lang="en-US" sz="4000" spc="-1" strike="noStrike">
                <a:solidFill>
                  <a:srgbClr val="e40202"/>
                </a:solidFill>
                <a:latin typeface="Times New Roman"/>
              </a:rPr>
              <a:t>у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ебные </a:t>
            </a:r>
            <a:r>
              <a:rPr b="1" lang="en-US" sz="4000" spc="-1" strike="noStrike">
                <a:solidFill>
                  <a:srgbClr val="e40202"/>
                </a:solidFill>
                <a:latin typeface="Times New Roman"/>
              </a:rPr>
              <a:t>д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ействи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Личностные универсальные учебные действ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сознание своих творческих возможност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проявление познавательных мотиво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развитие чувства прекрасного и эстетического чувства на основе знакомства с мировой и художественной культуро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егулятивные универсальные учебные действ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планировать совместно с учителем свои действия в соответствии с  поставленной задач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принимать и сохранять учебную задач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существлять итоговый и пошаговый контроль по результат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различать способ и результат действ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адекватно воспринимать словесную оценку учител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в сотрудничестве с учителем ставить новые учебные задач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знавательные универсальные учебные действия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существлять поиск и выделять конкретную информацию с помощью учителя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строить речевые высказывания в устной форм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формлять свою мысль в устной форме по типу рассужден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включаться в творческую деятельность под руководством учите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Коммуникативные универсальные учебные действ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формулировать собственное мнение и позицию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задавать вопросы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допускать возможность существования у людей различных точек зрения, в том числе не совпадающих с его собственно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договариваться и приходить к общему решению в совместной   трудовой, творческой деятель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757440" y="-360"/>
            <a:ext cx="8065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тера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ГОС НОО (приложение к приказу Министерства образования и науки от 6октября 2009г №37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 Д. В. Григорьев, Б. В. Куприянов. Программы внеурочной деятельности. М.,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 Д.В.Григорьев, П.В.Степанов. Внеурочная деятельность школьников. Методический конструктор: пособие для учителя. М.,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.  С. Гардт. «Разноцветные поделки из природных материалов». 2005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.  А. Блондель, С. Деон. « Игрушки – помпоны своими руками». 2006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.  И. Хананова «Солёное тесто». 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.  Н. М.Конышева « Чудесная мастерская».2005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.  Л. И.Трепетунова.2009 « Природный материал и фантазия».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5429160"/>
            <a:ext cx="99396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32360" y="542916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250920" y="54291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3564000" y="542916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stand_"/>
          <p:cNvPicPr/>
          <p:nvPr/>
        </p:nvPicPr>
        <p:blipFill>
          <a:blip r:embed="rId11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Спасибо за внимание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82803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08:39Z</dcterms:created>
  <dc:creator>КМ</dc:creator>
  <dc:description/>
  <dc:language>en-US</dc:language>
  <cp:lastModifiedBy>КМ</cp:lastModifiedBy>
  <dcterms:modified xsi:type="dcterms:W3CDTF">2012-12-22T10:11:21Z</dcterms:modified>
  <cp:revision>6</cp:revision>
  <dc:subject/>
  <dc:title>Государственное бюджетное образовательное учреждение дополнительного профессионального образования Тверской областной институт усовершенствования учителей</dc:title>
</cp:coreProperties>
</file>