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DA34-D5B3-4802-B6BB-A6D2CDF8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6C9-F20B-471C-8F81-2ED8D869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F03-5A47-461D-94D5-BFC984A0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71E-9C2A-4F46-A96F-165AB79C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FF83-769A-4F00-8B5D-B019D85B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98F5-4676-4832-B73A-C8DD91A7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9925-28BF-41C9-8D87-8D0D74DD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D4C8-D2D1-4FCD-99CA-A6250A41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5E0B-A9BE-42D0-965F-A116F73E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1D76-4000-41CB-BC00-82FFF448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7AF8-08F9-48A7-B9B0-918F49CD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428-C466-4DA1-899E-1C26586D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CFAF-93BE-425C-9F76-AAE4B2E0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0B47-4DB2-4B11-9269-051B637C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9228-B7DF-4866-90E2-FFD42480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5B94-5A27-4885-A7AF-C2B32AF1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9FB3-DCF5-4BF4-8C9E-526F752D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8D9-D94A-4EDA-8CCA-550604FF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83E-0EF0-4681-920D-73A15BC3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6AA-C319-49F4-A832-EA40349D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8B1-147B-4E6F-A137-BCC0CF36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70A-DF4A-4FBC-A48C-8ABC50D5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195-6D9E-461D-8A47-FD7EC725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7A6-4705-424D-A198-B34A1F6C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95FA-E75B-4B96-9739-6605BC823C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3AB3-BAF9-430C-8098-1A8B44955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5&amp;text=&#1080;&#1079;&#1075;&#1086;&#1090;&#1086;&#1074;&#1083;&#1077;&#1085;&#1080;&#1077;%20&#1087;&#1086;&#1076;&#1077;&#1083;&#1086;&#1082;%20&#1080;&#1079;%20&#1089;&#1086;&#1083;&#1077;&#1085;&#1086;&#1075;&#1086;%20&#1090;&#1077;&#1089;&#1090;&#1072;&amp;noreask=1&amp;img_url=www.katjushik.ru%2Fimages%2FIMG_5363-300x225.jpg&amp;pos=1350&amp;rpt=simage&amp;lr=1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&amp;text=&#1080;&#1079;&#1075;&#1086;&#1090;&#1086;&#1074;&#1083;&#1077;&#1085;&#1080;&#1077;%20&#1087;&#1086;&#1076;&#1077;&#1083;&#1086;&#1082;%20&#1080;&#1079;%20&#1082;&#1086;&#1078;&#1080;&amp;noreask=1&amp;img_url=cl49902.tmweb.ru%2Fwp-content%2Fuploads%2F2011%2F04%2FIMG_6398.jpg&amp;pos=144&amp;rpt=simage&amp;lr=1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4&amp;text=&#1086;&#1088;&#1080;&#1075;&#1072;&#1084;&#1080;%20&#1082;&#1086;&#1096;&#1082;&#1072;&amp;noreask=1&amp;img_url=savepic.ru%2F389289.jpg&amp;pos=1043&amp;rpt=simage&amp;lr=14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yandex.ru/yandsearch?p=4&amp;text=&#1082;&#1072;&#1088;&#1090;&#1080;&#1085;&#1082;&#1080;%20&#1082;%20&#1082;&#1088;&#1091;&#1078;&#1082;&#1091;%20&#1087;&#1086;%20&#1076;&#1077;&#1082;&#1086;&#1088;&#1072;&#1090;&#1080;&#1074;&#1085;&#1086;-&#1087;&#1088;&#1080;&#1082;&#1083;&#1072;&#1076;&#1085;&#1086;&#1084;&#1091;%20&#1080;&#1089;&#1082;&#1091;&#1089;&#1089;&#1090;&#1074;&#1091;&amp;noreask=1&amp;img_url=www.bombox.ru%2Fcomponents%2Fcom_joomgallery%2Fimg_originals%2F___84%2F-____-_7_38%2F__-_____257%2F_-____-_____2010_20100324_1139468807.jpg&amp;pos=126&amp;rpt=simage&amp;lr=14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text=&#1082;&#1072;&#1088;&#1090;&#1080;&#1085;&#1082;&#1080;%20&#1082;%20&#1082;&#1088;&#1091;&#1078;&#1082;&#1091;%20&#1087;&#1086;%20&#1076;&#1077;&#1082;&#1086;&#1088;&#1072;&#1090;&#1080;&#1074;&#1085;&#1086;-&#1087;&#1088;&#1080;&#1082;&#1083;&#1072;&#1076;&#1085;&#1086;&#1084;&#1091;%20&#1080;&#1089;&#1082;&#1091;&#1089;&#1089;&#1090;&#1074;&#1091;&amp;noreask=1&amp;img_url=news.nikcity.com%2Fstorage%2Fimages%2F2012_03%2F32086_16_800x536.jpeg&amp;pos=73&amp;rpt=simage&amp;lr=14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8&amp;text=&#1080;&#1079;&#1075;&#1086;&#1090;&#1086;&#1074;&#1083;&#1077;&#1085;&#1080;&#1077;%20&#1087;&#1086;&#1076;&#1077;&#1083;&#1086;&#1082;%20&#1080;&#1079;%20&#1089;&#1086;&#1083;&#1077;&#1085;&#1086;&#1075;&#1086;%20&#1090;&#1077;&#1089;&#1090;&#1072;&amp;noreask=1&amp;img_url=www.hobbygirl.ru%2Fcmsfiles%2Fimage%2F01%281%29.jpg&amp;pos=245&amp;rpt=simage&amp;lr=14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yandsearch?text=&#1080;&#1079;&#1075;&#1086;&#1090;&#1086;&#1074;&#1083;&#1077;&#1085;&#1080;&#1077;%20&#1087;&#1086;&#1076;&#1077;&#1083;&#1086;&#1082;%20&#1080;&#1079;%20&#1089;&#1086;&#1083;&#1077;&#1085;&#1086;&#1075;&#1086;%20&#1090;&#1077;&#1089;&#1090;&#1072;&amp;noreask=1&amp;img_url=img0.liveinternet.ru%2Fimages%2Fattach%2Fc%2F3%2F76%2F154%2F76154410_large_1e5b4dd057ce.jpg&amp;pos=1&amp;rpt=simage&amp;lr=14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yandex.ru/yandsearch?p=22&amp;text=&#1087;&#1086;&#1076;&#1077;&#1083;&#1082;&#1072;%20&#1080;&#1079;%20&#1087;&#1088;&#1080;&#1088;&#1086;&#1076;&#1085;&#1086;&#1075;&#1086;%20&#1084;&#1072;&#1090;&#1077;&#1088;&#1080;&#1072;&#1083;&#1072;&amp;noreask=1&amp;img_url=stranamasterov.ru%2Ffiles%2Fimagecache%2Forig_with_logo3%2Fi2010%2F10%2F11%2Fp1010981.jpg&amp;pos=689&amp;rpt=simage&amp;lr=14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yandex.ru/yandsearch?p=30&amp;text=&#1080;&#1075;&#1088;&#1091;&#1096;&#1082;&#1080;%20&#1080;&#1079;%20&#1087;&#1086;&#1084;&#1087;&#1086;&#1085;&#1086;&#1074;&amp;img_url=bigls.com.ua%2Fuploads%2Fimages%2F8%2F5%2F9%2F5%2F93%2F568c942523.jpg&amp;pos=926&amp;rpt=simage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yandex.ru/yandsearch?text=&#1087;&#1086;&#1076;&#1077;&#1083;&#1082;&#1080;%20&#1080;&#1079;%20&#1073;&#1091;&#1084;&#1072;&#1075;&#1080;&amp;noreask=1&amp;img_url=gallery.forum-grad.ru%2Ffiles%2F7%2F1%2F8%2F6%2F4%2F635.jpg&amp;pos=0&amp;rpt=simage&amp;lr=14" TargetMode="External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9&amp;text=&#1087;&#1086;&#1076;&#1077;&#1083;&#1082;&#1072;%20&#1080;&#1079;%20&#1087;&#1088;&#1080;&#1088;&#1086;&#1076;&#1085;&#1086;&#1075;&#1086;%20&#1084;&#1072;&#1090;&#1077;&#1088;&#1080;&#1072;&#1083;&#1072;&amp;noreask=1&amp;img_url=www.teremoc.ru%2Fmasterim%2Fchudo%2F200a.jpg&amp;pos=594&amp;rpt=simage&amp;lr=14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6&amp;text=&#1080;&#1075;&#1088;&#1091;&#1096;&#1082;&#1080;%20&#1080;&#1079;%20&#1087;&#1086;&#1084;&#1087;&#1086;&#1085;&#1086;&#1074;&amp;img_url=torrents.bookaudio.ru%2Fimages%2F1-6962.jpg&amp;pos=202&amp;rpt=simage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p=13&amp;text=&#1086;&#1088;&#1080;&#1075;&#1072;&#1084;&#1080;%20&#1082;&#1086;&#1096;&#1082;&#1072;&amp;noreask=1&amp;img_url=www.relef.ru%2Fdata%2Fcatalog%2Fproducts%2F120867.jpg&amp;pos=393&amp;rpt=simage&amp;lr=14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p=3&amp;text=&#1080;&#1079;&#1075;&#1086;&#1090;&#1086;&#1074;&#1083;&#1077;&#1085;&#1080;&#1077;%20&#1087;&#1086;&#1076;&#1077;&#1083;&#1086;&#1082;%20&#1080;&#1079;%20&#1089;&#1086;&#1083;&#1077;&#1085;&#1086;&#1075;&#1086;%20&#1090;&#1077;&#1089;&#1090;&#1072;&amp;noreask=1&amp;img_url=s017.radikal.ru%2Fi409%2F1202%2F6f%2F699463da3a06.jpg&amp;pos=110&amp;rpt=simage&amp;lr=14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yandex.ru/yandsearch?p=2&amp;text=&#1086;&#1073;&#1083;&#1086;&#1078;&#1082;&#1072;%20&#1082;&#1085;&#1080;&#1075;&#1080;%20&#1087;&#1086;&#1076;&#1077;&#1083;&#1082;&#1080;%20&#1080;&#1079;%20&#1087;&#1088;&#1080;&#1088;&#1086;&#1076;&#1085;&#1086;&#1075;&#1086;%20&#1084;&#1072;&#1090;&#1077;&#1088;&#1080;&#1072;&#1083;&#1072;&amp;img_url=www.dom-knigi.ru%2Fimages%2Fimage.asp%3FArt%3D359038&amp;pos=72&amp;rpt=simage" TargetMode="External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2&amp;text=&#1082;&#1072;&#1088;&#1090;&#1080;&#1085;&#1082;&#1080;%20&#1074;&#1099;&#1089;&#1090;&#1072;&#1074;&#1086;&#1082;%20&#1087;&#1086;&#1076;&#1077;&#1083;&#1086;&#1082;&amp;img_url=img0.liveinternet.ru%2Fimages%2Fattach%2Fc%2F0%2F53%2F60%2F53060628_rozhi013.jpg&amp;pos=662&amp;rpt=simage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Arial"/>
              </a:rPr>
              <a:t>Государственное бюджетное образовательное учреждение дополнительного профессионального образования Тверской областной институт усовершенствования учителей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23640" y="1341000"/>
            <a:ext cx="8497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ограмма внеурочной деятельности                      художественно - эстетического направлени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« Маленький мастер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393372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eec94"/>
                </a:solidFill>
                <a:uFillTx/>
                <a:latin typeface="Times New Roman"/>
              </a:rPr>
              <a:t>Автор проекта: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Горянова О.П.- МОУ ООШ № 1 п. Спиро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3716280"/>
            <a:ext cx="38354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2775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Актуальность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ажнейшей целью современного образования и одной из приоритетных задач общества и государства является воспитание нравственного, ответственного, инициативного и компетентного гражданина Росси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8000" y="2943720"/>
            <a:ext cx="878508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Большое внимание уделено организации внеурочной деятельности, как дополнительной  среды развития ребе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неурочная  художественная деятельность может способствовать в первую очередь духовно-нравственному развитию и воспитанию школьника, так как синтезирует различные  виды творчества. Одним из таких  видов является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декоративно-прикладное искусств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115920"/>
            <a:ext cx="2232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Цель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здание условий для развития творческих способностей и самореализации детей посредством включения их в различные виды прикладного творчеств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260280"/>
            <a:ext cx="1931760" cy="1428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645000"/>
            <a:ext cx="50421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28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дач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 развивать интерес и любовь к прикладному творчеству, основанному на    народных традициях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прививать и поощрять любознательность, фантазию и воображение в поисках новых форм и декоративных средств выражения образа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развивать трудолюбие, целеустремлённость, усидчивость и аккуратность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стимулировать детей к дальнейшему самообразованию и        самосовершенствованию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воспитывать бережное отношение к природе и любовь к Родин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развивать умения контактировать со сверстниками, в творческой деятельност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развивать стремление к творческой самореализаци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15920"/>
            <a:ext cx="27367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9708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Учебно-тематический пл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075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№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емы                           Всего часов    Теория   Практика        1.     Вводное занятие                      2                         1                  1      2.     Работа с бумагой                     6                         1                  5      3.     Работа с пряжей                       6                         1                  5       4.     Работа с природными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материалами                            6                         1                 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.     Кожная пластика                       5                         1                  4       6.    Лепка из солёного теста         7                         1                  6    7.    Отчётная выставка рабо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бучающихся                            1                                             1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того:         33                         6                 27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28000" y="189000"/>
            <a:ext cx="981000" cy="1125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5456160"/>
            <a:ext cx="1871640" cy="1401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32360" y="5456160"/>
            <a:ext cx="1871640" cy="1401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627280" y="5429160"/>
            <a:ext cx="204624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5429160"/>
            <a:ext cx="21826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13080" y="277560"/>
            <a:ext cx="92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ланируемые результаты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учащиеся получат начальные представления о материальной культуре, как продукте творческой, предметно-преобразующей деятельности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получат начальные знания и представления о наиболее важных правилах дизайна, которые необходимо учитывать при создании предметов материальной культуры;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научатся использовать приобретённые знания и умения для творческой самореализации при оформлении своего дома и классной комнаты, при изготовлении подарков близким и друзьям, игрушечных моделей, художественно-декоративных и других издел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получат первоначальный опыт трудового самовоспитания: научатся самостоятельно обслуживать себя в школе, дома, элементарно ухаживать за одеждой и обувью, помогать младшим и старшим, оказывать доступную помощь по хозяйств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56720" y="189000"/>
            <a:ext cx="1074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202"/>
                </a:solidFill>
                <a:latin typeface="Times New Roman"/>
              </a:rPr>
              <a:t>У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иверсальные </a:t>
            </a:r>
            <a:r>
              <a:rPr b="1" lang="en-US" sz="4000" spc="-1" strike="noStrike">
                <a:solidFill>
                  <a:srgbClr val="e40202"/>
                </a:solidFill>
                <a:latin typeface="Times New Roman"/>
              </a:rPr>
              <a:t>у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чебные </a:t>
            </a:r>
            <a:r>
              <a:rPr b="1" lang="en-US" sz="4000" spc="-1" strike="noStrike">
                <a:solidFill>
                  <a:srgbClr val="e40202"/>
                </a:solidFill>
                <a:latin typeface="Times New Roman"/>
              </a:rPr>
              <a:t>д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ействия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Личностные универсальные учебные действ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осознание своих творческих возможносте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проявление познавательных мотиво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развитие чувства прекрасного и эстетического чувства на основе знакомства с мировой и художественной культуро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Регулятивные универсальные учебные действ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планировать совместно с учителем свои действия в соответствии с  поставленной задаче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принимать и сохранять учебную задачу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осуществлять итоговый и пошаговый контроль по результату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различать способ и результат действия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адекватно воспринимать словесную оценку учителя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в сотрудничестве с учителем ставить новые учебные задач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ознавательные универсальные учебные действия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осуществлять поиск и выделять конкретную информацию с помощью учителя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строить речевые высказывания в устной форм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оформлять свою мысль в устной форме по типу рассуждения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включаться в творческую деятельность под руководством учител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Коммуникативные универсальные учебные действ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формулировать собственное мнение и позицию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задавать вопросы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допускать возможность существования у людей различных точек зрения, в том числе не совпадающих с его собственно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 договариваться и приходить к общему решению в совместной   трудовой, творческой деятель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757440" y="-360"/>
            <a:ext cx="8065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итератур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ГОС НОО (приложение к приказу Министерства образования и науки от 6октября 2009г №37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.  Д. В. Григорьев, Б. В. Куприянов. Программы внеурочной деятельности. М., 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.  Д.В.Григорьев, П.В.Степанов. Внеурочная деятельность школьников. Методический конструктор: пособие для учителя. М.,2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.  С. Гардт. «Разноцветные поделки из природных материалов». 2005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.  А. Блондель, С. Деон. « Игрушки – помпоны своими руками». 2006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6.  И. Хананова «Солёное тесто». 2008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7.  Н. М.Конышева « Чудесная мастерская».2005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8.  Л. И.Трепетунова.2009 « Природный материал и фантазия».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5429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8000" y="5429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00720" y="5429160"/>
            <a:ext cx="993960" cy="1428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32360" y="5429160"/>
            <a:ext cx="1085760" cy="1428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>
            <a:off x="250920" y="54291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0"/>
          <a:stretch/>
        </p:blipFill>
        <p:spPr>
          <a:xfrm>
            <a:off x="3564000" y="542916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stand_"/>
          <p:cNvPicPr/>
          <p:nvPr/>
        </p:nvPicPr>
        <p:blipFill>
          <a:blip r:embed="rId11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Спасибо за внимание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828036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2T15:08:39Z</dcterms:created>
  <dc:creator>КМ</dc:creator>
  <dc:description/>
  <dc:language>en-US</dc:language>
  <cp:lastModifiedBy>КМ</cp:lastModifiedBy>
  <dcterms:modified xsi:type="dcterms:W3CDTF">2012-12-22T10:11:21Z</dcterms:modified>
  <cp:revision>6</cp:revision>
  <dc:subject/>
  <dc:title>Государственное бюджетное образовательное учреждение дополнительного профессионального образования Тверской областной институт усовершенствования учителей</dc:title>
</cp:coreProperties>
</file>