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1A6A-295B-4EF7-955A-8C368EE2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C9D3-C63A-4FE2-9FAA-6A614E95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C84C-6B02-4924-9EC7-DCCD50DA0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0BC1-47E5-4FB4-94AC-8200BA70E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EC3D-D5B6-4B21-B5AC-38A632F8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E57F-B98B-400F-B68C-73B9F7D2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7903-9BD9-4C0F-A9F0-7A6F60A5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7467-50B6-4A6F-9F84-2D3CEB6D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159C-79A5-4E46-B3B3-B837EA21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52F2-5682-49CA-8405-35883B0B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4579-5B6E-46C0-80A3-0B0208EC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A0C5-368A-42C0-A36A-9F428D47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D1D8-1D24-4ED7-BBEA-463A5E4839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lifesguide.ru/wp-content/uploads/2011/04/stirka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Картинка 18 из 75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0"/>
          <p:cNvSpPr/>
          <p:nvPr/>
        </p:nvSpPr>
        <p:spPr>
          <a:xfrm>
            <a:off x="0" y="5300640"/>
            <a:ext cx="543564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395280" y="476280"/>
            <a:ext cx="78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Маркировка символ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 уходу за текстильными издел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5">
            <a:hlinkClick r:id="" action="ppaction://hlinkshowjump?jump=nextslide"/>
          </p:cNvPr>
          <p:cNvSpPr/>
          <p:nvPr/>
        </p:nvSpPr>
        <p:spPr>
          <a:xfrm>
            <a:off x="8459640" y="6165720"/>
            <a:ext cx="540000" cy="538200"/>
          </a:xfrm>
          <a:custGeom>
            <a:avLst/>
            <a:gdLst>
              <a:gd name="textAreaLeft" fmla="*/ 34560 w 540000"/>
              <a:gd name="textAreaRight" fmla="*/ 505440 w 540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3830" y="3794"/>
                </a:moveTo>
                <a:lnTo>
                  <a:pt x="17843" y="10800"/>
                </a:lnTo>
                <a:lnTo>
                  <a:pt x="38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оотнеси символы с описанием 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пособов ухода за издел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24000" y="1628640"/>
          <a:ext cx="6480000" cy="4781520"/>
        </p:xfrm>
        <a:graphic>
          <a:graphicData uri="http://schemas.openxmlformats.org/drawingml/2006/table">
            <a:tbl>
              <a:tblPr/>
              <a:tblGrid>
                <a:gridCol w="4078080"/>
                <a:gridCol w="2401920"/>
              </a:tblGrid>
              <a:tr h="14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олько ручная стир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ашинную стирку не применят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аксимальная температура 40</a:t>
                      </a: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º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зделие при сушке должно раскладываться на ровной поверх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лажение при максимальной температуре нагрева подошвы утюга до 150</a:t>
                      </a: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º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AutoShape 35">
            <a:hlinkClick r:id="" action="ppaction://hlinkshowjump?jump=nextslide"/>
          </p:cNvPr>
          <p:cNvSpPr/>
          <p:nvPr/>
        </p:nvSpPr>
        <p:spPr>
          <a:xfrm>
            <a:off x="8459640" y="6165720"/>
            <a:ext cx="540000" cy="538200"/>
          </a:xfrm>
          <a:custGeom>
            <a:avLst/>
            <a:gdLst>
              <a:gd name="textAreaLeft" fmla="*/ 34560 w 540000"/>
              <a:gd name="textAreaRight" fmla="*/ 505440 w 540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3830" y="3794"/>
                </a:moveTo>
                <a:lnTo>
                  <a:pt x="17843" y="10800"/>
                </a:lnTo>
                <a:lnTo>
                  <a:pt x="38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4" descr="Копия (15) 1"/>
          <p:cNvPicPr/>
          <p:nvPr/>
        </p:nvPicPr>
        <p:blipFill>
          <a:blip r:embed="rId1"/>
          <a:stretch/>
        </p:blipFill>
        <p:spPr>
          <a:xfrm>
            <a:off x="7236000" y="1844640"/>
            <a:ext cx="1296720" cy="1131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5" descr="Копия (1) 1"/>
          <p:cNvPicPr/>
          <p:nvPr/>
        </p:nvPicPr>
        <p:blipFill>
          <a:blip r:embed="rId2"/>
          <a:stretch/>
        </p:blipFill>
        <p:spPr>
          <a:xfrm>
            <a:off x="7236000" y="3179880"/>
            <a:ext cx="1315800" cy="117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6" descr="Копия (10) 1"/>
          <p:cNvPicPr/>
          <p:nvPr/>
        </p:nvPicPr>
        <p:blipFill>
          <a:blip r:embed="rId3"/>
          <a:stretch/>
        </p:blipFill>
        <p:spPr>
          <a:xfrm>
            <a:off x="7238880" y="4537080"/>
            <a:ext cx="1368720" cy="1298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6" descr="Копия (9) 1"/>
          <p:cNvPicPr/>
          <p:nvPr/>
        </p:nvPicPr>
        <p:blipFill>
          <a:blip r:embed="rId4"/>
          <a:stretch/>
        </p:blipFill>
        <p:spPr>
          <a:xfrm>
            <a:off x="7224840" y="574560"/>
            <a:ext cx="136836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оотнеси символы с описанием 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пособов ухода за издел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600200"/>
          <a:ext cx="5554800" cy="4924440"/>
        </p:xfrm>
        <a:graphic>
          <a:graphicData uri="http://schemas.openxmlformats.org/drawingml/2006/table">
            <a:tbl>
              <a:tblPr/>
              <a:tblGrid>
                <a:gridCol w="3246480"/>
                <a:gridCol w="2308320"/>
              </a:tblGrid>
              <a:tr h="15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ухая чистка любыми растворителя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Щадящая чист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истка–самообслуживание запрещен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бычная чистка без ограничен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ухая чистка бензином, спирт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AutoShape 27">
            <a:hlinkClick r:id="" action="ppaction://hlinkshowjump?jump=nextslide"/>
          </p:cNvPr>
          <p:cNvSpPr/>
          <p:nvPr/>
        </p:nvSpPr>
        <p:spPr>
          <a:xfrm>
            <a:off x="8459640" y="6165720"/>
            <a:ext cx="540000" cy="538200"/>
          </a:xfrm>
          <a:custGeom>
            <a:avLst/>
            <a:gdLst>
              <a:gd name="textAreaLeft" fmla="*/ 34560 w 540000"/>
              <a:gd name="textAreaRight" fmla="*/ 505440 w 540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3830" y="3794"/>
                </a:moveTo>
                <a:lnTo>
                  <a:pt x="17843" y="10800"/>
                </a:lnTo>
                <a:lnTo>
                  <a:pt x="38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0" descr="Копия (4) 1"/>
          <p:cNvPicPr/>
          <p:nvPr/>
        </p:nvPicPr>
        <p:blipFill>
          <a:blip r:embed="rId1"/>
          <a:stretch/>
        </p:blipFill>
        <p:spPr>
          <a:xfrm>
            <a:off x="6967440" y="1763640"/>
            <a:ext cx="1368360" cy="1246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1" descr="Копия (3) 1"/>
          <p:cNvPicPr/>
          <p:nvPr/>
        </p:nvPicPr>
        <p:blipFill>
          <a:blip r:embed="rId2"/>
          <a:stretch/>
        </p:blipFill>
        <p:spPr>
          <a:xfrm>
            <a:off x="6953400" y="3332160"/>
            <a:ext cx="1439640" cy="1166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2" descr="Копия (5) 1"/>
          <p:cNvPicPr/>
          <p:nvPr/>
        </p:nvPicPr>
        <p:blipFill>
          <a:blip r:embed="rId3"/>
          <a:stretch/>
        </p:blipFill>
        <p:spPr>
          <a:xfrm>
            <a:off x="6943680" y="4638600"/>
            <a:ext cx="1444680" cy="1297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0" descr="Копия (6) 1"/>
          <p:cNvPicPr/>
          <p:nvPr/>
        </p:nvPicPr>
        <p:blipFill>
          <a:blip r:embed="rId4"/>
          <a:stretch/>
        </p:blipFill>
        <p:spPr>
          <a:xfrm>
            <a:off x="6988320" y="439560"/>
            <a:ext cx="136836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оотнеси символы с описанием 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пособов ухода за издел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600200"/>
          <a:ext cx="5554800" cy="4775040"/>
        </p:xfrm>
        <a:graphic>
          <a:graphicData uri="http://schemas.openxmlformats.org/drawingml/2006/table">
            <a:tbl>
              <a:tblPr/>
              <a:tblGrid>
                <a:gridCol w="3246480"/>
                <a:gridCol w="2308320"/>
              </a:tblGrid>
              <a:tr h="161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аксимальная температура при стирке 60</a:t>
                      </a: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º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еханические воздействия уменьшенны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тжим ослабленны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лажение запрещен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паривание и обработку паром не применять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е отбеливать хлоросодержащим веществ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AutoShape 32">
            <a:hlinkClick r:id="" action="ppaction://hlinkshowjump?jump=nextslide"/>
          </p:cNvPr>
          <p:cNvSpPr/>
          <p:nvPr/>
        </p:nvSpPr>
        <p:spPr>
          <a:xfrm>
            <a:off x="8459640" y="6165720"/>
            <a:ext cx="540000" cy="538200"/>
          </a:xfrm>
          <a:custGeom>
            <a:avLst/>
            <a:gdLst>
              <a:gd name="textAreaLeft" fmla="*/ 34560 w 540000"/>
              <a:gd name="textAreaRight" fmla="*/ 505440 w 540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3830" y="3794"/>
                </a:moveTo>
                <a:lnTo>
                  <a:pt x="17843" y="10800"/>
                </a:lnTo>
                <a:lnTo>
                  <a:pt x="38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1" descr="Копия (6) 1"/>
          <p:cNvPicPr/>
          <p:nvPr/>
        </p:nvPicPr>
        <p:blipFill>
          <a:blip r:embed="rId1"/>
          <a:stretch/>
        </p:blipFill>
        <p:spPr>
          <a:xfrm>
            <a:off x="6796080" y="1768320"/>
            <a:ext cx="1440000" cy="1194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2" descr="Копия (2) 1"/>
          <p:cNvPicPr/>
          <p:nvPr/>
        </p:nvPicPr>
        <p:blipFill>
          <a:blip r:embed="rId2"/>
          <a:stretch/>
        </p:blipFill>
        <p:spPr>
          <a:xfrm>
            <a:off x="6804000" y="3284640"/>
            <a:ext cx="1513080" cy="1296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" descr="Копия (13) 1"/>
          <p:cNvPicPr/>
          <p:nvPr/>
        </p:nvPicPr>
        <p:blipFill>
          <a:blip r:embed="rId3"/>
          <a:stretch/>
        </p:blipFill>
        <p:spPr>
          <a:xfrm>
            <a:off x="6804000" y="4941720"/>
            <a:ext cx="1511280" cy="1236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4" descr="Копия (11) 1"/>
          <p:cNvPicPr/>
          <p:nvPr/>
        </p:nvPicPr>
        <p:blipFill>
          <a:blip r:embed="rId4"/>
          <a:stretch/>
        </p:blipFill>
        <p:spPr>
          <a:xfrm>
            <a:off x="6804000" y="333360"/>
            <a:ext cx="14400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оотнеси символы с описанием 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пособов ухода за издел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484280"/>
          <a:ext cx="5770440" cy="5102280"/>
        </p:xfrm>
        <a:graphic>
          <a:graphicData uri="http://schemas.openxmlformats.org/drawingml/2006/table">
            <a:tbl>
              <a:tblPr/>
              <a:tblGrid>
                <a:gridCol w="3373560"/>
                <a:gridCol w="2396880"/>
              </a:tblGrid>
              <a:tr h="13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ушка изделия в барабане стиральной машины запрещ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зделие можно сушить   только путём подвеши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аксимальная температура стирки 40</a:t>
                      </a: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º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еханические воздействия сильно уменьшенные. Полоскание обычно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е выжимать рука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Picture 19" descr="Копия (12) 1"/>
          <p:cNvPicPr/>
          <p:nvPr/>
        </p:nvPicPr>
        <p:blipFill>
          <a:blip r:embed="rId1"/>
          <a:stretch/>
        </p:blipFill>
        <p:spPr>
          <a:xfrm>
            <a:off x="6964200" y="1863720"/>
            <a:ext cx="1460520" cy="107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Копия (9) 1"/>
          <p:cNvPicPr/>
          <p:nvPr/>
        </p:nvPicPr>
        <p:blipFill>
          <a:blip r:embed="rId2"/>
          <a:stretch/>
        </p:blipFill>
        <p:spPr>
          <a:xfrm>
            <a:off x="6973920" y="3203640"/>
            <a:ext cx="1440000" cy="1109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1" descr="Копия (11) 1"/>
          <p:cNvPicPr/>
          <p:nvPr/>
        </p:nvPicPr>
        <p:blipFill>
          <a:blip r:embed="rId3"/>
          <a:stretch/>
        </p:blipFill>
        <p:spPr>
          <a:xfrm>
            <a:off x="6973920" y="4616280"/>
            <a:ext cx="1440000" cy="1154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7" descr="Копия (3) 1"/>
          <p:cNvPicPr/>
          <p:nvPr/>
        </p:nvPicPr>
        <p:blipFill>
          <a:blip r:embed="rId4"/>
          <a:stretch/>
        </p:blipFill>
        <p:spPr>
          <a:xfrm>
            <a:off x="6973920" y="488880"/>
            <a:ext cx="1440000" cy="116676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28">
            <a:hlinkClick r:id="" action="ppaction://hlinkshowjump?jump=nextslide"/>
          </p:cNvPr>
          <p:cNvSpPr/>
          <p:nvPr/>
        </p:nvSpPr>
        <p:spPr>
          <a:xfrm>
            <a:off x="8459640" y="6165720"/>
            <a:ext cx="540000" cy="538200"/>
          </a:xfrm>
          <a:custGeom>
            <a:avLst/>
            <a:gdLst>
              <a:gd name="textAreaLeft" fmla="*/ 34560 w 540000"/>
              <a:gd name="textAreaRight" fmla="*/ 505440 w 540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3830" y="3794"/>
                </a:moveTo>
                <a:lnTo>
                  <a:pt x="17843" y="10800"/>
                </a:lnTo>
                <a:lnTo>
                  <a:pt x="38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Wervelwind</cp:lastModifiedBy>
  <dcterms:modified xsi:type="dcterms:W3CDTF">2012-12-22T23:15:09Z</dcterms:modified>
  <cp:revision>52</cp:revision>
  <dc:subject/>
  <dc:title>Слайд 1</dc:title>
</cp:coreProperties>
</file>