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chimes.wav" ContentType="audio/x-wav"/>
  <Override PartName="/ppt/media/image2.wmf" ContentType="image/x-wmf"/>
  <Override PartName="/ppt/media/image3.gif" ContentType="image/gif"/>
  <Override PartName="/ppt/media/image4.wmf" ContentType="image/x-wmf"/>
  <Override PartName="/ppt/media/image10.png" ContentType="image/png"/>
  <Override PartName="/ppt/media/image5.gif" ContentType="image/gif"/>
  <Override PartName="/ppt/media/image6.gif" ContentType="image/gif"/>
  <Override PartName="/ppt/media/image9.wmf" ContentType="image/x-wmf"/>
  <Override PartName="/ppt/media/image11.gif" ContentType="image/gif"/>
  <Override PartName="/ppt/media/image7.gif" ContentType="image/gif"/>
  <Override PartName="/ppt/media/image8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8D1A-CC0D-4E94-8376-80EB1474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D5E1-4A44-457F-A613-9E4E1630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1511-17D8-43E5-9AAA-9B427720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6E18-3B57-4E05-B07D-264041E1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0D11-BFEE-4499-BDB6-29638F8A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BFF4-AEC8-4E2F-BDE2-8D772197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6CF7-6529-465B-B017-F2A20AD4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C333-02E6-463A-BECD-5F14E43F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46C2-A3E8-4F8D-BC2E-89EB3D78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1923-3E6C-41D1-A430-AEDBBF98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BB87-6C06-434D-A839-B3F87BAC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0EA8-31AA-4969-985D-114C728F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67e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B5E1-F770-4914-9B3D-BBB3C2A32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0.pn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1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0.pn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0.pn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0.pn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67e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84360" y="333360"/>
            <a:ext cx="4310280" cy="5472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7637E-006 C -0.25868 0.00857 -0.51736 0.01738 -0.43768 0.01738 C -0.35799 0.01738 0.47275 0.00487 0.47813 -4.47637E-006 C 0.48351 -0.00486 -0.40608 -0.00672 -0.40591 -0.01158 C -0.40573 -0.01645 0.47761 -0.02386 0.4797 -0.02896 C 0.48178 -0.03406 -0.32205 -0.03939 -0.39288 -0.04263 C -0.46372 -0.04587 -0.20452 -0.04726 0.05504 -0.04842 E">
                                      <p:cBhvr>
                                        <p:cTn id="13" dur="5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67e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492360" y="620640"/>
            <a:ext cx="922320" cy="99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6948360" y="2637000"/>
          <a:ext cx="1409760" cy="143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48360" y="2637000"/>
                    <a:ext cx="140976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2484360" y="549360"/>
            <a:ext cx="933480" cy="100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24360" y="494172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d60093"/>
                </a:solidFill>
                <a:uFillTx/>
                <a:latin typeface="Arial"/>
              </a:rPr>
              <a:t>4 +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1476360" y="549360"/>
            <a:ext cx="998640" cy="1079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395280" y="476280"/>
            <a:ext cx="99864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5651640" y="2637000"/>
          <a:ext cx="1511280" cy="13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51640" y="2637000"/>
                    <a:ext cx="151128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500720" y="2781360"/>
          <a:ext cx="1268280" cy="12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00720" y="2781360"/>
                    <a:ext cx="12682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539640" y="213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+1+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3213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+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4149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+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5084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11" name="chimes.wav"/>
      </p:stSnd>
    </p:sndAc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87 E">
                                      <p:cBhvr>
                                        <p:cTn id="379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87 E">
                                      <p:cBhvr>
                                        <p:cTn id="381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87 E">
                                      <p:cBhvr>
                                        <p:cTn id="383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67e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 rot="1810200">
            <a:off x="4284360" y="2997360"/>
            <a:ext cx="3268440" cy="24778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rot="15121800">
            <a:off x="91080" y="1884960"/>
            <a:ext cx="3851280" cy="3529080"/>
          </a:xfrm>
          <a:prstGeom prst="cloudCallout">
            <a:avLst>
              <a:gd name="adj1" fmla="val -33148"/>
              <a:gd name="adj2" fmla="val 68671"/>
            </a:avLst>
          </a:prstGeom>
          <a:gradFill rotWithShape="0">
            <a:gsLst>
              <a:gs pos="0">
                <a:srgbClr val="99cc00"/>
              </a:gs>
              <a:gs pos="100000">
                <a:srgbClr val="66ccff"/>
              </a:gs>
            </a:gsLst>
            <a:lin ang="19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2658000">
            <a:off x="-360" y="3212640"/>
            <a:ext cx="38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пасибо за урок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995640" y="404640"/>
            <a:ext cx="2016360" cy="154332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rId3"/>
          </p:cNvPr>
          <p:cNvSpPr/>
          <p:nvPr/>
        </p:nvSpPr>
        <p:spPr>
          <a:xfrm>
            <a:off x="7740720" y="5734080"/>
            <a:ext cx="753840" cy="682560"/>
          </a:xfrm>
          <a:custGeom>
            <a:avLst/>
            <a:gdLst>
              <a:gd name="textAreaLeft" fmla="*/ 43920 w 753840"/>
              <a:gd name="textAreaRight" fmla="*/ 709920 w 75384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3855" h="21600">
                <a:moveTo>
                  <a:pt x="0" y="0"/>
                </a:moveTo>
                <a:lnTo>
                  <a:pt x="23855" y="0"/>
                </a:lnTo>
                <a:lnTo>
                  <a:pt x="23855" y="21600"/>
                </a:lnTo>
                <a:lnTo>
                  <a:pt x="0" y="21600"/>
                </a:lnTo>
                <a:close/>
              </a:path>
              <a:path fill="lightenLess" w="23855" h="21600">
                <a:moveTo>
                  <a:pt x="0" y="0"/>
                </a:moveTo>
                <a:lnTo>
                  <a:pt x="23855" y="0"/>
                </a:lnTo>
                <a:lnTo>
                  <a:pt x="22455" y="1400"/>
                </a:lnTo>
                <a:lnTo>
                  <a:pt x="1400" y="1400"/>
                </a:lnTo>
                <a:close/>
              </a:path>
              <a:path fill="darken" w="23855" h="21600">
                <a:moveTo>
                  <a:pt x="23855" y="0"/>
                </a:moveTo>
                <a:lnTo>
                  <a:pt x="23855" y="21600"/>
                </a:lnTo>
                <a:lnTo>
                  <a:pt x="22455" y="20200"/>
                </a:lnTo>
                <a:lnTo>
                  <a:pt x="22455" y="1400"/>
                </a:lnTo>
                <a:close/>
              </a:path>
              <a:path fill="darkenLess" w="23855" h="21600">
                <a:moveTo>
                  <a:pt x="23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55" y="20200"/>
                </a:lnTo>
                <a:close/>
              </a:path>
              <a:path fill="lighten" w="23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55" h="21600">
                <a:moveTo>
                  <a:pt x="4921" y="8406"/>
                </a:moveTo>
                <a:lnTo>
                  <a:pt x="9351" y="8406"/>
                </a:lnTo>
                <a:lnTo>
                  <a:pt x="13772" y="3794"/>
                </a:lnTo>
                <a:lnTo>
                  <a:pt x="13772" y="17806"/>
                </a:lnTo>
                <a:lnTo>
                  <a:pt x="9351" y="13194"/>
                </a:lnTo>
                <a:lnTo>
                  <a:pt x="4921" y="13194"/>
                </a:lnTo>
                <a:close/>
              </a:path>
              <a:path fill="darken" w="23855" h="21600">
                <a:moveTo>
                  <a:pt x="15426" y="10800"/>
                </a:moveTo>
                <a:lnTo>
                  <a:pt x="18934" y="10800"/>
                </a:lnTo>
              </a:path>
              <a:path fill="darken" w="23855" h="21600">
                <a:moveTo>
                  <a:pt x="15426" y="8406"/>
                </a:moveTo>
                <a:lnTo>
                  <a:pt x="18934" y="5639"/>
                </a:lnTo>
              </a:path>
              <a:path fill="darken" w="23855" h="21600">
                <a:moveTo>
                  <a:pt x="15426" y="13194"/>
                </a:moveTo>
                <a:lnTo>
                  <a:pt x="18934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4" name="chimes.wav"/>
      </p:stSnd>
    </p:sndAc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67e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03360" cy="3068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916360" y="620640"/>
            <a:ext cx="4535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емат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68360" y="2924280"/>
            <a:ext cx="525636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Число  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564000" y="2565360"/>
            <a:ext cx="2736720" cy="50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Тема 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348000" y="4653000"/>
            <a:ext cx="302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0099ff"/>
                </a:solidFill>
                <a:latin typeface="Arial"/>
              </a:rPr>
              <a:t>Успехов!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0099ff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68360" y="5667480"/>
            <a:ext cx="575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читель начальных классов  Болховитина Л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БОУ «Средняя общеобразовательная школа №38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. Ряз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3860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67e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35280" y="2060640"/>
            <a:ext cx="5761080" cy="309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35280" y="2060640"/>
            <a:ext cx="576108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2060640"/>
            <a:ext cx="5761080" cy="30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12000" y="189000"/>
            <a:ext cx="2663640" cy="863640"/>
          </a:xfrm>
          <a:prstGeom prst="cloudCallout">
            <a:avLst>
              <a:gd name="adj1" fmla="val -47972"/>
              <a:gd name="adj2" fmla="val 152939"/>
            </a:avLst>
          </a:prstGeom>
          <a:gradFill rotWithShape="0">
            <a:gsLst>
              <a:gs pos="0">
                <a:srgbClr val="bbe0e3"/>
              </a:gs>
              <a:gs pos="100000">
                <a:srgbClr val="33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мекай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549360"/>
            <a:ext cx="59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колько всего треугольников в этой фигу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4437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4076640"/>
            <a:ext cx="1414440" cy="2233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  <p:sndAc>
      <p:stSnd>
        <p:snd r:embed="rId2" name="chimes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-0.09215 0.25 -0.16694 L 0.25 -0.33387 E">
                                      <p:cBhvr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67e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11280" y="836640"/>
            <a:ext cx="1079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cc"/>
                </a:solidFill>
                <a:latin typeface="Arial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2360" y="1197000"/>
            <a:ext cx="201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4   3    2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2    3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549360"/>
            <a:ext cx="3384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 3 = 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-     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 4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     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 4 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80000" y="2997360"/>
            <a:ext cx="50328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1640" y="1484280"/>
            <a:ext cx="5029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59280" y="620640"/>
            <a:ext cx="5032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8000" y="3860640"/>
            <a:ext cx="5032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2360" y="2205000"/>
            <a:ext cx="5032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2360" y="2205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51640" y="1484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32360" y="692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80000" y="2997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59280" y="38606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479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4 – 2 + 3 – 1 – 3 + 4 =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587700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5 – 4 +  3 – 2 + 3 – 1 =  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1136880" cy="1086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95640" y="2276640"/>
            <a:ext cx="934920" cy="892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763640" y="3573360"/>
            <a:ext cx="992160" cy="94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076720" y="4221000"/>
            <a:ext cx="1828800" cy="171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6084720" y="5500800"/>
            <a:ext cx="2570400" cy="1357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2916360" y="3213000"/>
            <a:ext cx="904680" cy="863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324000" y="3500280"/>
            <a:ext cx="1079280" cy="1030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  <p:sndAc>
      <p:stSnd>
        <p:snd r:embed="rId8" name="chimes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79 0.125 0.16694 C 0.125 0.25909 0.069 0.33387 0 0.33387 C -0.069 0.33387 -0.125 0.25909 -0.125 0.16694 C -0.125 0.07479 -0.069 0 0 0 Z">
                                      <p:cBhvr>
                                        <p:cTn id="112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87 E">
                                      <p:cBhvr>
                                        <p:cTn id="116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67e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7667640" y="566100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7640" y="4046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Сравнение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1989000"/>
            <a:ext cx="647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084640"/>
            <a:ext cx="647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4292640"/>
            <a:ext cx="647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3500280"/>
            <a:ext cx="647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2781360"/>
            <a:ext cx="647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1989000"/>
            <a:ext cx="1150920" cy="43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2360" y="2852640"/>
            <a:ext cx="1150920" cy="43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2360" y="3573360"/>
            <a:ext cx="1150920" cy="43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116000" y="2204640"/>
            <a:ext cx="5032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6000" y="306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378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ubTriangle"/>
          <p:cNvSpPr/>
          <p:nvPr/>
        </p:nvSpPr>
        <p:spPr>
          <a:xfrm>
            <a:off x="3780000" y="1197000"/>
            <a:ext cx="1828800" cy="1828800"/>
          </a:xfrm>
          <a:solidFill>
            <a:srgbClr val="cc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ubTriangle"/>
          <p:cNvSpPr/>
          <p:nvPr/>
        </p:nvSpPr>
        <p:spPr>
          <a:xfrm>
            <a:off x="4859280" y="1268280"/>
            <a:ext cx="1828800" cy="1828800"/>
          </a:xfrm>
          <a:solidFill>
            <a:srgbClr val="cc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ubTriangle"/>
          <p:cNvSpPr/>
          <p:nvPr/>
        </p:nvSpPr>
        <p:spPr>
          <a:xfrm>
            <a:off x="5940360" y="1197000"/>
            <a:ext cx="1828800" cy="1828800"/>
          </a:xfrm>
          <a:solidFill>
            <a:srgbClr val="cc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ubTriangle"/>
          <p:cNvSpPr/>
          <p:nvPr/>
        </p:nvSpPr>
        <p:spPr>
          <a:xfrm>
            <a:off x="6948360" y="1197000"/>
            <a:ext cx="1828800" cy="1828800"/>
          </a:xfrm>
          <a:solidFill>
            <a:srgbClr val="cc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3077280" y="4275720"/>
            <a:ext cx="1440000" cy="6098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4084920" y="4275720"/>
            <a:ext cx="1440000" cy="6094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5019840" y="4275720"/>
            <a:ext cx="1440000" cy="6094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780000" y="2923920"/>
            <a:ext cx="36036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003640" y="2923920"/>
            <a:ext cx="36036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796000" y="2852640"/>
            <a:ext cx="576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58770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88000" y="5877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271200">
            <a:off x="1763280" y="5805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859320" y="5556960"/>
            <a:ext cx="10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40360" y="5805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324040" y="5917680"/>
            <a:ext cx="5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6100920" y="4275720"/>
            <a:ext cx="1440000" cy="6094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324920" y="4275720"/>
            <a:ext cx="1440000" cy="6094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877080" y="2852640"/>
            <a:ext cx="576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1" name="chimes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8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67e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227640" y="260280"/>
            <a:ext cx="2664000" cy="863640"/>
          </a:xfrm>
          <a:prstGeom prst="cloudCallout">
            <a:avLst>
              <a:gd name="adj1" fmla="val -43740"/>
              <a:gd name="adj2" fmla="val 20222"/>
            </a:avLst>
          </a:prstGeom>
          <a:gradFill rotWithShape="0">
            <a:gsLst>
              <a:gs pos="0">
                <a:srgbClr val="bbe0e3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читай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9079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равнение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7812000" y="59500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92360" y="378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39337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6000" y="3789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1817640"/>
            <a:ext cx="3240360" cy="2043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356000" y="1844640"/>
            <a:ext cx="3240360" cy="1944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635280" y="4149720"/>
            <a:ext cx="576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564000" y="4508640"/>
            <a:ext cx="647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3" name="chimes.wav"/>
      </p:stSnd>
    </p:sndAc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67e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92360" y="620640"/>
            <a:ext cx="922320" cy="99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5076720" y="2708280"/>
          <a:ext cx="1270080" cy="129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2708280"/>
                    <a:ext cx="127008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2484360" y="549360"/>
            <a:ext cx="933480" cy="100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24360" y="494172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d60093"/>
                </a:solidFill>
                <a:uFillTx/>
                <a:latin typeface="Arial"/>
              </a:rPr>
              <a:t>4 +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476360" y="549360"/>
            <a:ext cx="998640" cy="1079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395280" y="476280"/>
            <a:ext cx="99864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3851280" y="2565360"/>
          <a:ext cx="1511280" cy="1338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51280" y="2565360"/>
                    <a:ext cx="151128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059280" y="2781360"/>
          <a:ext cx="1268280" cy="12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59280" y="2781360"/>
                    <a:ext cx="12682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539640" y="213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+1+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3213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+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4149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+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5084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11" name="chimes.wav"/>
      </p:stSnd>
    </p:sndAc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86 -0.0125 L 0.09514 -0.0125 C 0.15121 -0.0125 0.22014 -0.10463 0.22014 -0.1794 L 0.22014 -0.3463 E">
                                      <p:cBhvr>
                                        <p:cTn id="334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26 0.01851 L 0.14826 0.01851 C 0.20434 0.01851 0.27326 -0.07338 0.27326 -0.14815 L 0.27326 -0.31482 E">
                                      <p:cBhvr>
                                        <p:cTn id="337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-0.09215 0.25 -0.16694 L 0.25 -0.33387 E">
                                      <p:cBhvr>
                                        <p:cTn id="340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67e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492360" y="620640"/>
            <a:ext cx="922320" cy="99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5364000" y="2781360"/>
          <a:ext cx="1270080" cy="129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64000" y="2781360"/>
                    <a:ext cx="127008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484360" y="549360"/>
            <a:ext cx="933480" cy="100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924360" y="494172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d60093"/>
                </a:solidFill>
                <a:uFillTx/>
                <a:latin typeface="Arial"/>
              </a:rPr>
              <a:t>4 +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476360" y="549360"/>
            <a:ext cx="998640" cy="1079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395280" y="476280"/>
            <a:ext cx="99864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4140360" y="2781360"/>
          <a:ext cx="1511280" cy="13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0360" y="2781360"/>
                    <a:ext cx="151128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059280" y="2781360"/>
          <a:ext cx="1268280" cy="12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59280" y="2781360"/>
                    <a:ext cx="12682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39640" y="213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+1+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3213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+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4149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+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5084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11" name="chimes.wav"/>
      </p:stSnd>
    </p:sndAc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0728E-006 L 0.17916 -0.32599 E">
                                      <p:cBhvr>
                                        <p:cTn id="357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2 0.01553 L 0.16146 -0.33944 E">
                                      <p:cBhvr>
                                        <p:cTn id="36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50012E-006 L 0.15885 -0.33642 E">
                                      <p:cBhvr>
                                        <p:cTn id="362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67e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492360" y="620640"/>
            <a:ext cx="922320" cy="99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6877080" y="2852640"/>
          <a:ext cx="1270080" cy="129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77080" y="2852640"/>
                    <a:ext cx="127008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2484360" y="549360"/>
            <a:ext cx="933480" cy="100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924360" y="494172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d60093"/>
                </a:solidFill>
                <a:uFillTx/>
                <a:latin typeface="Arial"/>
              </a:rPr>
              <a:t>4 +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1476360" y="549360"/>
            <a:ext cx="998640" cy="1079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395280" y="476280"/>
            <a:ext cx="99864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5580000" y="2781360"/>
          <a:ext cx="1511280" cy="13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80000" y="2781360"/>
                    <a:ext cx="151128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500720" y="2781360"/>
          <a:ext cx="1268280" cy="12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00720" y="2781360"/>
                    <a:ext cx="12682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39640" y="213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+1+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3213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+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4149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+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5084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11" name="chimes.wav"/>
      </p:stSnd>
    </p:sndAc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87 E">
                                      <p:cBhvr>
                                        <p:cTn id="368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87 E">
                                      <p:cBhvr>
                                        <p:cTn id="370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87 E">
                                      <p:cBhvr>
                                        <p:cTn id="373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17:07Z</dcterms:created>
  <dc:creator>Болховитин Виталий Евгеньевич</dc:creator>
  <dc:description/>
  <dc:language>en-US</dc:language>
  <cp:lastModifiedBy>User</cp:lastModifiedBy>
  <dcterms:modified xsi:type="dcterms:W3CDTF">2012-12-23T18:06:53Z</dcterms:modified>
  <cp:revision>6</cp:revision>
  <dc:subject/>
  <dc:title>Слайд 1</dc:title>
</cp:coreProperties>
</file>