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18.gif" ContentType="image/gif"/>
  <Override PartName="/ppt/media/image3.wmf" ContentType="image/x-wmf"/>
  <Override PartName="/ppt/media/image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wmf" ContentType="image/x-wmf"/>
  <Override PartName="/ppt/media/image5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50CD-2A40-4C16-AEE2-16B365F8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BE2F-2E80-42FE-BBD1-5EBBA2BA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BB23-AC3B-46EE-9AFA-796A2E3A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9F23-B99A-4443-924D-61D032E1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0BE1-D4C4-4A70-B770-BDB0A8C1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748E-A433-4CE7-9120-79E423FB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888E-615C-4D85-B084-98EB748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4564-1635-479E-8BAA-BB17BE15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0BBC-A996-446D-A678-3433BFA4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B34E-FB41-4C9B-9A2A-01AAC1DA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190-5E33-4BEB-AFC7-3702975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6E97-9171-491D-B505-1BB8EC7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6CB0-F1D2-4CAA-B64D-3FE2CFC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2B4E-3263-44E1-9F7D-5C99E93B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0EF5-C179-4605-BB07-453F9365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947D-2D27-4F91-94DC-3DD12F5A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9FEF-0D02-4833-A0C6-671D5A41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C987-CB5A-43DA-87DE-7BB28D81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9215-AD70-4ADD-B2B3-08E1ED96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DB90-8B6F-49A9-A714-B03E940D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207B-A79D-4799-9732-BD81EFC7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17A8-81BE-45D7-9FBB-036FE46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9CCB-03FC-42F5-B115-EADC09B2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D8C9-35DD-430B-99E6-A3F74D75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D0AA-B585-4DE8-AC1E-BF6A1DC97E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/>
              <a:ahLst/>
              <a:rect l="l" t="t" r="r" b="b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/>
              <a:ahLst/>
              <a:rect l="l" t="t" r="r" b="b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/>
              <a:ahLst/>
              <a:rect l="l" t="t" r="r" b="b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/>
              <a:ahLst/>
              <a:rect l="l" t="t" r="r" b="b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/>
              <a:ahLst/>
              <a:rect l="l" t="t" r="r" b="b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480" cy="4571280"/>
            <a:chOff x="915120" y="1219320"/>
            <a:chExt cx="731448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00520" y="1219320"/>
              <a:ext cx="864000" cy="4548600"/>
              <a:chOff x="1100520" y="1219320"/>
              <a:chExt cx="86400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0052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024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765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645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4240"/>
              <a:ext cx="7314480" cy="4093560"/>
              <a:chOff x="915120" y="1434240"/>
              <a:chExt cx="7314480" cy="40935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4240"/>
                <a:ext cx="7298280" cy="821160"/>
                <a:chOff x="915120" y="1434240"/>
                <a:chExt cx="7298280" cy="82116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424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9640" y="1706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160" y="19807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8800" y="225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13520"/>
                <a:ext cx="7297200" cy="821160"/>
                <a:chOff x="932400" y="2513520"/>
                <a:chExt cx="7297200" cy="82116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135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882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596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800" y="33346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6280"/>
                <a:ext cx="7298280" cy="822240"/>
                <a:chOff x="915120" y="3626280"/>
                <a:chExt cx="7298280" cy="8222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628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9640" y="39009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160" y="417348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8800" y="44485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07720"/>
                <a:ext cx="7297200" cy="820080"/>
                <a:chOff x="932400" y="4707720"/>
                <a:chExt cx="7297200" cy="82008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07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06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545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800" y="55278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69080" y="1243080"/>
              <a:ext cx="864000" cy="4547520"/>
              <a:chOff x="2269080" y="1243080"/>
              <a:chExt cx="86400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69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488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450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330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54200" y="1243080"/>
              <a:ext cx="864000" cy="4547520"/>
              <a:chOff x="3454200" y="1243080"/>
              <a:chExt cx="86400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54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32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302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18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39680" y="1243080"/>
              <a:ext cx="864000" cy="4547520"/>
              <a:chOff x="4639680" y="1243080"/>
              <a:chExt cx="86400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396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179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131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036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75480" y="1243080"/>
              <a:ext cx="862560" cy="4547520"/>
              <a:chOff x="5775480" y="1243080"/>
              <a:chExt cx="86256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754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523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486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380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34680" y="1243080"/>
              <a:ext cx="864000" cy="4547520"/>
              <a:chOff x="6934680" y="1243080"/>
              <a:chExt cx="86400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346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129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081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7986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FDE9-7563-4690-A46E-0F46943117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smiles.33b.ru/smile.104676.html" TargetMode="Externa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ческое объединение учителей ОРКСЭ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амоанализ по апробации модуля «Основы светской этик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495680" y="4114440"/>
            <a:ext cx="3733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Жаксиликова Наталья Николаевна, учитель истории  ГБОУ О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. Ильич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1600200" y="228600"/>
            <a:ext cx="71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ы учеников и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" descr="D:\Documents\Pictures\се.png"/>
          <p:cNvPicPr/>
          <p:nvPr/>
        </p:nvPicPr>
        <p:blipFill>
          <a:blip r:embed="rId1"/>
          <a:stretch/>
        </p:blipFill>
        <p:spPr>
          <a:xfrm>
            <a:off x="533520" y="990720"/>
            <a:ext cx="4429080" cy="3324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5599080" y="974880"/>
            <a:ext cx="31845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лько времени тратит Ваш ребенок на выполнение домашнего задания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Объект 3" descr=""/>
          <p:cNvPicPr/>
          <p:nvPr/>
        </p:nvPicPr>
        <p:blipFill>
          <a:blip r:embed="rId1"/>
          <a:stretch/>
        </p:blipFill>
        <p:spPr>
          <a:xfrm>
            <a:off x="1244520" y="2158920"/>
            <a:ext cx="74167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848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етоды обучения, применяемые на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838080" y="116676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Метод  дискусси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оздание доступной для понимания школьников проблемной ситуации, имеющей отношение к реальной жизни, включающей два или более вопро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Эвристические методы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етоды и приемы познания, используемые для решения творческих задач в процессе открытия нов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сследовательский мето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и котором учащиеся самостоятельно выделяют гипотезу, подтверждают или опровергают ее, исходя из известных данных, делают выводы и обобщения, постигают ведущие понятия и идеи, а не получают их в готовом ви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62120" y="990360"/>
            <a:ext cx="8229600" cy="2514600"/>
          </a:xfrm>
          <a:prstGeom prst="rect">
            <a:avLst/>
          </a:prstGeom>
          <a:solidFill>
            <a:srgbClr val="ffc2a3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ажной особенностью курса  «Основы светской этики» является организация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совместной деятельности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родителей, учеников,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deti"/>
          <p:cNvPicPr/>
          <p:nvPr/>
        </p:nvPicPr>
        <p:blipFill>
          <a:blip r:embed="rId1"/>
          <a:stretch/>
        </p:blipFill>
        <p:spPr>
          <a:xfrm>
            <a:off x="2438280" y="4114800"/>
            <a:ext cx="4068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15998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и + родители= шко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43000" y="380520"/>
            <a:ext cx="76960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2-2013 уч. г. в нашей школе  началась апробация комплексного курса «Основы религиозных культур и светской этик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ями и учащимися был выбран  модуль «Основы светской эт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3137040" y="3657600"/>
            <a:ext cx="2260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143000" y="152280"/>
            <a:ext cx="76960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3830760" cy="2971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4191120" cy="2733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D:\Documents\Pictures\уа.jpg"/>
          <p:cNvPicPr/>
          <p:nvPr/>
        </p:nvPicPr>
        <p:blipFill>
          <a:blip r:embed="rId3"/>
          <a:stretch/>
        </p:blipFill>
        <p:spPr>
          <a:xfrm>
            <a:off x="530280" y="1066680"/>
            <a:ext cx="322884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относитесь к введению в учебный процесс нового курса «Основы религиозных культур и светской этики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57200" y="1866960"/>
            <a:ext cx="2919240" cy="3924360"/>
          </a:xfrm>
          <a:prstGeom prst="rect">
            <a:avLst/>
          </a:prstGeom>
          <a:ln w="0">
            <a:noFill/>
          </a:ln>
        </p:spPr>
      </p:pic>
      <p:pic>
        <p:nvPicPr>
          <p:cNvPr id="174" name="Диаграмма 1" descr=""/>
          <p:cNvPicPr/>
          <p:nvPr/>
        </p:nvPicPr>
        <p:blipFill>
          <a:blip r:embed="rId2"/>
          <a:stretch/>
        </p:blipFill>
        <p:spPr>
          <a:xfrm>
            <a:off x="3149640" y="2235240"/>
            <a:ext cx="6045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93280" y="10666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уховное и культурное развитие де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ение кругозора де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уважительного отношения к различным религия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нравственности де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уважительного отношения к старши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питание трудолюбия, творческого отношения к учению, жизн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ценности здорового образа жизн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271160" y="178920"/>
            <a:ext cx="7696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Вы видите положительное значение введения курс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Заголовок 1"/>
          <p:cNvSpPr/>
          <p:nvPr/>
        </p:nvSpPr>
        <p:spPr>
          <a:xfrm>
            <a:off x="1266840" y="2286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ждаете ли Вы с ребенком темы, изученны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Диаграмма 1" descr=""/>
          <p:cNvPicPr/>
          <p:nvPr/>
        </p:nvPicPr>
        <p:blipFill>
          <a:blip r:embed="rId1"/>
          <a:stretch/>
        </p:blipFill>
        <p:spPr>
          <a:xfrm>
            <a:off x="558720" y="1325520"/>
            <a:ext cx="6350040" cy="4363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ксош№1.WINXPOLP\Рабочий стол\12.jpg"/>
          <p:cNvPicPr/>
          <p:nvPr/>
        </p:nvPicPr>
        <p:blipFill>
          <a:blip r:embed="rId2"/>
          <a:stretch/>
        </p:blipFill>
        <p:spPr>
          <a:xfrm>
            <a:off x="6858000" y="3763800"/>
            <a:ext cx="20908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30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равится ли Вашему ребенку изучаемый моду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Диаграмма 1" descr=""/>
          <p:cNvPicPr/>
          <p:nvPr/>
        </p:nvPicPr>
        <p:blipFill>
          <a:blip r:embed="rId1"/>
          <a:stretch/>
        </p:blipFill>
        <p:spPr>
          <a:xfrm>
            <a:off x="558720" y="1527120"/>
            <a:ext cx="6654960" cy="467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A67C576"/>
          <p:cNvPicPr/>
          <p:nvPr/>
        </p:nvPicPr>
        <p:blipFill>
          <a:blip r:embed="rId2">
            <a:biLevel thresh="50000"/>
          </a:blip>
          <a:srcRect l="0" t="0" r="4830" b="0"/>
          <a:stretch/>
        </p:blipFill>
        <p:spPr>
          <a:xfrm>
            <a:off x="6858000" y="1447920"/>
            <a:ext cx="211140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ую систему оценивания достижений Вашего ребенка Вы считаете подходящ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6320" y="2361960"/>
            <a:ext cx="6997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Диаграмма 2" descr=""/>
          <p:cNvPicPr/>
          <p:nvPr/>
        </p:nvPicPr>
        <p:blipFill>
          <a:blip r:embed="rId1"/>
          <a:stretch/>
        </p:blipFill>
        <p:spPr>
          <a:xfrm>
            <a:off x="2387520" y="2235240"/>
            <a:ext cx="6197760" cy="4165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C4B2DD28"/>
          <p:cNvPicPr/>
          <p:nvPr/>
        </p:nvPicPr>
        <p:blipFill>
          <a:blip r:embed="rId2">
            <a:biLevel thresh="50000"/>
          </a:blip>
          <a:srcRect l="16879" t="0" r="7339" b="21973"/>
          <a:stretch/>
        </p:blipFill>
        <p:spPr>
          <a:xfrm>
            <a:off x="609480" y="205740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жет ли Ваш ребенок справиться с домашним заданием без Вашей помощ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558720" y="2082960"/>
            <a:ext cx="6502320" cy="3941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9f4c7997cd1195b82c39bba72c7e0bb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3809880"/>
            <a:ext cx="1981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2-12-23T17:58:01Z</dcterms:modified>
  <cp:revision>107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