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8DB-8149-4391-A360-A9F23AE7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6A4-E59C-4771-BBB2-47DCDB38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611-10A5-4360-AE26-CB014642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A56-D37E-4813-8B9A-94DD5ED5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9920-9956-4CAA-B2F0-7EE58AE8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4CFE-CFE6-4551-A639-1CF46909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9A62-677F-4072-9D05-6BF4579F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CAD1-C07B-456F-94B0-11D90A78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10F7-5FED-4994-8FEF-1CCAEDC4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4A04-CAF3-4578-8206-53FE212C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AB19-3F96-493A-9D29-FE98663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740-3E9F-472A-A5B9-4C823F4F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FF29-2108-42A9-B084-0486166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F960-28DB-4CB4-B9D5-D33B80B0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6D94-89C6-47D9-B7C7-ACA4455A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4226-F3E7-4D4F-9A06-CA4197E3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0C83-347A-4770-89E8-539CFB80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CD5-96FE-451E-948C-B22A117D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9FD-A01F-4D88-BB88-5F41F080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2B5-4ED9-408C-A5B1-D42E1A3A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96A-E732-4A5B-B691-D3855DF9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03B-39E3-44C1-8705-8EA4F3B1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81F-9642-446B-8C2A-7546C7A1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C29-4F61-436D-8DD8-FE042DAC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0C4F-E388-4363-B19F-19A5CF0F36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CC5B-CA3F-4CCD-B18B-8923004679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142640"/>
            <a:ext cx="586764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Times New Roman"/>
              </a:rPr>
              <a:t>Действия с  положительными и отрицательными числам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j0299125"/>
          <p:cNvPicPr/>
          <p:nvPr/>
        </p:nvPicPr>
        <p:blipFill>
          <a:blip r:embed="rId1"/>
          <a:stretch/>
        </p:blipFill>
        <p:spPr>
          <a:xfrm>
            <a:off x="304920" y="152280"/>
            <a:ext cx="2322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5"/>
          <p:cNvSpPr/>
          <p:nvPr/>
        </p:nvSpPr>
        <p:spPr>
          <a:xfrm>
            <a:off x="2209680" y="914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4038480" y="563868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2209680" y="563868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2133720" y="3200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4038480" y="3200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5943600" y="914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4038480" y="914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5791320" y="563868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019920" y="32004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76320" y="91440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7772400" y="91440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6320" y="320040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152280" y="563868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8"/>
          <p:cNvSpPr/>
          <p:nvPr/>
        </p:nvSpPr>
        <p:spPr>
          <a:xfrm>
            <a:off x="7772400" y="320040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9"/>
          <p:cNvSpPr/>
          <p:nvPr/>
        </p:nvSpPr>
        <p:spPr>
          <a:xfrm>
            <a:off x="7696080" y="5638680"/>
            <a:ext cx="1143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1295280" y="13716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>
            <a:off x="3200400" y="1371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5029200" y="1371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6934320" y="1371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4"/>
          <p:cNvSpPr/>
          <p:nvPr/>
        </p:nvSpPr>
        <p:spPr>
          <a:xfrm>
            <a:off x="1219320" y="3657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5"/>
          <p:cNvSpPr/>
          <p:nvPr/>
        </p:nvSpPr>
        <p:spPr>
          <a:xfrm>
            <a:off x="3124080" y="36576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6"/>
          <p:cNvSpPr/>
          <p:nvPr/>
        </p:nvSpPr>
        <p:spPr>
          <a:xfrm>
            <a:off x="5029200" y="3657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>
            <a:off x="6934320" y="36576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1295280" y="609588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3124080" y="609588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4952880" y="609588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6705720" y="60958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2"/>
          <p:cNvSpPr/>
          <p:nvPr/>
        </p:nvSpPr>
        <p:spPr>
          <a:xfrm>
            <a:off x="1371600" y="838080"/>
            <a:ext cx="60948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3"/>
          <p:cNvSpPr/>
          <p:nvPr/>
        </p:nvSpPr>
        <p:spPr>
          <a:xfrm>
            <a:off x="3276720" y="838080"/>
            <a:ext cx="60948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4"/>
          <p:cNvSpPr/>
          <p:nvPr/>
        </p:nvSpPr>
        <p:spPr>
          <a:xfrm>
            <a:off x="5105520" y="762120"/>
            <a:ext cx="685800" cy="45720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(-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7010280" y="838080"/>
            <a:ext cx="60984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7"/>
          <p:cNvSpPr/>
          <p:nvPr/>
        </p:nvSpPr>
        <p:spPr>
          <a:xfrm>
            <a:off x="1295280" y="3124080"/>
            <a:ext cx="60984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*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8"/>
          <p:cNvSpPr/>
          <p:nvPr/>
        </p:nvSpPr>
        <p:spPr>
          <a:xfrm>
            <a:off x="3276720" y="3124080"/>
            <a:ext cx="60948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+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9"/>
          <p:cNvSpPr/>
          <p:nvPr/>
        </p:nvSpPr>
        <p:spPr>
          <a:xfrm>
            <a:off x="5105520" y="3124080"/>
            <a:ext cx="60948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0"/>
          <p:cNvSpPr/>
          <p:nvPr/>
        </p:nvSpPr>
        <p:spPr>
          <a:xfrm>
            <a:off x="7010280" y="3124080"/>
            <a:ext cx="609840" cy="3812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1"/>
          <p:cNvSpPr/>
          <p:nvPr/>
        </p:nvSpPr>
        <p:spPr>
          <a:xfrm>
            <a:off x="1447920" y="5562720"/>
            <a:ext cx="6094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2"/>
          <p:cNvSpPr/>
          <p:nvPr/>
        </p:nvSpPr>
        <p:spPr>
          <a:xfrm>
            <a:off x="3200400" y="5562720"/>
            <a:ext cx="6094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3"/>
          <p:cNvSpPr/>
          <p:nvPr/>
        </p:nvSpPr>
        <p:spPr>
          <a:xfrm>
            <a:off x="5105520" y="5562720"/>
            <a:ext cx="6094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4"/>
          <p:cNvSpPr/>
          <p:nvPr/>
        </p:nvSpPr>
        <p:spPr>
          <a:xfrm>
            <a:off x="6858000" y="5562720"/>
            <a:ext cx="7621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1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304920" y="1182600"/>
                <a:ext cx="822960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Rectangle 11"/>
          <p:cNvSpPr/>
          <p:nvPr/>
        </p:nvSpPr>
        <p:spPr>
          <a:xfrm>
            <a:off x="380880" y="4495680"/>
            <a:ext cx="846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СКОЛЬКО ЦЕЛЫХ РЕШЕНИЙ ИМЕЕТ НЕРАВЕНСТВО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|X|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&lt;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685800" y="457200"/>
                <a:ext cx="775800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87360" y="1904760"/>
            <a:ext cx="30290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1"/>
              <p:cNvSpPr txBox="1"/>
              <p:nvPr/>
            </p:nvSpPr>
            <p:spPr>
              <a:xfrm>
                <a:off x="380880" y="3429000"/>
                <a:ext cx="492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152280" y="3429000"/>
          <a:ext cx="8667720" cy="16509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866520"/>
                <a:gridCol w="866880"/>
                <a:gridCol w="866880"/>
                <a:gridCol w="866880"/>
                <a:gridCol w="866520"/>
                <a:gridCol w="866880"/>
                <a:gridCol w="866880"/>
                <a:gridCol w="86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5" name="Object 66"/>
              <p:cNvSpPr txBox="1"/>
              <p:nvPr/>
            </p:nvSpPr>
            <p:spPr>
              <a:xfrm>
                <a:off x="1305000" y="3416400"/>
                <a:ext cx="3744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68"/>
              <p:cNvSpPr txBox="1"/>
              <p:nvPr/>
            </p:nvSpPr>
            <p:spPr>
              <a:xfrm>
                <a:off x="2133720" y="3429000"/>
                <a:ext cx="541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9"/>
              <p:cNvSpPr txBox="1"/>
              <p:nvPr/>
            </p:nvSpPr>
            <p:spPr>
              <a:xfrm>
                <a:off x="3048120" y="3429000"/>
                <a:ext cx="393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0"/>
              <p:cNvSpPr txBox="1"/>
              <p:nvPr/>
            </p:nvSpPr>
            <p:spPr>
              <a:xfrm>
                <a:off x="4724280" y="3429000"/>
                <a:ext cx="541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1"/>
              <p:cNvSpPr txBox="1"/>
              <p:nvPr/>
            </p:nvSpPr>
            <p:spPr>
              <a:xfrm>
                <a:off x="7315200" y="3429000"/>
                <a:ext cx="541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73"/>
          <p:cNvSpPr/>
          <p:nvPr/>
        </p:nvSpPr>
        <p:spPr>
          <a:xfrm>
            <a:off x="380880" y="5562720"/>
            <a:ext cx="846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У              ЧЖ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-360"/>
            <a:ext cx="83120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Бережливый хозяин должен хорошо знать как размер своего имущества, так и свои долги. И вот ростовщик решил посчитать, с прибылью для себя или с убытком он прожил этот месяц? Ес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й отдал ему 32,4 лиры своего дол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ому он отдал в долг 50% этих дене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троительство башни он пожертвовал 30,8 ли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тий вернул 17,6 ли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оследняя сделка принесла ему доход 10 л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2,4 - 32,4 : 2 - 30,8 + 17,6 +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385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3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ьвира</cp:lastModifiedBy>
  <dcterms:modified xsi:type="dcterms:W3CDTF">2010-03-11T03:18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