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0FC-2D87-43D9-8D82-FFD5F064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747-E391-4BE5-83BF-0F79037D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C67-1686-4E18-A6CC-EC42BD9A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3E2-9FC9-45E5-8526-0E253C93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A62A-AD9F-45F7-AD58-13DC639E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AD73-6068-4AD0-91D1-CC62860F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5600-010C-4E63-AEDE-AA66B33F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3327-B6A3-4412-BA53-CBCD1E4C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3C4F-5BC2-4FDB-8BC3-23EC94F9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81AE-C0D6-42DA-AB65-B17DF75C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EBE9-572C-4E63-BF96-FA055CF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BE6-6AB1-4681-BC49-A6A750D3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10C6-684E-40E3-8B70-A578B65A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1BB9-5FDC-421F-9912-97026BDB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17A1-C0F2-4893-A79B-A7866652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6C98-F666-4B10-8AC4-170A0301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7041-4FE1-415A-A28A-53A33C8C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152-4EF9-4968-B9A6-148536D1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2B3-A123-4267-B2AF-00C44C5C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11D-3A86-4E80-80BE-28549667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C07-2FED-4E6F-A078-C52DD73B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9C5-A411-4EF1-B8E5-68715CB9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D76-9833-4BA4-A4B8-90FC62BF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0FC-0A87-4F2B-97A9-CCF4D973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9D2C-38B8-43BA-9657-A22BEF00B1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6DBD-678C-46C5-9497-74B90A715A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142640"/>
            <a:ext cx="586764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Times New Roman"/>
              </a:rPr>
              <a:t>Действия с  положительными и отрицательными числам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j0299125"/>
          <p:cNvPicPr/>
          <p:nvPr/>
        </p:nvPicPr>
        <p:blipFill>
          <a:blip r:embed="rId1"/>
          <a:stretch/>
        </p:blipFill>
        <p:spPr>
          <a:xfrm>
            <a:off x="304920" y="152280"/>
            <a:ext cx="2322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5"/>
          <p:cNvSpPr/>
          <p:nvPr/>
        </p:nvSpPr>
        <p:spPr>
          <a:xfrm>
            <a:off x="2209680" y="9144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4038480" y="563868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2209680" y="563868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2133720" y="32004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4038480" y="32004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5943600" y="9144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4038480" y="9144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5791320" y="563868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1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019920" y="32004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76320" y="914400"/>
            <a:ext cx="1143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-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7772400" y="914400"/>
            <a:ext cx="1143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6320" y="3200400"/>
            <a:ext cx="1143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152280" y="5638680"/>
            <a:ext cx="1143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-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8"/>
          <p:cNvSpPr/>
          <p:nvPr/>
        </p:nvSpPr>
        <p:spPr>
          <a:xfrm>
            <a:off x="7772400" y="3200400"/>
            <a:ext cx="1143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-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9"/>
          <p:cNvSpPr/>
          <p:nvPr/>
        </p:nvSpPr>
        <p:spPr>
          <a:xfrm>
            <a:off x="7696080" y="5638680"/>
            <a:ext cx="1143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-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1295280" y="13716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21"/>
          <p:cNvSpPr/>
          <p:nvPr/>
        </p:nvSpPr>
        <p:spPr>
          <a:xfrm>
            <a:off x="3200400" y="13716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2"/>
          <p:cNvSpPr/>
          <p:nvPr/>
        </p:nvSpPr>
        <p:spPr>
          <a:xfrm>
            <a:off x="5029200" y="13716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6934320" y="13716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4"/>
          <p:cNvSpPr/>
          <p:nvPr/>
        </p:nvSpPr>
        <p:spPr>
          <a:xfrm>
            <a:off x="1219320" y="36576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5"/>
          <p:cNvSpPr/>
          <p:nvPr/>
        </p:nvSpPr>
        <p:spPr>
          <a:xfrm>
            <a:off x="3124080" y="36576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6"/>
          <p:cNvSpPr/>
          <p:nvPr/>
        </p:nvSpPr>
        <p:spPr>
          <a:xfrm>
            <a:off x="5029200" y="36576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>
            <a:off x="6934320" y="36576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1295280" y="609588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3124080" y="609588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4952880" y="609588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6705720" y="60958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2"/>
          <p:cNvSpPr/>
          <p:nvPr/>
        </p:nvSpPr>
        <p:spPr>
          <a:xfrm>
            <a:off x="1371600" y="838080"/>
            <a:ext cx="60948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3"/>
          <p:cNvSpPr/>
          <p:nvPr/>
        </p:nvSpPr>
        <p:spPr>
          <a:xfrm>
            <a:off x="3276720" y="838080"/>
            <a:ext cx="60948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4"/>
          <p:cNvSpPr/>
          <p:nvPr/>
        </p:nvSpPr>
        <p:spPr>
          <a:xfrm>
            <a:off x="5105520" y="762120"/>
            <a:ext cx="685800" cy="45720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(-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5"/>
          <p:cNvSpPr/>
          <p:nvPr/>
        </p:nvSpPr>
        <p:spPr>
          <a:xfrm>
            <a:off x="7010280" y="838080"/>
            <a:ext cx="60984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7"/>
          <p:cNvSpPr/>
          <p:nvPr/>
        </p:nvSpPr>
        <p:spPr>
          <a:xfrm>
            <a:off x="1295280" y="3124080"/>
            <a:ext cx="60984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*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8"/>
          <p:cNvSpPr/>
          <p:nvPr/>
        </p:nvSpPr>
        <p:spPr>
          <a:xfrm>
            <a:off x="3276720" y="3124080"/>
            <a:ext cx="60948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+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9"/>
          <p:cNvSpPr/>
          <p:nvPr/>
        </p:nvSpPr>
        <p:spPr>
          <a:xfrm>
            <a:off x="5105520" y="3124080"/>
            <a:ext cx="60948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 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0"/>
          <p:cNvSpPr/>
          <p:nvPr/>
        </p:nvSpPr>
        <p:spPr>
          <a:xfrm>
            <a:off x="7010280" y="3124080"/>
            <a:ext cx="60984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1"/>
          <p:cNvSpPr/>
          <p:nvPr/>
        </p:nvSpPr>
        <p:spPr>
          <a:xfrm>
            <a:off x="1447920" y="5562720"/>
            <a:ext cx="6094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2"/>
          <p:cNvSpPr/>
          <p:nvPr/>
        </p:nvSpPr>
        <p:spPr>
          <a:xfrm>
            <a:off x="3200400" y="5562720"/>
            <a:ext cx="6094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3"/>
          <p:cNvSpPr/>
          <p:nvPr/>
        </p:nvSpPr>
        <p:spPr>
          <a:xfrm>
            <a:off x="5105520" y="5562720"/>
            <a:ext cx="6094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4"/>
          <p:cNvSpPr/>
          <p:nvPr/>
        </p:nvSpPr>
        <p:spPr>
          <a:xfrm>
            <a:off x="6858000" y="5562720"/>
            <a:ext cx="7621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1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Object 7"/>
              <p:cNvSpPr txBox="1"/>
              <p:nvPr/>
            </p:nvSpPr>
            <p:spPr>
              <a:xfrm>
                <a:off x="304920" y="1182600"/>
                <a:ext cx="822960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Rectangle 11"/>
          <p:cNvSpPr/>
          <p:nvPr/>
        </p:nvSpPr>
        <p:spPr>
          <a:xfrm>
            <a:off x="380880" y="4495680"/>
            <a:ext cx="846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СКОЛЬКО ЦЕЛЫХ РЕШЕНИЙ ИМЕЕТ НЕРАВЕНСТВО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|X|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&lt;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685800" y="457200"/>
                <a:ext cx="775800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87360" y="1904760"/>
            <a:ext cx="30290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61"/>
              <p:cNvSpPr txBox="1"/>
              <p:nvPr/>
            </p:nvSpPr>
            <p:spPr>
              <a:xfrm>
                <a:off x="380880" y="3429000"/>
                <a:ext cx="492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4" name=""/>
          <p:cNvGraphicFramePr/>
          <p:nvPr/>
        </p:nvGraphicFramePr>
        <p:xfrm>
          <a:off x="152280" y="3429000"/>
          <a:ext cx="8667720" cy="16509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866520"/>
                <a:gridCol w="866880"/>
                <a:gridCol w="866880"/>
                <a:gridCol w="866880"/>
                <a:gridCol w="866520"/>
                <a:gridCol w="866880"/>
                <a:gridCol w="866880"/>
                <a:gridCol w="866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5" name="Object 66"/>
              <p:cNvSpPr txBox="1"/>
              <p:nvPr/>
            </p:nvSpPr>
            <p:spPr>
              <a:xfrm>
                <a:off x="1305000" y="3416400"/>
                <a:ext cx="3744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68"/>
              <p:cNvSpPr txBox="1"/>
              <p:nvPr/>
            </p:nvSpPr>
            <p:spPr>
              <a:xfrm>
                <a:off x="2133720" y="3429000"/>
                <a:ext cx="541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69"/>
              <p:cNvSpPr txBox="1"/>
              <p:nvPr/>
            </p:nvSpPr>
            <p:spPr>
              <a:xfrm>
                <a:off x="3048120" y="3429000"/>
                <a:ext cx="393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0"/>
              <p:cNvSpPr txBox="1"/>
              <p:nvPr/>
            </p:nvSpPr>
            <p:spPr>
              <a:xfrm>
                <a:off x="4724280" y="3429000"/>
                <a:ext cx="541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1"/>
              <p:cNvSpPr txBox="1"/>
              <p:nvPr/>
            </p:nvSpPr>
            <p:spPr>
              <a:xfrm>
                <a:off x="7315200" y="3429000"/>
                <a:ext cx="541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73"/>
          <p:cNvSpPr/>
          <p:nvPr/>
        </p:nvSpPr>
        <p:spPr>
          <a:xfrm>
            <a:off x="380880" y="5562720"/>
            <a:ext cx="846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ФУ              ЧЖЕ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160" y="-360"/>
            <a:ext cx="83120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Бережливый хозяин должен хорошо знать как размер своего имущества, так и свои долги. И вот ростовщик решил посчитать, с прибылью для себя или с убытком он прожил этот месяц? Ес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й отдал ему 32,4 лиры своего дол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орому он отдал в долг 50% этих дене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троительство башни он пожертвовал 30,8 ли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тий вернул 17,6 ли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последняя сделка принесла ему доход 10 л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2,4 - 32,4 : 2 - 30,8 + 17,6 +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385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3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ьвира</cp:lastModifiedBy>
  <dcterms:modified xsi:type="dcterms:W3CDTF">2010-03-11T03:18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