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6.jpeg" ContentType="image/jpeg"/>
  <Override PartName="/ppt/media/image7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984AA-2551-4825-BB6E-7F9F367EA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7CA41-701D-43F8-B703-CB5A58EBC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10EDC-C448-4E83-9A2C-739382BFA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2F6AB-109B-4697-A0CB-4D825A880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D9E33-CBCA-41EB-A70F-39634BB87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F6204-32FB-474B-B8AB-2E30369B3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45BA3-5043-41F2-BD8C-04370FF71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698F0-12CB-492A-9593-525C9674E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628CD-51CF-4C51-A46D-A2A7FA213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6F5EC-1C71-4910-AA51-8509B9FCE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D81C3-73D7-4B11-9FEC-1BFBA86A9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35443-134E-4048-99CD-C55A12B0A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3F4D7-DCDB-49E9-99AF-F7272F2E5E7E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62864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333399"/>
                </a:solidFill>
                <a:latin typeface="Tahoma"/>
              </a:rPr>
              <a:t>Паркет</a:t>
            </a:r>
            <a:endParaRPr b="0" lang="en-US" sz="8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ыполнили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ученики 8 В класс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очетов Виктор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333399"/>
                </a:solidFill>
                <a:latin typeface="Tahoma"/>
              </a:rPr>
              <a:t>Вывод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3880" indent="-353880" algn="just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аркет – это орнамент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53880" indent="-353880" algn="just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аркет предназначен для украшения различных предметов и архитектурных сооружений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53880" indent="-353880" algn="just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аркет придает поверхности четкую ритмическую организацию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66"/>
                </a:solidFill>
                <a:latin typeface="Tahoma"/>
              </a:rPr>
              <a:t>Немного истории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 древнейших времен был известен пол из расколотых по длине брёвен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 XVI века полы в России стали настилать из дубовых клёпок, укладываемых рисунком, который носил название "в ёлочку", а сам пол или мост назывался "косящатым"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333399"/>
                </a:solidFill>
                <a:latin typeface="Tahoma"/>
              </a:rPr>
              <a:t>В 17 веке</a:t>
            </a:r>
            <a:endParaRPr b="0" lang="en-US" sz="6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аспространенным приёмом укладки паркета был способ, называемый "дубовым кирпичом": паркетины в форме кирпичей укладывались на известковой основе, причем швы между дубовыми кирпичами заливались смолой. Вдоль стен иногда тянулся дубовый бордюр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333399"/>
                </a:solidFill>
                <a:latin typeface="Tahoma"/>
              </a:rPr>
              <a:t>Что такое паркет?</a:t>
            </a:r>
            <a:endParaRPr b="0" lang="en-US" sz="6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901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Паркет- это покрытие плоскости геометрическими фигурами без зазоров и пересечений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Для паркета используют правильные многоугольники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2571480"/>
            <a:ext cx="8229600" cy="352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Треугольники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Четырехугольники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Шестиугольник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Паркет из правильных многоугольников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52" name="Picture 7" descr="IMG_4016а"/>
          <p:cNvPicPr/>
          <p:nvPr/>
        </p:nvPicPr>
        <p:blipFill>
          <a:blip r:embed="rId1">
            <a:lum contrast="48000"/>
          </a:blip>
          <a:srcRect l="0" t="14911" r="0" b="2062"/>
          <a:stretch/>
        </p:blipFill>
        <p:spPr>
          <a:xfrm>
            <a:off x="214200" y="2143080"/>
            <a:ext cx="4286520" cy="38577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" descr="IMG_4008b"/>
          <p:cNvPicPr/>
          <p:nvPr/>
        </p:nvPicPr>
        <p:blipFill>
          <a:blip r:embed="rId2">
            <a:lum contrast="36000"/>
          </a:blip>
          <a:srcRect l="0" t="13658" r="0" b="2126"/>
          <a:stretch/>
        </p:blipFill>
        <p:spPr>
          <a:xfrm>
            <a:off x="4643280" y="2143080"/>
            <a:ext cx="4143600" cy="38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5" descr="Безымянный3"/>
          <p:cNvPicPr/>
          <p:nvPr/>
        </p:nvPicPr>
        <p:blipFill>
          <a:blip r:embed="rId1"/>
          <a:stretch/>
        </p:blipFill>
        <p:spPr>
          <a:xfrm>
            <a:off x="857160" y="1714680"/>
            <a:ext cx="3500640" cy="40003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Безымянный5"/>
          <p:cNvPicPr/>
          <p:nvPr/>
        </p:nvPicPr>
        <p:blipFill>
          <a:blip r:embed="rId2"/>
          <a:stretch/>
        </p:blipFill>
        <p:spPr>
          <a:xfrm>
            <a:off x="4857840" y="1643040"/>
            <a:ext cx="3714840" cy="407196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Галерея паркетов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5" descr="carselo1"/>
          <p:cNvPicPr/>
          <p:nvPr/>
        </p:nvPicPr>
        <p:blipFill>
          <a:blip r:embed="rId1"/>
          <a:stretch/>
        </p:blipFill>
        <p:spPr>
          <a:xfrm>
            <a:off x="642960" y="1714680"/>
            <a:ext cx="3429000" cy="407160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6" descr="2.jpg"/>
          <p:cNvPicPr/>
          <p:nvPr/>
        </p:nvPicPr>
        <p:blipFill>
          <a:blip r:embed="rId2"/>
          <a:stretch/>
        </p:blipFill>
        <p:spPr>
          <a:xfrm>
            <a:off x="4857840" y="1643040"/>
            <a:ext cx="3643200" cy="40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Рисунок 6" descr="int_08.jpg"/>
          <p:cNvPicPr/>
          <p:nvPr/>
        </p:nvPicPr>
        <p:blipFill>
          <a:blip r:embed="rId1"/>
          <a:srcRect l="0" t="0" r="0" b="9845"/>
          <a:stretch/>
        </p:blipFill>
        <p:spPr>
          <a:xfrm>
            <a:off x="857160" y="1714680"/>
            <a:ext cx="3429000" cy="4214520"/>
          </a:xfrm>
          <a:prstGeom prst="rect">
            <a:avLst/>
          </a:prstGeom>
          <a:ln w="0">
            <a:noFill/>
          </a:ln>
        </p:spPr>
      </p:pic>
      <p:pic>
        <p:nvPicPr>
          <p:cNvPr id="61" name="Рисунок 7" descr="6.jpg"/>
          <p:cNvPicPr/>
          <p:nvPr/>
        </p:nvPicPr>
        <p:blipFill>
          <a:blip r:embed="rId2"/>
          <a:stretch/>
        </p:blipFill>
        <p:spPr>
          <a:xfrm>
            <a:off x="4643280" y="1714680"/>
            <a:ext cx="3571920" cy="42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2T06:47:55Z</dcterms:created>
  <dc:creator>My</dc:creator>
  <dc:description/>
  <dc:language>en-US</dc:language>
  <cp:lastModifiedBy>Нина Ртищева</cp:lastModifiedBy>
  <dcterms:modified xsi:type="dcterms:W3CDTF">2012-02-12T12:22:05Z</dcterms:modified>
  <cp:revision>19</cp:revision>
  <dc:subject/>
  <dc:title>Слайд 1</dc:title>
</cp:coreProperties>
</file>