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2632-A6A7-4919-950C-0CC734E66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BFBA-3A0D-4F86-A5B8-ABA60193A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77EC-2B5E-46F5-AB3B-9C162C2A4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81E5-5E5B-43DA-A927-367050729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AD9B-3D8B-4D80-B330-CEFDB2A94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A50E-35C3-4A40-BE02-13F15BCEB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455B-5039-49EE-B82D-1EF80D310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F897-68DB-486B-BDF2-0C6EA0902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969C-A0EA-439C-9059-5E00D4629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15F7-2F63-4A01-97FC-489EA02F8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59E9-4658-4074-B521-DB8D36ED6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4256-DFFD-4E13-A812-02D84D6DC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91E46-AF86-4596-BE22-5E8AC709ACC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62864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333399"/>
                </a:solidFill>
                <a:latin typeface="Tahoma"/>
              </a:rPr>
              <a:t>Паркет</a:t>
            </a:r>
            <a:endParaRPr b="0" lang="en-US" sz="8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полнили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ченики 8 В класс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четов Викто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3399"/>
                </a:solidFill>
                <a:latin typeface="Tahoma"/>
              </a:rPr>
              <a:t>Вывод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353880" algn="just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аркет – это орнамен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53880" indent="-353880" algn="just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аркет предназначен для украшения различных предметов и архитектурных сооружен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53880" indent="-353880" algn="just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аркет придает поверхности четкую ритмическую организацию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66"/>
                </a:solidFill>
                <a:latin typeface="Tahoma"/>
              </a:rPr>
              <a:t>Немного истории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 древнейших времен был известен пол из расколотых по длине брёве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 XVI века полы в России стали настилать из дубовых клёпок, укладываемых рисунком, который носил название "в ёлочку", а сам пол или мост назывался "косящатым"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33399"/>
                </a:solidFill>
                <a:latin typeface="Tahoma"/>
              </a:rPr>
              <a:t>В 17 веке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спространенным приёмом укладки паркета был способ, называемый "дубовым кирпичом": паркетины в форме кирпичей укладывались на известковой основе, причем швы между дубовыми кирпичами заливались смолой. Вдоль стен иногда тянулся дубовый бордюр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33399"/>
                </a:solidFill>
                <a:latin typeface="Tahoma"/>
              </a:rPr>
              <a:t>Что такое паркет?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аркет- это покрытие плоскости геометрическими фигурами без зазоров и пересечений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Для паркета используют правильные многоугольник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2571480"/>
            <a:ext cx="8229600" cy="35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реугольник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етырехугольник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Шестиугольник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аркет из правильных многоугольников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2" name="Picture 7" descr="IMG_4016а"/>
          <p:cNvPicPr/>
          <p:nvPr/>
        </p:nvPicPr>
        <p:blipFill>
          <a:blip r:embed="rId1">
            <a:lum contrast="48000"/>
          </a:blip>
          <a:srcRect l="0" t="14911" r="0" b="2062"/>
          <a:stretch/>
        </p:blipFill>
        <p:spPr>
          <a:xfrm>
            <a:off x="214200" y="2143080"/>
            <a:ext cx="4286520" cy="3857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IMG_4008b"/>
          <p:cNvPicPr/>
          <p:nvPr/>
        </p:nvPicPr>
        <p:blipFill>
          <a:blip r:embed="rId2">
            <a:lum contrast="36000"/>
          </a:blip>
          <a:srcRect l="0" t="13658" r="0" b="2126"/>
          <a:stretch/>
        </p:blipFill>
        <p:spPr>
          <a:xfrm>
            <a:off x="4643280" y="2143080"/>
            <a:ext cx="414360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Безымянный3"/>
          <p:cNvPicPr/>
          <p:nvPr/>
        </p:nvPicPr>
        <p:blipFill>
          <a:blip r:embed="rId1"/>
          <a:stretch/>
        </p:blipFill>
        <p:spPr>
          <a:xfrm>
            <a:off x="857160" y="1714680"/>
            <a:ext cx="3500640" cy="4000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Безымянный5"/>
          <p:cNvPicPr/>
          <p:nvPr/>
        </p:nvPicPr>
        <p:blipFill>
          <a:blip r:embed="rId2"/>
          <a:stretch/>
        </p:blipFill>
        <p:spPr>
          <a:xfrm>
            <a:off x="4857840" y="1643040"/>
            <a:ext cx="3714840" cy="40719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Галерея паркетов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carselo1"/>
          <p:cNvPicPr/>
          <p:nvPr/>
        </p:nvPicPr>
        <p:blipFill>
          <a:blip r:embed="rId1"/>
          <a:stretch/>
        </p:blipFill>
        <p:spPr>
          <a:xfrm>
            <a:off x="642960" y="1714680"/>
            <a:ext cx="3429000" cy="407160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6" descr="2.jpg"/>
          <p:cNvPicPr/>
          <p:nvPr/>
        </p:nvPicPr>
        <p:blipFill>
          <a:blip r:embed="rId2"/>
          <a:stretch/>
        </p:blipFill>
        <p:spPr>
          <a:xfrm>
            <a:off x="4857840" y="1643040"/>
            <a:ext cx="364320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6" descr="int_08.jpg"/>
          <p:cNvPicPr/>
          <p:nvPr/>
        </p:nvPicPr>
        <p:blipFill>
          <a:blip r:embed="rId1"/>
          <a:srcRect l="0" t="0" r="0" b="9845"/>
          <a:stretch/>
        </p:blipFill>
        <p:spPr>
          <a:xfrm>
            <a:off x="857160" y="1714680"/>
            <a:ext cx="3429000" cy="421452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7" descr="6.jpg"/>
          <p:cNvPicPr/>
          <p:nvPr/>
        </p:nvPicPr>
        <p:blipFill>
          <a:blip r:embed="rId2"/>
          <a:stretch/>
        </p:blipFill>
        <p:spPr>
          <a:xfrm>
            <a:off x="4643280" y="1714680"/>
            <a:ext cx="357192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6:47:55Z</dcterms:created>
  <dc:creator>My</dc:creator>
  <dc:description/>
  <dc:language>en-US</dc:language>
  <cp:lastModifiedBy>Нина Ртищева</cp:lastModifiedBy>
  <dcterms:modified xsi:type="dcterms:W3CDTF">2012-02-12T12:22:05Z</dcterms:modified>
  <cp:revision>19</cp:revision>
  <dc:subject/>
  <dc:title>Слайд 1</dc:title>
</cp:coreProperties>
</file>