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1.png" ContentType="image/png"/>
  <Override PartName="/ppt/media/image14.png" ContentType="image/png"/>
  <Override PartName="/ppt/media/image10.gif" ContentType="image/gif"/>
  <Override PartName="/ppt/media/image2.jpeg" ContentType="image/jpeg"/>
  <Override PartName="/ppt/media/image3.png" ContentType="image/png"/>
  <Override PartName="/ppt/media/image1.gif" ContentType="image/gif"/>
  <Override PartName="/ppt/media/image4.png" ContentType="image/png"/>
  <Override PartName="/ppt/media/image13.jpeg" ContentType="image/jpeg"/>
  <Override PartName="/ppt/media/image9.png" ContentType="image/png"/>
  <Override PartName="/ppt/media/image6.gif" ContentType="image/gif"/>
  <Override PartName="/ppt/media/image7.gif" ContentType="image/gif"/>
  <Override PartName="/ppt/media/image12.gif" ContentType="image/gif"/>
  <Override PartName="/ppt/media/image5.gif" ContentType="image/gif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83F90-91FB-40E8-910C-1C9FA1556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6088D-7CDB-4AFE-902C-6C109C2F9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D8C66-DB60-49C5-8F1A-492E1FF17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198EF-9EEA-4E0E-AFB5-59E4C69F4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E7C04-A006-41C5-BE46-C58ADD12D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B4201-84D8-4A65-8B00-089A99443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1DA98-5FCD-4B8C-B6ED-3AB5A5DF1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6E483-46AB-4270-B925-4913C2BF3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FEB2D-3ACE-4234-9764-A043C4949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B3881-A471-4E3C-A5C8-DA7EBA24D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D9D79-38EA-45F0-B949-2E8BEA71F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16366-3420-49E9-B281-135B8E35C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44B77-D013-430A-8392-C7D333DF3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A7059-0C4F-43BD-953A-1167EA3DE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D9CF9-8198-4C79-AD1C-2855083F3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00B7D-4346-4163-8A79-D53BC6454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A6FDA-D498-4DB3-B33B-70CF3FDD0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D87648-0885-41DB-ADC1-253F80CAB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39CDB3-2F4A-4100-BD24-FED9F7FCD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D9C225-16A8-490D-8172-24508472B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838C9F-71DD-4364-A721-1B4CCF420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D01635-D813-4BD9-89EA-006FDB56F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0671B-8486-44E6-B09C-D9C25ABEA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4C2888-C42A-4F37-A956-67F0282B6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81C109-5759-4C5D-B71D-0AD77D2A4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425F22-75D0-4AAE-B959-0DC6E3AC5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D00B3C-5E20-40C1-A8A8-435F641F1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047933-D6E8-43F1-B508-4A35FF362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E50B4E-F964-4CCA-A034-B01177B8D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A6F65D-92EB-4D6A-B4E4-F57E9155C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F80010-715D-4CC0-A2FC-B47E230D7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F6302C-8BD9-4CCC-AF99-7490838AD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4E2F6B-DFF2-425B-89A4-2F4E59BDE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F1AC5-A7E9-411C-90FC-19607F72D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1475CA-1BE0-4FB5-A39B-8C68A7CE2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DC9740-DA77-4A10-A6D7-AE3845042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88956C-BC89-4196-9ACD-D82FD051C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EC2CFC-0FA4-4C79-8715-A4F0CA8C0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F985F5-D500-4BBF-BF56-05ADA48FC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5AECDF-71EF-4CE8-A582-51AF1158B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262842-7410-4AA2-85E3-26654A8E0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37313A-92E7-45A1-9446-4195383A3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052E6C-1D16-4C1D-BCA5-A5B15408C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31D89E-5CCC-45A8-A2C9-EA5F1A630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CBFF5-91D0-4FAE-86E1-CE52E6F41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97EDED-4F59-498A-901D-C2E87FE4F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60A88E-6DA2-46E4-AE59-EEC9B03EE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748602-DECE-4E5A-8939-0DB4F88D5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27283B-4CF2-4904-A5EB-1B18B6ED5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230C53-A240-4F69-9CA7-C640ED28F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B3F3F0-7AF9-4CBD-9271-51B289D14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5E0C2A-3FF5-4A6B-8ADF-7420908B1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C7844F-0649-4802-BAC7-D323BA958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EFD53F-005F-46B8-BCD7-B63FE25E2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AAB6D6-3295-43AF-8E8D-48B26D6C5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4364E-3269-405C-80B9-D202DD1C1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9ADFD4-ABD5-4F22-9DFE-440452E95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DFC47-ABAC-4841-99CA-960E0E981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CF0C1-39F7-4400-A437-002C6A71C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D7651-37BF-4DE8-ADC9-C2393BF67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3240" y="5051520"/>
            <a:ext cx="3575160" cy="180648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-1440" y="5051520"/>
            <a:ext cx="9145440" cy="180648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Е.П.КАЛИНИЧЕНКО  2009 ГОД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D6CD3-74C9-49A3-A714-87F795A3BF64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ight Triangle 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Freeform 7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Е.П.КАЛИНИЧЕНКО  2009 ГОД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3C60F-77CF-4974-8138-7F52D9E516AD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7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Right Triangle 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Е.П.КАЛИНИЧЕНКО  2009 ГОД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35BD4-2BFE-42AE-A09B-159E6312ADFC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ight Triangle 1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Right Triangle 17"/>
          <p:cNvSpPr/>
          <p:nvPr/>
        </p:nvSpPr>
        <p:spPr>
          <a:xfrm rot="5400000">
            <a:off x="433440" y="-433440"/>
            <a:ext cx="6858000" cy="7724880"/>
          </a:xfrm>
          <a:prstGeom prst="rtTriangle">
            <a:avLst/>
          </a:pr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4343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434342"/>
                </a:solidFill>
                <a:latin typeface="Times New Roman"/>
              </a:rPr>
              <a:t>Е.П.КАЛИНИЧЕНКО  2009 ГОД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434342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43434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F5310-3683-4D76-9378-FE36F1313623}" type="slidenum">
              <a:rPr b="0" lang="ru-RU" sz="1600" spc="-1" strike="noStrike">
                <a:solidFill>
                  <a:srgbClr val="434342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ight Triangle 8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Freeform 9"/>
          <p:cNvSpPr/>
          <p:nvPr/>
        </p:nvSpPr>
        <p:spPr>
          <a:xfrm>
            <a:off x="0" y="5048280"/>
            <a:ext cx="3571920" cy="1809720"/>
          </a:xfrm>
          <a:custGeom>
            <a:avLst/>
            <a:gdLst/>
            <a:ahLst/>
            <a:rect l="l" t="t" r="r" b="b"/>
            <a:pathLst>
              <a:path w="3571875" h="1809750">
                <a:moveTo>
                  <a:pt x="0" y="1809750"/>
                </a:moveTo>
                <a:lnTo>
                  <a:pt x="2038350" y="0"/>
                </a:lnTo>
                <a:lnTo>
                  <a:pt x="3571875" y="1809750"/>
                </a:lnTo>
                <a:lnTo>
                  <a:pt x="0" y="1809750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Е.П.КАЛИНИЧЕНКО  2009 ГОД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91A0B-0B33-46DF-9BFE-E8B5D92A65EB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12.xml"/><Relationship Id="rId3" Type="http://schemas.openxmlformats.org/officeDocument/2006/relationships/slide" Target="slide10.xml"/><Relationship Id="rId4" Type="http://schemas.openxmlformats.org/officeDocument/2006/relationships/slide" Target="slide10.xml"/><Relationship Id="rId5" Type="http://schemas.openxmlformats.org/officeDocument/2006/relationships/image" Target="../media/image8.png"/><Relationship Id="rId6" Type="http://schemas.openxmlformats.org/officeDocument/2006/relationships/slide" Target="slide8.xml"/><Relationship Id="rId7" Type="http://schemas.openxmlformats.org/officeDocument/2006/relationships/slide" Target="slide8.xml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99640" y="76464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Franklin Gothic Medium"/>
              </a:rPr>
              <a:t>ПОДРОСТКОВЫЙ ВОЗРАСТ. ПСИХОЛОГИЧЕСКИЕ ОСОБЕННОСТИ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216" name="Picture 9" descr="30 а"/>
          <p:cNvPicPr/>
          <p:nvPr/>
        </p:nvPicPr>
        <p:blipFill>
          <a:blip r:embed="rId1"/>
          <a:stretch/>
        </p:blipFill>
        <p:spPr>
          <a:xfrm>
            <a:off x="468360" y="2063880"/>
            <a:ext cx="3816360" cy="45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619280" y="115560"/>
            <a:ext cx="5649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Franklin Gothic Medium"/>
              </a:rPr>
              <a:t>ЧУВСТВО ВЗРОСЛОСТИ</a:t>
            </a: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822240" y="1100160"/>
            <a:ext cx="7521840" cy="463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росток  объективно не может включиться во взрослую жизнь, но стремиться к ней и претендует на равные со взрослыми права. Изменить он пока ничего не может, но внешне подражает взрослым. 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сюда и появляются атрибуты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"псевдовзрослости"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урение сигарет, употребление алкоголя, наркотиков, тусовки, (внешнее проявление "я тоже имею свою личную жизнь"). Копирует любые взрослые отношения.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47" name="Picture 5" descr="CALVIN2"/>
          <p:cNvPicPr/>
          <p:nvPr/>
        </p:nvPicPr>
        <p:blipFill>
          <a:blip r:embed="rId1"/>
          <a:stretch/>
        </p:blipFill>
        <p:spPr>
          <a:xfrm>
            <a:off x="127080" y="3573360"/>
            <a:ext cx="2284200" cy="309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-360" y="6120"/>
            <a:ext cx="7380360" cy="63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нешний вид подростка - еще один источник конфликта. </a:t>
            </a:r>
            <a:endParaRPr b="1" lang="en-US" sz="25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няется походка, манеры, внешний облик. 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щё совсем недавно свободно, легко двигавшийся мальчик начинает ходить вразвалку, опустив руки глубоко в карманы и сплёвывая через плечо. У него появляются новые выражения. 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вочка начинает ревностно сравнивать свою одежду и причёску с образцами, которые она видит на улице и обложках журналов, выплёскивая на маму эмоции по поводу имеющихся расхождений 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49" name="Picture 6" descr="CALVIN3"/>
          <p:cNvPicPr/>
          <p:nvPr/>
        </p:nvPicPr>
        <p:blipFill>
          <a:blip r:embed="rId1"/>
          <a:stretch/>
        </p:blipFill>
        <p:spPr>
          <a:xfrm>
            <a:off x="6621480" y="6480"/>
            <a:ext cx="2544840" cy="29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Franklin Gothic Medium"/>
              </a:rPr>
              <a:t>ВНУТРЕННИЙ</a:t>
            </a:r>
            <a:r>
              <a:rPr b="1" i="1" lang="ru-RU" sz="4400" spc="-1" strike="noStrike">
                <a:solidFill>
                  <a:srgbClr val="000000"/>
                </a:solidFill>
                <a:latin typeface="Franklin Gothic Medium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Franklin Gothic Medium"/>
              </a:rPr>
              <a:t>КОНФЛИКТ</a:t>
            </a: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1" name="AutoShape 4"/>
          <p:cNvSpPr/>
          <p:nvPr/>
        </p:nvSpPr>
        <p:spPr>
          <a:xfrm>
            <a:off x="4822920" y="1413000"/>
            <a:ext cx="4319640" cy="2592360"/>
          </a:xfrm>
          <a:prstGeom prst="wedgeEllipseCallout">
            <a:avLst>
              <a:gd name="adj1" fmla="val -48273"/>
              <a:gd name="adj2" fmla="val 82763"/>
            </a:avLst>
          </a:prstGeom>
          <a:solidFill>
            <a:srgbClr val="d6009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Я должен выглядеть как все в моей компании. Я не должен выделяться в классе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AutoShape 5"/>
          <p:cNvSpPr/>
          <p:nvPr/>
        </p:nvSpPr>
        <p:spPr>
          <a:xfrm>
            <a:off x="0" y="1628640"/>
            <a:ext cx="4427640" cy="2376720"/>
          </a:xfrm>
          <a:prstGeom prst="wedgeEllipseCallout">
            <a:avLst>
              <a:gd name="adj1" fmla="val 34078"/>
              <a:gd name="adj2" fmla="val 101037"/>
            </a:avLst>
          </a:prstGeom>
          <a:solidFill>
            <a:srgbClr val="d6009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Я – это я. Я сам всё знаю! Я буду делать всё  так, как считаю нужным!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3" name="Picture 9" descr="AG00317_"/>
          <p:cNvPicPr/>
          <p:nvPr/>
        </p:nvPicPr>
        <p:blipFill>
          <a:blip r:embed="rId1"/>
          <a:stretch/>
        </p:blipFill>
        <p:spPr>
          <a:xfrm>
            <a:off x="3419640" y="4176720"/>
            <a:ext cx="2089080" cy="26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10920" y="260280"/>
            <a:ext cx="752148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Franklin Gothic Medium"/>
              </a:rPr>
              <a:t>БОРЬБА ПОДРОСТКА</a:t>
            </a:r>
            <a:br>
              <a:rPr sz="3200"/>
            </a:b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-360" y="1484280"/>
            <a:ext cx="752148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29480" indent="-4294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За то, чтобы перестать быть ребенком.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429480" indent="-4294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За утверждение среди сверстников.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429480" indent="-4294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За прекращение посягательства на его физическое начало, неприкосновенность.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429480" indent="-4294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Против замечаний, обсуждений по поводу его физической взрослости.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56" name="Рисунок 1" descr=""/>
          <p:cNvPicPr/>
          <p:nvPr/>
        </p:nvPicPr>
        <p:blipFill>
          <a:blip r:embed="rId1"/>
          <a:stretch/>
        </p:blipFill>
        <p:spPr>
          <a:xfrm>
            <a:off x="6804000" y="115920"/>
            <a:ext cx="2155680" cy="32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Franklin Gothic Medium"/>
              </a:rPr>
              <a:t>ГЛАВНЫМ ДЛЯ ПОДРОСТКА СО СТОРОНЫ СЕМЬИ ЯВЛЯЕТСЯ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18720" y="1268280"/>
            <a:ext cx="75200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5800" indent="-68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Любовь</a:t>
            </a:r>
            <a:endParaRPr b="1" lang="en-US" sz="4800" spc="-1" strike="noStrike">
              <a:solidFill>
                <a:srgbClr val="000000"/>
              </a:solidFill>
              <a:latin typeface="Franklin Gothic Book"/>
            </a:endParaRPr>
          </a:p>
          <a:p>
            <a:pPr marL="685800" indent="-68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Доверие</a:t>
            </a:r>
            <a:endParaRPr b="1" lang="en-US" sz="4800" spc="-1" strike="noStrike">
              <a:solidFill>
                <a:srgbClr val="000000"/>
              </a:solidFill>
              <a:latin typeface="Franklin Gothic Book"/>
            </a:endParaRPr>
          </a:p>
          <a:p>
            <a:pPr marL="685800" indent="-68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Понимание</a:t>
            </a:r>
            <a:endParaRPr b="1" lang="en-US" sz="4800" spc="-1" strike="noStrike">
              <a:solidFill>
                <a:srgbClr val="000000"/>
              </a:solidFill>
              <a:latin typeface="Franklin Gothic Book"/>
            </a:endParaRPr>
          </a:p>
          <a:p>
            <a:pPr marL="685800" indent="-68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поддержка</a:t>
            </a:r>
            <a:endParaRPr b="1" lang="en-US" sz="4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59" name="Рисунок 1" descr=""/>
          <p:cNvPicPr/>
          <p:nvPr/>
        </p:nvPicPr>
        <p:blipFill>
          <a:blip r:embed="rId1"/>
          <a:stretch/>
        </p:blipFill>
        <p:spPr>
          <a:xfrm>
            <a:off x="4932360" y="4605480"/>
            <a:ext cx="4211640" cy="22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Franklin Gothic Medium"/>
              </a:rPr>
              <a:t>ПРАВИЛА ДЛЯ РОДИТЕЛЕЙ ПОДРОСТКОВ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-8280" y="981000"/>
            <a:ext cx="7521480" cy="484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очь ребенку найти компромисс души и тела.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замечания делать в доброжелательном , спокойном тоне, без ярлыков.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ните, пока развивается тело ребенка, болит и ждет помощи его душа.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перегружайте ребенка опекой и контролем.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монстрируйте взаимное уважение.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держивайте подростка. В отличие от награды поддержка нужна даже тогда, когда он не достигает успеха.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ейте мужество. Изменение в ребенке требуют практики и терпения.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62" name="Рисунок 1" descr=""/>
          <p:cNvPicPr/>
          <p:nvPr/>
        </p:nvPicPr>
        <p:blipFill>
          <a:blip r:embed="rId1"/>
          <a:stretch/>
        </p:blipFill>
        <p:spPr>
          <a:xfrm>
            <a:off x="6659640" y="4508640"/>
            <a:ext cx="2484360" cy="233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39640" y="549360"/>
            <a:ext cx="8143920" cy="446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Monotype Corsiva"/>
                <a:ea typeface="Miriam"/>
              </a:rPr>
              <a:t>УСПЕХОВ ВАМ, </a:t>
            </a:r>
            <a:br>
              <a:rPr sz="6600"/>
            </a:br>
            <a:r>
              <a:rPr b="1" lang="ru-RU" sz="6600" spc="-1" strike="noStrike">
                <a:solidFill>
                  <a:srgbClr val="ff0000"/>
                </a:solidFill>
                <a:latin typeface="Monotype Corsiva"/>
                <a:ea typeface="Miriam"/>
              </a:rPr>
              <a:t>УВАЖАЕМЫЕ РОДИТЕЛИ!</a:t>
            </a:r>
            <a:endParaRPr b="0" lang="en-US" sz="66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610920" y="549000"/>
            <a:ext cx="7885080" cy="5327640"/>
          </a:xfrm>
          <a:prstGeom prst="rect">
            <a:avLst/>
          </a:prstGeom>
          <a:noFill/>
          <a:ln w="0">
            <a:noFill/>
          </a:ln>
        </p:spPr>
        <p:txBody>
          <a:bodyPr tIns="90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  <a:ea typeface="Tunga"/>
              </a:rPr>
              <a:t>СТРУКТУРА ЛИЧНОСТИ ПОДРОСТКА…</a:t>
            </a:r>
            <a:endParaRPr b="1" lang="en-US" sz="36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  <a:ea typeface="Tunga"/>
              </a:rPr>
              <a:t>В НЕЙ НЕТ НИЧЕГО УСТОЙЧИВОГО, ОКОНЧАТЕЛЬНОГО И НЕПОДВИЖНОГО. ВСЕ В НЕЙ- ПЕРЕХОД, ВСЕ ТЕЧЕТ.</a:t>
            </a:r>
            <a:endParaRPr b="1" lang="en-US" sz="36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Tunga"/>
              </a:rPr>
              <a:t>                                                </a:t>
            </a:r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Tunga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Л.С.ВЫГОТСКИЙ)</a:t>
            </a:r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987640" y="620640"/>
            <a:ext cx="5695920" cy="532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 u="sng">
                <a:solidFill>
                  <a:srgbClr val="000000"/>
                </a:solidFill>
                <a:uFillTx/>
                <a:latin typeface="Franklin Gothic Book"/>
              </a:rPr>
              <a:t>Из психологического словаря:</a:t>
            </a:r>
            <a:r>
              <a:rPr b="1" lang="ru-RU" sz="2500" spc="-1" strike="noStrike" u="sng">
                <a:solidFill>
                  <a:srgbClr val="000000"/>
                </a:solidFill>
                <a:uFillTx/>
                <a:latin typeface="Franklin Gothic Book"/>
              </a:rPr>
              <a:t> </a:t>
            </a:r>
            <a:endParaRPr b="1" lang="en-US" sz="25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Franklin Gothic Book"/>
              </a:rPr>
              <a:t>    </a:t>
            </a:r>
            <a:r>
              <a:rPr b="1" lang="ru-RU" sz="2500" spc="-1" strike="noStrike" u="sng">
                <a:solidFill>
                  <a:srgbClr val="000000"/>
                </a:solidFill>
                <a:uFillTx/>
                <a:latin typeface="Franklin Gothic Book"/>
              </a:rPr>
              <a:t>«Подростковый возраст </a:t>
            </a:r>
            <a:r>
              <a:rPr b="1" lang="ru-RU" sz="2500" spc="-1" strike="noStrike">
                <a:solidFill>
                  <a:srgbClr val="000000"/>
                </a:solidFill>
                <a:latin typeface="Franklin Gothic Book"/>
              </a:rPr>
              <a:t>— стадия онтогенетического развития между детством и взрослостью (от 11–12 до 16–17 лет), которая характеризуется качественными изменениями, связанными с половым созреванием и вхождением во взрослую жизнь». </a:t>
            </a:r>
            <a:endParaRPr b="1" lang="en-US" sz="25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19" name="Picture 4" descr="podrb.jpg"/>
          <p:cNvPicPr/>
          <p:nvPr/>
        </p:nvPicPr>
        <p:blipFill>
          <a:blip r:embed="rId1"/>
          <a:stretch/>
        </p:blipFill>
        <p:spPr>
          <a:xfrm>
            <a:off x="250920" y="260280"/>
            <a:ext cx="246672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22240" y="364680"/>
            <a:ext cx="7521840" cy="176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Franklin Gothic Medium"/>
              </a:rPr>
              <a:t>КРИЗИС ПОДРОСТКОВОГО ВОЗРАСТА</a:t>
            </a: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324000" y="2349360"/>
            <a:ext cx="7519680" cy="26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     </a:t>
            </a:r>
            <a:r>
              <a:rPr b="0" lang="ru-RU" sz="2400" spc="-1" strike="noStrike">
                <a:solidFill>
                  <a:srgbClr val="ff0000"/>
                </a:solidFill>
                <a:latin typeface="Franklin Gothic Book"/>
              </a:rPr>
              <a:t>Кризис  13- 15 лет </a:t>
            </a:r>
            <a:r>
              <a:rPr b="0" lang="ru-RU" sz="2400" spc="-1" strike="noStrike">
                <a:solidFill>
                  <a:srgbClr val="000000"/>
                </a:solidFill>
                <a:latin typeface="Franklin Gothic Book"/>
              </a:rPr>
              <a:t>очень часто сравнивают с </a:t>
            </a:r>
            <a:r>
              <a:rPr b="0" lang="ru-RU" sz="2400" spc="-1" strike="noStrike">
                <a:solidFill>
                  <a:srgbClr val="ff0000"/>
                </a:solidFill>
                <a:latin typeface="Franklin Gothic Book"/>
              </a:rPr>
              <a:t>кризисом 3-х лет</a:t>
            </a:r>
            <a:r>
              <a:rPr b="0" lang="ru-RU" sz="2400" spc="-1" strike="noStrike">
                <a:solidFill>
                  <a:srgbClr val="000000"/>
                </a:solidFill>
                <a:latin typeface="Franklin Gothic Book"/>
              </a:rPr>
              <a:t>, только направлен он не на освоение пространства и предметные действия, а на освоение социального пространства, пространства человеческих взаимоотношений. 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22" name="Рисунок 1" descr=""/>
          <p:cNvPicPr/>
          <p:nvPr/>
        </p:nvPicPr>
        <p:blipFill>
          <a:blip r:embed="rId1"/>
          <a:stretch/>
        </p:blipFill>
        <p:spPr>
          <a:xfrm>
            <a:off x="7236000" y="4005360"/>
            <a:ext cx="1747800" cy="262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Franklin Gothic Medium"/>
              </a:rPr>
              <a:t>ПОДРОСТКОВЫЙ КОМПЛЕКС</a:t>
            </a: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395280" y="1412640"/>
            <a:ext cx="856944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увствительность к оценке посторонних своей внешности; 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райняя самонадеянность и резкие суждения в отношении окружающих;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нимательность порой уживается с поразительной черствостью, болезненная застенчивость с развязностью;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моциональная неустойчивость и резкие колебания настроения (пик эмоциональной неустойчивости – мальчики 11 – 13 лет, девочки 13 - 15 лет).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403280" y="-36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Franklin Gothic Medium"/>
              </a:rPr>
              <a:t>ДЛЯ ПОДРОСТКОВ ХАРАКТЕРНА ПОЛЯРНОСТЬ ПСИХИКИ: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0" y="907920"/>
            <a:ext cx="771192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Franklin Gothic Book"/>
            </a:endParaRPr>
          </a:p>
          <a:p>
            <a:pPr marL="301680" indent="-301680">
              <a:lnSpc>
                <a:spcPct val="70000"/>
              </a:lnSpc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Franklin Gothic Book"/>
              </a:rPr>
              <a:t>Целеустремленность, настойчивость</a:t>
            </a:r>
            <a:r>
              <a:rPr b="1" lang="ru-RU" sz="3200" spc="-1" strike="noStrike">
                <a:solidFill>
                  <a:srgbClr val="000000"/>
                </a:solidFill>
                <a:latin typeface="Franklin Gothic Book"/>
              </a:rPr>
              <a:t>  быстро сменяется  </a:t>
            </a:r>
            <a:r>
              <a:rPr b="1" lang="ru-RU" sz="3200" spc="-1" strike="noStrike">
                <a:solidFill>
                  <a:srgbClr val="ff0000"/>
                </a:solidFill>
                <a:latin typeface="Franklin Gothic Book"/>
              </a:rPr>
              <a:t>импульсивностью</a:t>
            </a:r>
            <a:r>
              <a:rPr b="1" lang="ru-RU" sz="3200" spc="-1" strike="noStrike">
                <a:solidFill>
                  <a:srgbClr val="000000"/>
                </a:solidFill>
                <a:latin typeface="Franklin Gothic Book"/>
              </a:rPr>
              <a:t>, </a:t>
            </a:r>
            <a:endParaRPr b="1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01680" indent="-301680">
              <a:lnSpc>
                <a:spcPct val="7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Franklin Gothic Book"/>
              </a:rPr>
              <a:t>Развязность</a:t>
            </a:r>
            <a:r>
              <a:rPr b="1" lang="ru-RU" sz="3200" spc="-1" strike="noStrike">
                <a:solidFill>
                  <a:srgbClr val="000000"/>
                </a:solidFill>
                <a:latin typeface="Franklin Gothic Book"/>
              </a:rPr>
              <a:t> в поведении порой сочетается с </a:t>
            </a:r>
            <a:r>
              <a:rPr b="1" lang="ru-RU" sz="3200" spc="-1" strike="noStrike">
                <a:solidFill>
                  <a:srgbClr val="008000"/>
                </a:solidFill>
                <a:latin typeface="Franklin Gothic Book"/>
              </a:rPr>
              <a:t>застенчивостью</a:t>
            </a:r>
            <a:r>
              <a:rPr b="1" lang="ru-RU" sz="3200" spc="-1" strike="noStrike">
                <a:solidFill>
                  <a:srgbClr val="000000"/>
                </a:solidFill>
                <a:latin typeface="Franklin Gothic Book"/>
              </a:rPr>
              <a:t>; </a:t>
            </a:r>
            <a:endParaRPr b="1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01680" indent="-301680">
              <a:lnSpc>
                <a:spcPct val="70000"/>
              </a:lnSpc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Franklin Gothic Book"/>
              </a:rPr>
              <a:t>Романтические настроения</a:t>
            </a:r>
            <a:r>
              <a:rPr b="1" lang="ru-RU" sz="3200" spc="-1" strike="noStrike">
                <a:solidFill>
                  <a:srgbClr val="000000"/>
                </a:solidFill>
                <a:latin typeface="Franklin Gothic Book"/>
              </a:rPr>
              <a:t> нередко граничат с </a:t>
            </a:r>
            <a:r>
              <a:rPr b="1" lang="ru-RU" sz="3200" spc="-1" strike="noStrike">
                <a:solidFill>
                  <a:srgbClr val="ff0000"/>
                </a:solidFill>
                <a:latin typeface="Franklin Gothic Book"/>
              </a:rPr>
              <a:t>цинизмом, расчетливостью; </a:t>
            </a:r>
            <a:endParaRPr b="1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01680" indent="-301680">
              <a:lnSpc>
                <a:spcPct val="70000"/>
              </a:lnSpc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Franklin Gothic Book"/>
              </a:rPr>
              <a:t>Нежность, ласковость</a:t>
            </a:r>
            <a:r>
              <a:rPr b="1" lang="ru-RU" sz="3200" spc="-1" strike="noStrike">
                <a:solidFill>
                  <a:srgbClr val="000000"/>
                </a:solidFill>
                <a:latin typeface="Franklin Gothic Book"/>
              </a:rPr>
              <a:t> бывают на фоне </a:t>
            </a:r>
            <a:r>
              <a:rPr b="1" lang="ru-RU" sz="3200" spc="-1" strike="noStrike">
                <a:solidFill>
                  <a:srgbClr val="ff0000"/>
                </a:solidFill>
                <a:latin typeface="Franklin Gothic Book"/>
              </a:rPr>
              <a:t>недетской жестокости,</a:t>
            </a:r>
            <a:endParaRPr b="1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01680" indent="-301680">
              <a:lnSpc>
                <a:spcPct val="7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Franklin Gothic Book"/>
              </a:rPr>
              <a:t>Неустойчивость интересов</a:t>
            </a:r>
            <a:endParaRPr b="1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01680" indent="-30168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27" name="Рисунок 1" descr=""/>
          <p:cNvPicPr/>
          <p:nvPr/>
        </p:nvPicPr>
        <p:blipFill>
          <a:blip r:embed="rId1"/>
          <a:srcRect l="0" t="0" r="0" b="5943"/>
          <a:stretch/>
        </p:blipFill>
        <p:spPr>
          <a:xfrm>
            <a:off x="6948360" y="3978360"/>
            <a:ext cx="204156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Franklin Gothic Medium"/>
              </a:rPr>
              <a:t>ПАРАДОКСЫ ПОДРОСТКОВОЙ ПСИХИКИ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дросток хочет вырваться из-под опеки взрослых, получить свободу, при этом не зная, что с ней делать.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нтересно все сразу и ничего.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Хочется всего, сразу и если позже- «то вообще тогда зачем».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и всей своей самоуверенности подросток очень неуверен в себе.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124000" y="333000"/>
            <a:ext cx="5507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Franklin Gothic Medium"/>
              </a:rPr>
              <a:t>СМЕНА НАСТРОЕНИЯ</a:t>
            </a: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345960" y="1434960"/>
            <a:ext cx="7313760" cy="379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Franklin Gothic Book"/>
              </a:rPr>
              <a:t>Потребность в общении</a:t>
            </a:r>
            <a:r>
              <a:rPr b="0" lang="ru-RU" sz="2400" spc="-1" strike="noStrike">
                <a:solidFill>
                  <a:srgbClr val="000000"/>
                </a:solidFill>
                <a:latin typeface="Franklin Gothic Book"/>
              </a:rPr>
              <a:t> сменяется </a:t>
            </a:r>
            <a:r>
              <a:rPr b="0" lang="ru-RU" sz="2400" spc="-1" strike="noStrike">
                <a:solidFill>
                  <a:srgbClr val="ff0000"/>
                </a:solidFill>
                <a:latin typeface="Franklin Gothic Book"/>
              </a:rPr>
              <a:t>желанием уединиться</a:t>
            </a:r>
            <a:r>
              <a:rPr b="0" lang="ru-RU" sz="2400" spc="-1" strike="noStrike">
                <a:solidFill>
                  <a:srgbClr val="000000"/>
                </a:solidFill>
                <a:latin typeface="Franklin Gothic Book"/>
              </a:rPr>
              <a:t>; 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22200" indent="-322200">
              <a:lnSpc>
                <a:spcPct val="80000"/>
              </a:lnSpc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Franklin Gothic Book"/>
              </a:rPr>
              <a:t>Нежность, ласковость</a:t>
            </a:r>
            <a:r>
              <a:rPr b="0" lang="ru-RU" sz="2400" spc="-1" strike="noStrike">
                <a:solidFill>
                  <a:srgbClr val="000000"/>
                </a:solidFill>
                <a:latin typeface="Franklin Gothic Book"/>
              </a:rPr>
              <a:t> бывают на фоне </a:t>
            </a:r>
            <a:r>
              <a:rPr b="0" lang="ru-RU" sz="2400" spc="-1" strike="noStrike">
                <a:solidFill>
                  <a:srgbClr val="ff0000"/>
                </a:solidFill>
                <a:latin typeface="Franklin Gothic Book"/>
              </a:rPr>
              <a:t>недетской жестокости,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22200" indent="-322200">
              <a:lnSpc>
                <a:spcPct val="80000"/>
              </a:lnSpc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Franklin Gothic Book"/>
              </a:rPr>
              <a:t>Веселье, радость</a:t>
            </a:r>
            <a:r>
              <a:rPr b="0" lang="ru-RU" sz="2400" spc="-1" strike="noStrike">
                <a:solidFill>
                  <a:srgbClr val="000000"/>
                </a:solidFill>
                <a:latin typeface="Franklin Gothic Book"/>
              </a:rPr>
              <a:t>  может  быстро смениться </a:t>
            </a:r>
            <a:r>
              <a:rPr b="0" lang="ru-RU" sz="2400" spc="-1" strike="noStrike">
                <a:solidFill>
                  <a:srgbClr val="ff0000"/>
                </a:solidFill>
                <a:latin typeface="Franklin Gothic Book"/>
              </a:rPr>
              <a:t>апатией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22200" indent="-322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Franklin Gothic Book"/>
              </a:rPr>
              <a:t>Повышенная самоуверенность, безаппеляционность в суждениях</a:t>
            </a:r>
            <a:r>
              <a:rPr b="0" lang="ru-RU" sz="2400" spc="-1" strike="noStrike">
                <a:solidFill>
                  <a:srgbClr val="000000"/>
                </a:solidFill>
                <a:latin typeface="Franklin Gothic Book"/>
              </a:rPr>
              <a:t> быстро сменяется </a:t>
            </a:r>
            <a:r>
              <a:rPr b="0" lang="ru-RU" sz="2400" spc="-1" strike="noStrike">
                <a:solidFill>
                  <a:srgbClr val="008000"/>
                </a:solidFill>
                <a:latin typeface="Franklin Gothic Book"/>
              </a:rPr>
              <a:t>ранимостью и неуверенностью в себе; 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22200" indent="-322200">
              <a:lnSpc>
                <a:spcPct val="80000"/>
              </a:lnSpc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Franklin Gothic Book"/>
              </a:rPr>
              <a:t>Романтические настроения</a:t>
            </a:r>
            <a:r>
              <a:rPr b="0" lang="ru-RU" sz="2400" spc="-1" strike="noStrike">
                <a:solidFill>
                  <a:srgbClr val="000000"/>
                </a:solidFill>
                <a:latin typeface="Franklin Gothic Book"/>
              </a:rPr>
              <a:t> нередко граничат с </a:t>
            </a:r>
            <a:r>
              <a:rPr b="0" lang="ru-RU" sz="2400" spc="-1" strike="noStrike">
                <a:solidFill>
                  <a:srgbClr val="ff0000"/>
                </a:solidFill>
                <a:latin typeface="Franklin Gothic Book"/>
              </a:rPr>
              <a:t>цинизмом, расчетливостью 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32" name="Picture 4" descr="BOY7"/>
          <p:cNvPicPr/>
          <p:nvPr/>
        </p:nvPicPr>
        <p:blipFill>
          <a:blip r:embed="rId1"/>
          <a:stretch/>
        </p:blipFill>
        <p:spPr>
          <a:xfrm>
            <a:off x="255600" y="196920"/>
            <a:ext cx="1000080" cy="122400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5" descr="BOY4"/>
          <p:cNvPicPr/>
          <p:nvPr/>
        </p:nvPicPr>
        <p:blipFill>
          <a:blip r:embed="rId2"/>
          <a:stretch/>
        </p:blipFill>
        <p:spPr>
          <a:xfrm>
            <a:off x="6969240" y="5445000"/>
            <a:ext cx="1245960" cy="129708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7" descr="BOY6"/>
          <p:cNvPicPr/>
          <p:nvPr/>
        </p:nvPicPr>
        <p:blipFill>
          <a:blip r:embed="rId3"/>
          <a:stretch/>
        </p:blipFill>
        <p:spPr>
          <a:xfrm>
            <a:off x="7694640" y="174600"/>
            <a:ext cx="104148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AutoShape 4"/>
          <p:cNvSpPr/>
          <p:nvPr/>
        </p:nvSpPr>
        <p:spPr>
          <a:xfrm>
            <a:off x="1692360" y="189000"/>
            <a:ext cx="7200720" cy="1439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603ab"/>
              </a:gs>
              <a:gs pos="50000">
                <a:srgbClr val="0066ff"/>
              </a:gs>
              <a:gs pos="100000">
                <a:srgbClr val="a603a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Каковы ощущения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одростка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AutoShape 6"/>
          <p:cNvSpPr/>
          <p:nvPr/>
        </p:nvSpPr>
        <p:spPr>
          <a:xfrm>
            <a:off x="2050920" y="4581360"/>
            <a:ext cx="4824720" cy="1800360"/>
          </a:xfrm>
          <a:prstGeom prst="roundRect">
            <a:avLst>
              <a:gd name="adj" fmla="val 16667"/>
            </a:avLst>
          </a:prstGeom>
          <a:solidFill>
            <a:srgbClr val="fee1d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5f5f5f"/>
                </a:solidFill>
                <a:uFillTx/>
                <a:latin typeface="Verdana"/>
                <a:hlinkClick r:id="rId1" action="ppaction://hlinksldjump"/>
              </a:rPr>
              <a:t>Внутренний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5f5f5f"/>
                </a:solidFill>
                <a:uFillTx/>
                <a:latin typeface="Verdana"/>
                <a:hlinkClick r:id="rId2" action="ppaction://hlinksldjump"/>
              </a:rPr>
              <a:t>Конфлик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Я – уникальная личнос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Я – такой же как и вс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37" name="Group 14"/>
          <p:cNvGrpSpPr/>
          <p:nvPr/>
        </p:nvGrpSpPr>
        <p:grpSpPr>
          <a:xfrm>
            <a:off x="179280" y="2205000"/>
            <a:ext cx="2952720" cy="2087640"/>
            <a:chOff x="179280" y="2205000"/>
            <a:chExt cx="2952720" cy="2087640"/>
          </a:xfrm>
        </p:grpSpPr>
        <p:sp>
          <p:nvSpPr>
            <p:cNvPr id="238" name="AutoShape 5"/>
            <p:cNvSpPr/>
            <p:nvPr/>
          </p:nvSpPr>
          <p:spPr>
            <a:xfrm>
              <a:off x="179280" y="2781360"/>
              <a:ext cx="2952720" cy="1511280"/>
            </a:xfrm>
            <a:prstGeom prst="roundRect">
              <a:avLst>
                <a:gd name="adj" fmla="val 16667"/>
              </a:avLst>
            </a:prstGeom>
            <a:solidFill>
              <a:srgbClr val="fee1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 u="sng">
                  <a:solidFill>
                    <a:srgbClr val="5f5f5f"/>
                  </a:solidFill>
                  <a:uFillTx/>
                  <a:latin typeface="Verdana"/>
                  <a:hlinkClick r:id="rId3" action="ppaction://hlinksldjump"/>
                </a:rPr>
                <a:t>Чувство 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 u="sng">
                  <a:solidFill>
                    <a:srgbClr val="5f5f5f"/>
                  </a:solidFill>
                  <a:uFillTx/>
                  <a:latin typeface="Verdana"/>
                  <a:hlinkClick r:id="rId4" action="ppaction://hlinksldjump"/>
                </a:rPr>
                <a:t>взрослости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9" name="Line 11"/>
            <p:cNvSpPr/>
            <p:nvPr/>
          </p:nvSpPr>
          <p:spPr>
            <a:xfrm flipH="1">
              <a:off x="1834920" y="2205000"/>
              <a:ext cx="216000" cy="4320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240" name="Group 15" descr=""/>
          <p:cNvPicPr/>
          <p:nvPr/>
        </p:nvPicPr>
        <p:blipFill>
          <a:blip r:embed="rId5"/>
          <a:stretch/>
        </p:blipFill>
        <p:spPr>
          <a:xfrm>
            <a:off x="6059520" y="2249640"/>
            <a:ext cx="2968560" cy="2036520"/>
          </a:xfrm>
          <a:prstGeom prst="rect">
            <a:avLst/>
          </a:prstGeom>
          <a:ln w="0">
            <a:noFill/>
          </a:ln>
        </p:spPr>
      </p:pic>
      <p:grpSp>
        <p:nvGrpSpPr>
          <p:cNvPr id="241" name="Group 26"/>
          <p:cNvGrpSpPr/>
          <p:nvPr/>
        </p:nvGrpSpPr>
        <p:grpSpPr>
          <a:xfrm>
            <a:off x="3276720" y="1700280"/>
            <a:ext cx="2590560" cy="2736720"/>
            <a:chOff x="3276720" y="1700280"/>
            <a:chExt cx="2590560" cy="2736720"/>
          </a:xfrm>
        </p:grpSpPr>
        <p:sp>
          <p:nvSpPr>
            <p:cNvPr id="242" name="AutoShape 21"/>
            <p:cNvSpPr/>
            <p:nvPr/>
          </p:nvSpPr>
          <p:spPr>
            <a:xfrm>
              <a:off x="3276720" y="2349360"/>
              <a:ext cx="2590560" cy="2087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ff33"/>
                </a:gs>
                <a:gs pos="100000">
                  <a:srgbClr val="003399"/>
                </a:gs>
              </a:gsLst>
              <a:lin ang="189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 u="sng">
                  <a:solidFill>
                    <a:srgbClr val="5f5f5f"/>
                  </a:solidFill>
                  <a:uFillTx/>
                  <a:latin typeface="Verdana"/>
                  <a:hlinkClick r:id="rId6" action="ppaction://hlinksldjump"/>
                </a:rPr>
                <a:t>Быстрая</a:t>
              </a:r>
              <a:r>
                <a:rPr b="1" lang="ru-RU" sz="28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ff"/>
                  </a:solidFill>
                  <a:latin typeface="Verdana"/>
                </a:rPr>
                <a:t>смена 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 u="sng">
                  <a:solidFill>
                    <a:srgbClr val="5f5f5f"/>
                  </a:solidFill>
                  <a:uFillTx/>
                  <a:latin typeface="Verdana"/>
                  <a:hlinkClick r:id="rId7" action="ppaction://hlinksldjump"/>
                </a:rPr>
                <a:t>настроения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3" name="Line 22"/>
            <p:cNvSpPr/>
            <p:nvPr/>
          </p:nvSpPr>
          <p:spPr>
            <a:xfrm>
              <a:off x="4643280" y="1700280"/>
              <a:ext cx="0" cy="5763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244" name="Рисунок 4" descr=""/>
          <p:cNvPicPr/>
          <p:nvPr/>
        </p:nvPicPr>
        <p:blipFill>
          <a:blip r:embed="rId8"/>
          <a:stretch/>
        </p:blipFill>
        <p:spPr>
          <a:xfrm>
            <a:off x="25560" y="0"/>
            <a:ext cx="1865160" cy="22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5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0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5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0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6T19:21:14Z</dcterms:created>
  <dc:creator>Admin</dc:creator>
  <dc:description/>
  <dc:language>en-US</dc:language>
  <cp:lastModifiedBy>lena</cp:lastModifiedBy>
  <dcterms:modified xsi:type="dcterms:W3CDTF">2012-12-23T08:37:50Z</dcterms:modified>
  <cp:revision>16</cp:revision>
  <dc:subject/>
  <dc:title>Подростковый возраст. Психологические особенности</dc:title>
</cp:coreProperties>
</file>