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10.gif" ContentType="image/gif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9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FE2-E2B6-47A2-B7C3-DE7FE113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AB8-D035-4984-8B17-E5C69C11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E45-E45B-4BF4-8CAD-1942C0B2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292-24D3-47E2-9CE3-17E4E5AA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0EDD-0854-46F2-B6B8-94B214C6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F949-812E-4855-92D4-12071DBE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4809-F491-4D06-A8E6-6D1F7A14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DC4E-6D00-4FBF-A995-B8B4FDAD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EC60-1508-4017-A47B-6FFB4B24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7214-47E5-461A-B4D5-E85C9B28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4E50-2878-4ED7-8C95-C5E4AB4C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FA0-34D4-42EE-91D5-2F2D1D6A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95F7-5302-44D2-AF42-A524900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F42C-A693-4929-A9EB-E53C1C7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B63A-613E-42FC-BEC9-7A63FAF8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E25D-EDA2-4647-A29F-D28BDA68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D811-D3C5-466F-B8F4-CE14B13B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9D1E-D5DA-4B46-9BB3-0ED8D4D7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9604-E460-46C4-8543-F8361649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E1B3-8255-418F-89DE-8DFA6BC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D8B2B-F9AA-49FD-B15B-DBCB6E90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F643-92AE-4E02-8D60-C9D03F7C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302-3B12-4405-B386-2BA47DE1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1A60-0DE9-494E-A12B-0FCA142B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721F1-2211-44BA-9D3E-B53D15B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9808-B659-4A23-AD65-1363A64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C70C-DA43-451B-80CA-5EF403ED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8AC1-80EE-4F51-8EA3-FA25F5C7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DEE9-6377-4DCD-9A19-6FDF6255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CB39-6568-405E-9EDA-C4F28EC3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04EE1-7A01-4D58-88C0-FCB48A13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EC6D8-B2B9-41A4-9355-D9D8B042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16DA-ADC4-438B-8A2D-FADA4CDB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C10-4632-497D-9BB1-EC9A2291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413A-DFE4-48DC-8C8E-51607C3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0B729-5E5F-46D7-9BAD-58BA12CD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A1A6-DEA1-4D6F-B14B-1E4AAC79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587C-849F-4C82-A500-296C0600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E114-D387-4F6D-9F62-1B59D318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07F9-1D6C-4DFC-A67D-BC50BFDE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4C58-E564-4761-908E-D77F641C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7026-BBD9-478F-87E7-6E855A46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BCD7-3E40-4502-A065-6B6AA5C5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20CE-7D26-4F6D-B832-3D88174C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689-7E57-491C-AB53-85FD1B14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93F61-C0DB-4E57-8456-63D511CD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483BA-F6B6-4D1C-8990-80BEC21A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8426E-70F2-4E47-9C02-EB5C3F2C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86BD4-91A9-47F3-8756-1902FEBB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CDCDD-8C6E-41DB-A66E-F8247B8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0C3B9-4F13-4DA1-8E59-9090233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B7A44-B7A0-4AA4-84FE-C7653C49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E937-36F2-443C-94F3-1753DCC4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F38B-B065-4FD0-A2D3-B12613E8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B92D-2E15-45AF-A640-D6489F15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18B-E706-4E44-AEBA-76C56AF9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AE73-A89A-4270-BB85-E562868F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1F3-592A-4AA0-9888-1B440B9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092-DC24-4063-8619-1318B1FD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D10-7C7D-4A84-A26F-F2FCDFDE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71E4-5CC9-429E-894B-645472744C0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8E39-D1C5-47FD-B0A3-B83A33DD28F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64BD-4E44-4007-9B53-17BE0BCA4A0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34342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3447-ACEC-463E-9B6C-B4A32506C6B7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7370-C2DE-4F8D-B9E5-B129C5A9C04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image" Target="../media/image8.png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ПОДРОСТКОВЫЙ ВОЗРАСТ. ПСИХОЛОГИЧЕСКИЕ ОСОБЕННОСТ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6" name="Picture 9" descr="30 а"/>
          <p:cNvPicPr/>
          <p:nvPr/>
        </p:nvPicPr>
        <p:blipFill>
          <a:blip r:embed="rId1"/>
          <a:stretch/>
        </p:blipFill>
        <p:spPr>
          <a:xfrm>
            <a:off x="468360" y="2063880"/>
            <a:ext cx="3816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64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ЧУВСТВО ВЗРОСЛОСТИ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  объективно не может включиться во взрослую жизнь, но стремиться к ней и претендует на равные со взрослыми права. Изменить он пока ничего не может, но внешне подражает взрослым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и появляются атрибут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псевдовзрослости"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рение сигарет, употребление алкоголя, наркотиков, тусовки, (внешнее проявление "я тоже имею свою личную жизнь"). Копирует любые взрослые отношения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7" name="Picture 5" descr="CALVIN2"/>
          <p:cNvPicPr/>
          <p:nvPr/>
        </p:nvPicPr>
        <p:blipFill>
          <a:blip r:embed="rId1"/>
          <a:stretch/>
        </p:blipFill>
        <p:spPr>
          <a:xfrm>
            <a:off x="127080" y="3573360"/>
            <a:ext cx="22842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-360" y="6120"/>
            <a:ext cx="7380360" cy="63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шний вид подростка - еще один источник конфликта. </a:t>
            </a: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ется походка, манеры, внешний облик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совсем недавно свободно, легко двигавшийся мальчик начинает ходить вразвалку, опустив руки глубоко в карманы и сплёвывая через плечо. У него появляются новые выражения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начинает ревностно сравнивать свою одежду и причёску с образцами, которые она видит на улице и обложках журналов, выплёскивая на маму эмоции по поводу имеющихся расхождений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9" name="Picture 6" descr="CALVIN3"/>
          <p:cNvPicPr/>
          <p:nvPr/>
        </p:nvPicPr>
        <p:blipFill>
          <a:blip r:embed="rId1"/>
          <a:stretch/>
        </p:blipFill>
        <p:spPr>
          <a:xfrm>
            <a:off x="6621480" y="6480"/>
            <a:ext cx="25448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Medium"/>
              </a:rPr>
              <a:t>ВНУТРЕННИЙ</a:t>
            </a:r>
            <a:r>
              <a:rPr b="1" i="1" lang="ru-RU" sz="4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Franklin Gothic Medium"/>
              </a:rPr>
              <a:t>КОНФЛИКТ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4822920" y="1413000"/>
            <a:ext cx="4319640" cy="2592360"/>
          </a:xfrm>
          <a:prstGeom prst="wedgeEllipseCallout">
            <a:avLst>
              <a:gd name="adj1" fmla="val -48273"/>
              <a:gd name="adj2" fmla="val 82763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 должен выглядеть как все в моей компании. Я не должен выделяться в класс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0" y="1628640"/>
            <a:ext cx="4427640" cy="2376720"/>
          </a:xfrm>
          <a:prstGeom prst="wedgeEllipseCallout">
            <a:avLst>
              <a:gd name="adj1" fmla="val 34078"/>
              <a:gd name="adj2" fmla="val 10103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 – это я. Я сам всё знаю! Я буду делать всё  так, как считаю нужны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AG00317_"/>
          <p:cNvPicPr/>
          <p:nvPr/>
        </p:nvPicPr>
        <p:blipFill>
          <a:blip r:embed="rId1"/>
          <a:stretch/>
        </p:blipFill>
        <p:spPr>
          <a:xfrm>
            <a:off x="3419640" y="4176720"/>
            <a:ext cx="20890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5214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Medium"/>
              </a:rPr>
              <a:t>БОРЬБА ПОДРОСТКА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148428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то, чтобы перестать быть ребенком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утверждение среди сверстников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прекращение посягательства на его физическое начало, неприкосновенность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тив замечаний, обсуждений по поводу его физической взрослост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6804000" y="115920"/>
            <a:ext cx="21556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ГЛАВНЫМ ДЛЯ ПОДРОСТКА СО СТОРОНЫ СЕМЬИ ЯВЛЯЕТСЯ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720" y="1268280"/>
            <a:ext cx="75200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68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верие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68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68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Рисунок 1" descr=""/>
          <p:cNvPicPr/>
          <p:nvPr/>
        </p:nvPicPr>
        <p:blipFill>
          <a:blip r:embed="rId1"/>
          <a:stretch/>
        </p:blipFill>
        <p:spPr>
          <a:xfrm>
            <a:off x="4932360" y="4605480"/>
            <a:ext cx="42116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ПРАВИЛА ДЛЯ РОДИТЕЛЕЙ ПОДРОСТКОВ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8280" y="981000"/>
            <a:ext cx="75214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ребенку найти компромисс души и тела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мечания делать в доброжелательном , спокойном тоне, без ярлыков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пока развивается тело ребенка, болит и ждет помощи его душа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гружайте ребенка опекой и контролем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уйте взаимное уважение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подростка. В отличие от награды поддержка нужна даже тогда, когда он не достигает успеха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йте мужество. Изменение в ребенке требуют практики и терпения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6659640" y="4508640"/>
            <a:ext cx="2484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439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  <a:ea typeface="Miriam"/>
              </a:rPr>
              <a:t>УСПЕХОВ ВАМ,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Monotype Corsiva"/>
                <a:ea typeface="Miriam"/>
              </a:rPr>
              <a:t>УВАЖАЕМЫЕ РОДИТЕЛИ!</a:t>
            </a:r>
            <a:endParaRPr b="0" lang="en-US" sz="6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10920" y="549000"/>
            <a:ext cx="7885080" cy="53276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unga"/>
              </a:rPr>
              <a:t>СТРУКТУРА ЛИЧНОСТИ ПОДРОСТКА…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unga"/>
              </a:rPr>
              <a:t>В НЕЙ НЕТ НИЧЕГО УСТОЙЧИВОГО, ОКОНЧАТЕЛЬНОГО И НЕПОДВИЖНОГО. ВСЕ В НЕЙ- ПЕРЕХОД, ВСЕ ТЕЧЕТ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unga"/>
              </a:rPr>
              <a:t>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ung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С.ВЫГОТСКИЙ)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987640" y="620640"/>
            <a:ext cx="569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Franklin Gothic Book"/>
              </a:rPr>
              <a:t>Из психологического словаря: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Franklin Gothic Book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Franklin Gothic Book"/>
              </a:rPr>
              <a:t>«Подростковый возраст 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— стадия онтогенетического развития между детством и взрослостью (от 11–12 до 16–17 лет), которая характеризуется качественными изменениями, связанными с половым созреванием и вхождением во взрослую жизнь». </a:t>
            </a: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9" name="Picture 4" descr="podrb.jpg"/>
          <p:cNvPicPr/>
          <p:nvPr/>
        </p:nvPicPr>
        <p:blipFill>
          <a:blip r:embed="rId1"/>
          <a:stretch/>
        </p:blipFill>
        <p:spPr>
          <a:xfrm>
            <a:off x="250920" y="260280"/>
            <a:ext cx="2466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Franklin Gothic Medium"/>
              </a:rPr>
              <a:t>КРИЗИС ПОДРОСТКОВОГО ВОЗРАСТА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2349360"/>
            <a:ext cx="75196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Кризис  13- 15 лет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чень часто сравнивают с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кризисом 3-х лет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, только направлен он не на освоение пространства и предметные действия, а на освоение социального пространства, пространства человеческих взаимоотношений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7236000" y="4005360"/>
            <a:ext cx="17478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Franklin Gothic Medium"/>
              </a:rPr>
              <a:t>ПОДРОСТКОВЫЙ КОМПЛЕКС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412640"/>
            <a:ext cx="8569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увствительность к оценке посторонних своей внешности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йняя самонадеянность и резкие суждения в отношении окружающих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тельность порой уживается с поразительной черствостью, болезненная застенчивость с развязностью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ая неустойчивость и резкие колебания настроения (пик эмоциональной неустойчивости – мальчики 11 – 13 лет, девочки 13 - 15 лет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ДЛЯ ПОДРОСТКОВ ХАРАКТЕРНА ПОЛЯРНОСТЬ ПСИХИКИ: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07920"/>
            <a:ext cx="77119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Franklin Gothic Book"/>
              </a:rPr>
              <a:t>Целеустремленность, на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быстро сменяется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импульсивностью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Развяз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в поведении порой сочетается с </a:t>
            </a:r>
            <a:r>
              <a:rPr b="1" lang="ru-RU" sz="3200" spc="-1" strike="noStrike">
                <a:solidFill>
                  <a:srgbClr val="008000"/>
                </a:solidFill>
                <a:latin typeface="Franklin Gothic Book"/>
              </a:rPr>
              <a:t>застенчивостью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;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Franklin Gothic Book"/>
              </a:rPr>
              <a:t>Романтические настроения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редко граничат с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цинизмом, расчетливостью;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Franklin Gothic Book"/>
              </a:rPr>
              <a:t>Нежность, ласко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бывают на фоне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недетской жестокости,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Неустойчивость интересов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7" name="Рисунок 1" descr=""/>
          <p:cNvPicPr/>
          <p:nvPr/>
        </p:nvPicPr>
        <p:blipFill>
          <a:blip r:embed="rId1"/>
          <a:srcRect l="0" t="0" r="0" b="5943"/>
          <a:stretch/>
        </p:blipFill>
        <p:spPr>
          <a:xfrm>
            <a:off x="6948360" y="3978360"/>
            <a:ext cx="2041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ПАРАДОКСЫ ПОДРОСТКОВОЙ ПСИХИК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росток хочет вырваться из-под опеки взрослых, получить свободу, при этом не зная, что с ней делать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есно все сразу и ничего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чется всего, сразу и если позже- «то вообще тогда зачем»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сей своей самоуверенности подросток очень неуверен в себе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5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Franklin Gothic Medium"/>
              </a:rPr>
              <a:t>СМЕНА НАСТРОЕНИЯ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45960" y="1434960"/>
            <a:ext cx="731376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Потребность в общении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сменяется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желанием уединиться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Нежность, ласковость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бывают на фоне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недетской жестокости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Веселье, радость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может  быстро смениться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апатией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Повышенная самоуверенность, безаппеляционность в суждениях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быстро сменяется </a:t>
            </a: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ранимостью и неуверенностью в себе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Романтические настроения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нередко граничат с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цинизмом, расчетливостью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Picture 4" descr="BOY7"/>
          <p:cNvPicPr/>
          <p:nvPr/>
        </p:nvPicPr>
        <p:blipFill>
          <a:blip r:embed="rId1"/>
          <a:stretch/>
        </p:blipFill>
        <p:spPr>
          <a:xfrm>
            <a:off x="255600" y="196920"/>
            <a:ext cx="1000080" cy="1224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BOY4"/>
          <p:cNvPicPr/>
          <p:nvPr/>
        </p:nvPicPr>
        <p:blipFill>
          <a:blip r:embed="rId2"/>
          <a:stretch/>
        </p:blipFill>
        <p:spPr>
          <a:xfrm>
            <a:off x="6969240" y="5445000"/>
            <a:ext cx="1245960" cy="1297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BOY6"/>
          <p:cNvPicPr/>
          <p:nvPr/>
        </p:nvPicPr>
        <p:blipFill>
          <a:blip r:embed="rId3"/>
          <a:stretch/>
        </p:blipFill>
        <p:spPr>
          <a:xfrm>
            <a:off x="7694640" y="174600"/>
            <a:ext cx="1041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4"/>
          <p:cNvSpPr/>
          <p:nvPr/>
        </p:nvSpPr>
        <p:spPr>
          <a:xfrm>
            <a:off x="1692360" y="189000"/>
            <a:ext cx="720072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603ab"/>
              </a:gs>
              <a:gs pos="50000">
                <a:srgbClr val="0066ff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ковы ощуще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дро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2050920" y="4581360"/>
            <a:ext cx="4824720" cy="1800360"/>
          </a:xfrm>
          <a:prstGeom prst="roundRect">
            <a:avLst>
              <a:gd name="adj" fmla="val 16667"/>
            </a:avLst>
          </a:prstGeom>
          <a:solidFill>
            <a:srgbClr val="fee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5f5f"/>
                </a:solidFill>
                <a:uFillTx/>
                <a:latin typeface="Verdana"/>
                <a:hlinkClick r:id="rId1" action="ppaction://hlinksldjump"/>
              </a:rPr>
              <a:t>Внутренн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5f5f"/>
                </a:solidFill>
                <a:uFillTx/>
                <a:latin typeface="Verdana"/>
                <a:hlinkClick r:id="rId2" action="ppaction://hlinksldjump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 – уникальная лич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 – такой же как и вс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179280" y="2205000"/>
            <a:ext cx="2952720" cy="2087640"/>
            <a:chOff x="179280" y="2205000"/>
            <a:chExt cx="2952720" cy="2087640"/>
          </a:xfrm>
        </p:grpSpPr>
        <p:sp>
          <p:nvSpPr>
            <p:cNvPr id="238" name="AutoShape 5"/>
            <p:cNvSpPr/>
            <p:nvPr/>
          </p:nvSpPr>
          <p:spPr>
            <a:xfrm>
              <a:off x="179280" y="2781360"/>
              <a:ext cx="2952720" cy="1511280"/>
            </a:xfrm>
            <a:prstGeom prst="roundRect">
              <a:avLst>
                <a:gd name="adj" fmla="val 16667"/>
              </a:avLst>
            </a:prstGeom>
            <a:solidFill>
              <a:srgbClr val="fee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5f5f5f"/>
                  </a:solidFill>
                  <a:uFillTx/>
                  <a:latin typeface="Verdana"/>
                  <a:hlinkClick r:id="rId3" action="ppaction://hlinksldjump"/>
                </a:rPr>
                <a:t>Чувство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5f5f5f"/>
                  </a:solidFill>
                  <a:uFillTx/>
                  <a:latin typeface="Verdana"/>
                  <a:hlinkClick r:id="rId4" action="ppaction://hlinksldjump"/>
                </a:rPr>
                <a:t>взрослости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Line 11"/>
            <p:cNvSpPr/>
            <p:nvPr/>
          </p:nvSpPr>
          <p:spPr>
            <a:xfrm flipH="1">
              <a:off x="1834920" y="2205000"/>
              <a:ext cx="21600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0" name="Group 15" descr=""/>
          <p:cNvPicPr/>
          <p:nvPr/>
        </p:nvPicPr>
        <p:blipFill>
          <a:blip r:embed="rId5"/>
          <a:stretch/>
        </p:blipFill>
        <p:spPr>
          <a:xfrm>
            <a:off x="6059520" y="2249640"/>
            <a:ext cx="2968560" cy="203652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26"/>
          <p:cNvGrpSpPr/>
          <p:nvPr/>
        </p:nvGrpSpPr>
        <p:grpSpPr>
          <a:xfrm>
            <a:off x="3276720" y="1700280"/>
            <a:ext cx="2590560" cy="2736720"/>
            <a:chOff x="3276720" y="1700280"/>
            <a:chExt cx="2590560" cy="2736720"/>
          </a:xfrm>
        </p:grpSpPr>
        <p:sp>
          <p:nvSpPr>
            <p:cNvPr id="242" name="AutoShape 21"/>
            <p:cNvSpPr/>
            <p:nvPr/>
          </p:nvSpPr>
          <p:spPr>
            <a:xfrm>
              <a:off x="3276720" y="2349360"/>
              <a:ext cx="259056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0033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5f5f5f"/>
                  </a:solidFill>
                  <a:uFillTx/>
                  <a:latin typeface="Verdana"/>
                  <a:hlinkClick r:id="rId6" action="ppaction://hlinksldjump"/>
                </a:rPr>
                <a:t>Быстрая</a:t>
              </a: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смена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5f5f5f"/>
                  </a:solidFill>
                  <a:uFillTx/>
                  <a:latin typeface="Verdana"/>
                  <a:hlinkClick r:id="rId7" action="ppaction://hlinksldjump"/>
                </a:rPr>
                <a:t>настроени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>
              <a:off x="4643280" y="1700280"/>
              <a:ext cx="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4" name="Рисунок 4" descr=""/>
          <p:cNvPicPr/>
          <p:nvPr/>
        </p:nvPicPr>
        <p:blipFill>
          <a:blip r:embed="rId8"/>
          <a:stretch/>
        </p:blipFill>
        <p:spPr>
          <a:xfrm>
            <a:off x="25560" y="0"/>
            <a:ext cx="18651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9:21:14Z</dcterms:created>
  <dc:creator>Admin</dc:creator>
  <dc:description/>
  <dc:language>en-US</dc:language>
  <cp:lastModifiedBy>lena</cp:lastModifiedBy>
  <dcterms:modified xsi:type="dcterms:W3CDTF">2012-12-23T08:37:50Z</dcterms:modified>
  <cp:revision>16</cp:revision>
  <dc:subject/>
  <dc:title>Подростковый возраст. Психологические особенности</dc:title>
</cp:coreProperties>
</file>