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D76D-14F9-4E60-A47E-7A5B3B62A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8941-88AD-4920-8D4F-D19C8F736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37CA-71CD-44AB-B3AB-EFCA9DC25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D800-B034-4D82-9C89-0CD872FBC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95F-8B6C-41B6-922F-824F1AA57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460A-3853-497E-843E-0648920AE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BB84-42CB-45EB-A7C4-7AF1E7C12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1EF-A9D1-44E6-905D-D9992A93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2B3-1961-41E8-B0D3-11C438EF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42E-A3F7-4C22-B231-18D4BFCB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9DF-7F3B-47F6-A82C-1AB5ED1E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517-1D01-4085-A0CA-D1E52771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95B-927B-499C-ABF0-63DBD36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D3C-7AC8-4506-9E38-7E9C2C76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F22-9EDE-42E5-A16B-2A59DB59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C57-12C6-4C58-94BB-92C1930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968-0A1E-4CBA-BE15-FEA880D8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79F-7525-4614-9517-CD89CD9C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71E-1F03-4BC4-8458-1CD8A095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B123-25C4-4301-AE30-1777894D8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ic.kanobu.ru/kanobu/modern/upload/images/2010/09/12/0ec3170a-c8cd-4d06-a34f-301d33a11e5f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diazavod.ru/system/pictures/images/000/043/675/1423966414/_.jpg?125741554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ta.worldsoul.ru/wp-content/uploads/2010/07/vitamin-A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ec3170a-c8cd-4d06-a34f-301d33a11e5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193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203640" y="2492280"/>
            <a:ext cx="276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оле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итам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8388360" y="602136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236000" y="208080"/>
            <a:ext cx="165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423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 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 rot="21313200">
            <a:off x="879120" y="5166360"/>
            <a:ext cx="7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3480" y="1484280"/>
            <a:ext cx="4340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ы группы _ улучшают пищевар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мен веществ, состояние кожи и зрение. Эти 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ся в молоке, кисломолочных продуктах, яйцах, мясе, оре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84280"/>
            <a:ext cx="3744720" cy="3816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>
            <a:hlinkClick r:id="" action="ppaction://hlinkshowjump?jump=nextslide"/>
          </p:cNvPr>
          <p:cNvSpPr/>
          <p:nvPr/>
        </p:nvSpPr>
        <p:spPr>
          <a:xfrm>
            <a:off x="8459640" y="5950080"/>
            <a:ext cx="466920" cy="576000"/>
          </a:xfrm>
          <a:custGeom>
            <a:avLst/>
            <a:gdLst>
              <a:gd name="textAreaLeft" fmla="*/ 30240 w 466920"/>
              <a:gd name="textAreaRight" fmla="*/ 436680 w 46692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642">
                <a:moveTo>
                  <a:pt x="0" y="0"/>
                </a:moveTo>
                <a:lnTo>
                  <a:pt x="21600" y="0"/>
                </a:lnTo>
                <a:lnTo>
                  <a:pt x="21600" y="26642"/>
                </a:lnTo>
                <a:lnTo>
                  <a:pt x="0" y="26642"/>
                </a:lnTo>
                <a:close/>
              </a:path>
              <a:path fill="lightenLess" w="21600" h="26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42">
                <a:moveTo>
                  <a:pt x="21600" y="0"/>
                </a:moveTo>
                <a:lnTo>
                  <a:pt x="21600" y="26642"/>
                </a:lnTo>
                <a:lnTo>
                  <a:pt x="20200" y="25242"/>
                </a:lnTo>
                <a:lnTo>
                  <a:pt x="20200" y="1400"/>
                </a:lnTo>
                <a:close/>
              </a:path>
              <a:path fill="darkenLess" w="21600" h="26642">
                <a:moveTo>
                  <a:pt x="21600" y="26642"/>
                </a:moveTo>
                <a:lnTo>
                  <a:pt x="0" y="26642"/>
                </a:lnTo>
                <a:lnTo>
                  <a:pt x="1400" y="25242"/>
                </a:lnTo>
                <a:lnTo>
                  <a:pt x="20200" y="25242"/>
                </a:lnTo>
                <a:close/>
              </a:path>
              <a:path fill="lighten" w="21600" h="26642">
                <a:moveTo>
                  <a:pt x="0" y="26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42"/>
                </a:lnTo>
                <a:close/>
              </a:path>
              <a:path fill="darken" w="21600" h="26642">
                <a:moveTo>
                  <a:pt x="3794" y="6315"/>
                </a:moveTo>
                <a:lnTo>
                  <a:pt x="17806" y="13321"/>
                </a:lnTo>
                <a:lnTo>
                  <a:pt x="3794" y="203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435400" y="555768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24360" y="5877000"/>
            <a:ext cx="5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580000" y="573408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948360" y="59500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8360" y="4237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 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-8029440" y="2997360"/>
            <a:ext cx="878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94360" y="1668600"/>
            <a:ext cx="435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епляет защи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ы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ся во фрукт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од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жих овощ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vitamin-c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>
            <a:hlinkClick r:id="" action="ppaction://hlinkshowjump?jump=nextslide"/>
          </p:cNvPr>
          <p:cNvSpPr/>
          <p:nvPr/>
        </p:nvSpPr>
        <p:spPr>
          <a:xfrm>
            <a:off x="8388360" y="602136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81620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11280" y="522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023920" y="6022800"/>
            <a:ext cx="368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780000" y="5373720"/>
            <a:ext cx="514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914000" y="598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659640" y="5553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68360" y="4237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 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849840" y="598644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1812960"/>
            <a:ext cx="47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у, развитию организ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 з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 богаты яй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очное и раст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, мол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2 из 276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73360"/>
            <a:ext cx="3456000" cy="37605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6">
            <a:hlinkClick r:id="" action="ppaction://hlinkshowjump?jump=nextslide"/>
          </p:cNvPr>
          <p:cNvSpPr/>
          <p:nvPr/>
        </p:nvSpPr>
        <p:spPr>
          <a:xfrm>
            <a:off x="8388360" y="602136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86520" y="573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 flipH="1" flipV="1">
            <a:off x="2933640" y="361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012000" y="580536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124000" y="5445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3278160" y="48132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11280" y="423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 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77080" y="5013360"/>
            <a:ext cx="100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68360" y="1989000"/>
            <a:ext cx="47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репляет кости, поддерживает хорошее самочув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лучать этот продукт, нужно есть сливочное мас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, яйца, ры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Картинка 1 из 25113"/>
          <p:cNvPicPr/>
          <p:nvPr/>
        </p:nvPicPr>
        <p:blipFill>
          <a:blip r:embed="rId1"/>
          <a:stretch/>
        </p:blipFill>
        <p:spPr>
          <a:xfrm>
            <a:off x="4427640" y="1484280"/>
            <a:ext cx="450036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166760" y="566100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887560" y="5251320"/>
            <a:ext cx="368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479840" y="573408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922000" y="5194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79280" y="423720"/>
            <a:ext cx="914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9640" y="227664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  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 обмен веществ в организ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содержится в растительном масле, орехах, хл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51493709_131113"/>
          <p:cNvPicPr/>
          <p:nvPr/>
        </p:nvPicPr>
        <p:blipFill>
          <a:blip r:embed="rId1"/>
          <a:stretch/>
        </p:blipFill>
        <p:spPr>
          <a:xfrm>
            <a:off x="4440240" y="0"/>
            <a:ext cx="4703760" cy="47973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606920" y="51004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340000" y="5734080"/>
            <a:ext cx="5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895560" y="5965920"/>
            <a:ext cx="368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582160" y="5661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020000" y="5300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Wervelwind</cp:lastModifiedBy>
  <dcterms:modified xsi:type="dcterms:W3CDTF">2012-12-22T23:19:31Z</dcterms:modified>
  <cp:revision>43</cp:revision>
  <dc:subject/>
  <dc:title>Слайд 1</dc:title>
</cp:coreProperties>
</file>