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EC74-AE90-4E20-BC33-0D68811D59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D2B4-A8BC-48C6-9EE6-CE9C6F3ACD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9F94-518B-44D9-A39E-408B79B13C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C502-5514-4720-8CEC-22ABB051A8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3AB5-77F0-4BD2-99B0-6EED198561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AC6A-C3FC-4C6F-B2C7-52BA611672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228E-FF6F-41E0-870E-66D209AD62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CFBC-184A-4030-8FEF-17C9AAEE2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D565-4E3B-4238-B1F0-0601DE88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A485-1577-4893-B140-E227BCD6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003C-1FD0-4039-8819-230197AB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69BF-9617-431F-AD73-32298C17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3F05-D775-4625-84FA-8A2449BF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14A2-4192-4B3A-A127-7F393153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44E4-010A-4420-A799-365E9C64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2BCB-0C24-4359-AD19-3896B127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78C8-7B7A-478E-BF86-591F95F3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DB0E-3BD2-4FC3-9BCD-AC717904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1DFE-DAC3-452A-8E26-EC704C47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620B-E622-41D9-A996-854457C6F2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tatic.kanobu.ru/kanobu/modern/upload/images/2010/09/12/0ec3170a-c8cd-4d06-a34f-301d33a11e5f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ediazavod.ru/system/pictures/images/000/043/675/1423966414/_.jpg?125741554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vita.worldsoul.ru/wp-content/uploads/2010/07/vitamin-Aa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ec3170a-c8cd-4d06-a34f-301d33a11e5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0280"/>
            <a:ext cx="9144000" cy="6193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3203640" y="2492280"/>
            <a:ext cx="276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олез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витами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>
            <a:hlinkClick r:id="" action="ppaction://hlinkshowjump?jump=nextslide"/>
          </p:cNvPr>
          <p:cNvSpPr/>
          <p:nvPr/>
        </p:nvSpPr>
        <p:spPr>
          <a:xfrm>
            <a:off x="8388360" y="6021360"/>
            <a:ext cx="466560" cy="57636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679">
                <a:moveTo>
                  <a:pt x="0" y="0"/>
                </a:moveTo>
                <a:lnTo>
                  <a:pt x="21600" y="0"/>
                </a:lnTo>
                <a:lnTo>
                  <a:pt x="21600" y="26679"/>
                </a:lnTo>
                <a:lnTo>
                  <a:pt x="0" y="26679"/>
                </a:lnTo>
                <a:close/>
              </a:path>
              <a:path fill="lightenLess" w="21600" h="266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9">
                <a:moveTo>
                  <a:pt x="21600" y="0"/>
                </a:moveTo>
                <a:lnTo>
                  <a:pt x="21600" y="26679"/>
                </a:lnTo>
                <a:lnTo>
                  <a:pt x="20200" y="25279"/>
                </a:lnTo>
                <a:lnTo>
                  <a:pt x="20200" y="1400"/>
                </a:lnTo>
                <a:close/>
              </a:path>
              <a:path fill="darkenLess" w="21600" h="26679">
                <a:moveTo>
                  <a:pt x="21600" y="26679"/>
                </a:moveTo>
                <a:lnTo>
                  <a:pt x="0" y="26679"/>
                </a:lnTo>
                <a:lnTo>
                  <a:pt x="1400" y="25279"/>
                </a:lnTo>
                <a:lnTo>
                  <a:pt x="20200" y="25279"/>
                </a:lnTo>
                <a:close/>
              </a:path>
              <a:path fill="lighten" w="21600" h="26679">
                <a:moveTo>
                  <a:pt x="0" y="266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9"/>
                </a:lnTo>
                <a:close/>
              </a:path>
              <a:path fill="darken" w="21600" h="26679">
                <a:moveTo>
                  <a:pt x="3794" y="6333"/>
                </a:moveTo>
                <a:lnTo>
                  <a:pt x="17806" y="13340"/>
                </a:lnTo>
                <a:lnTo>
                  <a:pt x="3794" y="2034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7236000" y="208080"/>
            <a:ext cx="1657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611280" y="42372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Заполните пропуски в тек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аименованием витами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 rot="21313200">
            <a:off x="879120" y="5166360"/>
            <a:ext cx="79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А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63480" y="1484280"/>
            <a:ext cx="4340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тамины группы _ улучшают пищевар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мен веществ, состояние кожи и зрение. Эти витам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тся в молоке, кисломолочных продуктах, яйцах, мясе, орех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1484280"/>
            <a:ext cx="3744720" cy="381636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6">
            <a:hlinkClick r:id="" action="ppaction://hlinkshowjump?jump=nextslide"/>
          </p:cNvPr>
          <p:cNvSpPr/>
          <p:nvPr/>
        </p:nvSpPr>
        <p:spPr>
          <a:xfrm>
            <a:off x="8459640" y="5950080"/>
            <a:ext cx="466920" cy="576000"/>
          </a:xfrm>
          <a:custGeom>
            <a:avLst/>
            <a:gdLst>
              <a:gd name="textAreaLeft" fmla="*/ 30240 w 466920"/>
              <a:gd name="textAreaRight" fmla="*/ 436680 w 466920"/>
              <a:gd name="textAreaTop" fmla="*/ 30240 h 576000"/>
              <a:gd name="textAreaBottom" fmla="*/ 545760 h 576000"/>
            </a:gdLst>
            <a:ahLst/>
            <a:rect l="textAreaLeft" t="textAreaTop" r="textAreaRight" b="textAreaBottom"/>
            <a:pathLst>
              <a:path w="21600" h="26642">
                <a:moveTo>
                  <a:pt x="0" y="0"/>
                </a:moveTo>
                <a:lnTo>
                  <a:pt x="21600" y="0"/>
                </a:lnTo>
                <a:lnTo>
                  <a:pt x="21600" y="26642"/>
                </a:lnTo>
                <a:lnTo>
                  <a:pt x="0" y="26642"/>
                </a:lnTo>
                <a:close/>
              </a:path>
              <a:path fill="lightenLess" w="21600" h="266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42">
                <a:moveTo>
                  <a:pt x="21600" y="0"/>
                </a:moveTo>
                <a:lnTo>
                  <a:pt x="21600" y="26642"/>
                </a:lnTo>
                <a:lnTo>
                  <a:pt x="20200" y="25242"/>
                </a:lnTo>
                <a:lnTo>
                  <a:pt x="20200" y="1400"/>
                </a:lnTo>
                <a:close/>
              </a:path>
              <a:path fill="darkenLess" w="21600" h="26642">
                <a:moveTo>
                  <a:pt x="21600" y="26642"/>
                </a:moveTo>
                <a:lnTo>
                  <a:pt x="0" y="26642"/>
                </a:lnTo>
                <a:lnTo>
                  <a:pt x="1400" y="25242"/>
                </a:lnTo>
                <a:lnTo>
                  <a:pt x="20200" y="25242"/>
                </a:lnTo>
                <a:close/>
              </a:path>
              <a:path fill="lighten" w="21600" h="26642">
                <a:moveTo>
                  <a:pt x="0" y="266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42"/>
                </a:lnTo>
                <a:close/>
              </a:path>
              <a:path fill="darken" w="21600" h="26642">
                <a:moveTo>
                  <a:pt x="3794" y="6315"/>
                </a:moveTo>
                <a:lnTo>
                  <a:pt x="17806" y="13321"/>
                </a:lnTo>
                <a:lnTo>
                  <a:pt x="3794" y="203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435400" y="5557680"/>
            <a:ext cx="5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924360" y="5877000"/>
            <a:ext cx="50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5580000" y="5734080"/>
            <a:ext cx="55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948360" y="59500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468360" y="42372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Заполните пропуски в тек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аименованием витами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-8029440" y="2997360"/>
            <a:ext cx="878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94360" y="1668600"/>
            <a:ext cx="4354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тамин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репляет защит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ы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ится во фрукт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год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ежих овоща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л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vitamin-c"/>
          <p:cNvPicPr/>
          <p:nvPr/>
        </p:nvPicPr>
        <p:blipFill>
          <a:blip r:embed="rId1"/>
          <a:stretch/>
        </p:blipFill>
        <p:spPr>
          <a:xfrm>
            <a:off x="4932360" y="162864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6">
            <a:hlinkClick r:id="" action="ppaction://hlinkshowjump?jump=nextslide"/>
          </p:cNvPr>
          <p:cNvSpPr/>
          <p:nvPr/>
        </p:nvSpPr>
        <p:spPr>
          <a:xfrm>
            <a:off x="8388360" y="6021360"/>
            <a:ext cx="466560" cy="57636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679">
                <a:moveTo>
                  <a:pt x="0" y="0"/>
                </a:moveTo>
                <a:lnTo>
                  <a:pt x="21600" y="0"/>
                </a:lnTo>
                <a:lnTo>
                  <a:pt x="21600" y="26679"/>
                </a:lnTo>
                <a:lnTo>
                  <a:pt x="0" y="26679"/>
                </a:lnTo>
                <a:close/>
              </a:path>
              <a:path fill="lightenLess" w="21600" h="266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9">
                <a:moveTo>
                  <a:pt x="21600" y="0"/>
                </a:moveTo>
                <a:lnTo>
                  <a:pt x="21600" y="26679"/>
                </a:lnTo>
                <a:lnTo>
                  <a:pt x="20200" y="25279"/>
                </a:lnTo>
                <a:lnTo>
                  <a:pt x="20200" y="1400"/>
                </a:lnTo>
                <a:close/>
              </a:path>
              <a:path fill="darkenLess" w="21600" h="26679">
                <a:moveTo>
                  <a:pt x="21600" y="26679"/>
                </a:moveTo>
                <a:lnTo>
                  <a:pt x="0" y="26679"/>
                </a:lnTo>
                <a:lnTo>
                  <a:pt x="1400" y="25279"/>
                </a:lnTo>
                <a:lnTo>
                  <a:pt x="20200" y="25279"/>
                </a:lnTo>
                <a:close/>
              </a:path>
              <a:path fill="lighten" w="21600" h="26679">
                <a:moveTo>
                  <a:pt x="0" y="266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9"/>
                </a:lnTo>
                <a:close/>
              </a:path>
              <a:path fill="darken" w="21600" h="26679">
                <a:moveTo>
                  <a:pt x="3794" y="6333"/>
                </a:moveTo>
                <a:lnTo>
                  <a:pt x="17806" y="13340"/>
                </a:lnTo>
                <a:lnTo>
                  <a:pt x="3794" y="2034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1816200" y="596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611280" y="5229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2023920" y="6022800"/>
            <a:ext cx="3682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3780000" y="5373720"/>
            <a:ext cx="514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4914000" y="5985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6659640" y="555300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468360" y="42372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Заполните пропуски в тек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аименованием витами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849840" y="5986440"/>
            <a:ext cx="57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468360" y="1812960"/>
            <a:ext cx="475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тами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ству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ту, развитию организ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ает з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 богаты яйц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очное и раст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ло, моло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Картинка 2 из 276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773360"/>
            <a:ext cx="3456000" cy="376056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6">
            <a:hlinkClick r:id="" action="ppaction://hlinkshowjump?jump=nextslide"/>
          </p:cNvPr>
          <p:cNvSpPr/>
          <p:nvPr/>
        </p:nvSpPr>
        <p:spPr>
          <a:xfrm>
            <a:off x="8388360" y="6021360"/>
            <a:ext cx="466560" cy="57636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679">
                <a:moveTo>
                  <a:pt x="0" y="0"/>
                </a:moveTo>
                <a:lnTo>
                  <a:pt x="21600" y="0"/>
                </a:lnTo>
                <a:lnTo>
                  <a:pt x="21600" y="26679"/>
                </a:lnTo>
                <a:lnTo>
                  <a:pt x="0" y="26679"/>
                </a:lnTo>
                <a:close/>
              </a:path>
              <a:path fill="lightenLess" w="21600" h="266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9">
                <a:moveTo>
                  <a:pt x="21600" y="0"/>
                </a:moveTo>
                <a:lnTo>
                  <a:pt x="21600" y="26679"/>
                </a:lnTo>
                <a:lnTo>
                  <a:pt x="20200" y="25279"/>
                </a:lnTo>
                <a:lnTo>
                  <a:pt x="20200" y="1400"/>
                </a:lnTo>
                <a:close/>
              </a:path>
              <a:path fill="darkenLess" w="21600" h="26679">
                <a:moveTo>
                  <a:pt x="21600" y="26679"/>
                </a:moveTo>
                <a:lnTo>
                  <a:pt x="0" y="26679"/>
                </a:lnTo>
                <a:lnTo>
                  <a:pt x="1400" y="25279"/>
                </a:lnTo>
                <a:lnTo>
                  <a:pt x="20200" y="25279"/>
                </a:lnTo>
                <a:close/>
              </a:path>
              <a:path fill="lighten" w="21600" h="26679">
                <a:moveTo>
                  <a:pt x="0" y="266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9"/>
                </a:lnTo>
                <a:close/>
              </a:path>
              <a:path fill="darken" w="21600" h="26679">
                <a:moveTo>
                  <a:pt x="3794" y="6333"/>
                </a:moveTo>
                <a:lnTo>
                  <a:pt x="17806" y="13340"/>
                </a:lnTo>
                <a:lnTo>
                  <a:pt x="3794" y="2034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686520" y="57340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 flipH="1" flipV="1">
            <a:off x="2933640" y="361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6012000" y="580536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2124000" y="544500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2"/>
          <p:cNvSpPr/>
          <p:nvPr/>
        </p:nvSpPr>
        <p:spPr>
          <a:xfrm>
            <a:off x="3278160" y="48132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11280" y="42372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Заполните пропуски в тек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аименованием витами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877080" y="5013360"/>
            <a:ext cx="100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68360" y="1989000"/>
            <a:ext cx="475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тами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крепляет кости, поддерживает хорошее самочувств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получать этот продукт, нужно есть сливочное масл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, яйца, ры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Картинка 1 из 25113"/>
          <p:cNvPicPr/>
          <p:nvPr/>
        </p:nvPicPr>
        <p:blipFill>
          <a:blip r:embed="rId1"/>
          <a:stretch/>
        </p:blipFill>
        <p:spPr>
          <a:xfrm>
            <a:off x="4427640" y="1484280"/>
            <a:ext cx="4500360" cy="38163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>
            <a:hlinkClick r:id="" action="ppaction://hlinkshowjump?jump=nextslide"/>
          </p:cNvPr>
          <p:cNvSpPr/>
          <p:nvPr/>
        </p:nvSpPr>
        <p:spPr>
          <a:xfrm>
            <a:off x="8244000" y="5877000"/>
            <a:ext cx="466560" cy="57636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679">
                <a:moveTo>
                  <a:pt x="0" y="0"/>
                </a:moveTo>
                <a:lnTo>
                  <a:pt x="21600" y="0"/>
                </a:lnTo>
                <a:lnTo>
                  <a:pt x="21600" y="26679"/>
                </a:lnTo>
                <a:lnTo>
                  <a:pt x="0" y="26679"/>
                </a:lnTo>
                <a:close/>
              </a:path>
              <a:path fill="lightenLess" w="21600" h="266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9">
                <a:moveTo>
                  <a:pt x="21600" y="0"/>
                </a:moveTo>
                <a:lnTo>
                  <a:pt x="21600" y="26679"/>
                </a:lnTo>
                <a:lnTo>
                  <a:pt x="20200" y="25279"/>
                </a:lnTo>
                <a:lnTo>
                  <a:pt x="20200" y="1400"/>
                </a:lnTo>
                <a:close/>
              </a:path>
              <a:path fill="darkenLess" w="21600" h="26679">
                <a:moveTo>
                  <a:pt x="21600" y="26679"/>
                </a:moveTo>
                <a:lnTo>
                  <a:pt x="0" y="26679"/>
                </a:lnTo>
                <a:lnTo>
                  <a:pt x="1400" y="25279"/>
                </a:lnTo>
                <a:lnTo>
                  <a:pt x="20200" y="25279"/>
                </a:lnTo>
                <a:close/>
              </a:path>
              <a:path fill="lighten" w="21600" h="26679">
                <a:moveTo>
                  <a:pt x="0" y="266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9"/>
                </a:lnTo>
                <a:close/>
              </a:path>
              <a:path fill="darken" w="21600" h="26679">
                <a:moveTo>
                  <a:pt x="3794" y="6333"/>
                </a:moveTo>
                <a:lnTo>
                  <a:pt x="17806" y="13340"/>
                </a:lnTo>
                <a:lnTo>
                  <a:pt x="3794" y="2034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166760" y="5661000"/>
            <a:ext cx="55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2887560" y="5251320"/>
            <a:ext cx="3682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4479840" y="5734080"/>
            <a:ext cx="55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5922000" y="51944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79280" y="423720"/>
            <a:ext cx="914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Заполните пропу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в тек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аименован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витами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39640" y="2276640"/>
            <a:ext cx="36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тамин  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ает обмен веществ в организ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содержится в растительном масле, орехах, хл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51493709_131113"/>
          <p:cNvPicPr/>
          <p:nvPr/>
        </p:nvPicPr>
        <p:blipFill>
          <a:blip r:embed="rId1"/>
          <a:stretch/>
        </p:blipFill>
        <p:spPr>
          <a:xfrm>
            <a:off x="4440240" y="0"/>
            <a:ext cx="4703760" cy="479736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6">
            <a:hlinkClick r:id="" action="ppaction://hlinkshowjump?jump=nextslide"/>
          </p:cNvPr>
          <p:cNvSpPr/>
          <p:nvPr/>
        </p:nvSpPr>
        <p:spPr>
          <a:xfrm>
            <a:off x="8244000" y="5877000"/>
            <a:ext cx="466560" cy="57636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76360"/>
              <a:gd name="textAreaBottom" fmla="*/ 546120 h 576360"/>
            </a:gdLst>
            <a:ahLst/>
            <a:rect l="textAreaLeft" t="textAreaTop" r="textAreaRight" b="textAreaBottom"/>
            <a:pathLst>
              <a:path w="21600" h="26679">
                <a:moveTo>
                  <a:pt x="0" y="0"/>
                </a:moveTo>
                <a:lnTo>
                  <a:pt x="21600" y="0"/>
                </a:lnTo>
                <a:lnTo>
                  <a:pt x="21600" y="26679"/>
                </a:lnTo>
                <a:lnTo>
                  <a:pt x="0" y="26679"/>
                </a:lnTo>
                <a:close/>
              </a:path>
              <a:path fill="lightenLess" w="21600" h="266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9">
                <a:moveTo>
                  <a:pt x="21600" y="0"/>
                </a:moveTo>
                <a:lnTo>
                  <a:pt x="21600" y="26679"/>
                </a:lnTo>
                <a:lnTo>
                  <a:pt x="20200" y="25279"/>
                </a:lnTo>
                <a:lnTo>
                  <a:pt x="20200" y="1400"/>
                </a:lnTo>
                <a:close/>
              </a:path>
              <a:path fill="darkenLess" w="21600" h="26679">
                <a:moveTo>
                  <a:pt x="21600" y="26679"/>
                </a:moveTo>
                <a:lnTo>
                  <a:pt x="0" y="26679"/>
                </a:lnTo>
                <a:lnTo>
                  <a:pt x="1400" y="25279"/>
                </a:lnTo>
                <a:lnTo>
                  <a:pt x="20200" y="25279"/>
                </a:lnTo>
                <a:close/>
              </a:path>
              <a:path fill="lighten" w="21600" h="26679">
                <a:moveTo>
                  <a:pt x="0" y="266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9"/>
                </a:lnTo>
                <a:close/>
              </a:path>
              <a:path fill="darken" w="21600" h="26679">
                <a:moveTo>
                  <a:pt x="3794" y="6333"/>
                </a:moveTo>
                <a:lnTo>
                  <a:pt x="17806" y="13340"/>
                </a:lnTo>
                <a:lnTo>
                  <a:pt x="3794" y="2034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606920" y="510048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340000" y="5734080"/>
            <a:ext cx="59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3895560" y="5965920"/>
            <a:ext cx="368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582160" y="5661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7020000" y="530064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Wervelwind</cp:lastModifiedBy>
  <dcterms:modified xsi:type="dcterms:W3CDTF">2012-12-22T23:19:31Z</dcterms:modified>
  <cp:revision>43</cp:revision>
  <dc:subject/>
  <dc:title>Слайд 1</dc:title>
</cp:coreProperties>
</file>