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EC26-C250-4248-9574-9AA36F2F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A86C-3FB7-40B6-A707-B4505F03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943A-1418-4B30-B51C-64450370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9135-7B0D-4DCE-BDFB-EB192C9D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0704-F464-440C-B115-F00CF679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36B1-B3C6-49B0-8D0A-B0F0200E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B2C3-AA76-4D63-B746-7C119165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95FB-D319-403A-9426-2CDFB8B5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A941-E06E-434B-BED9-E9B67FDD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45AD-5DFF-4E7F-8BDF-FCAE27CC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C2F6-FFAD-498B-88A8-80845CF7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CA6-B2B7-42AA-9717-7EC0F7EE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FF7A-CEDA-4758-8A2B-16938432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931C-32A4-46D4-97F5-13EE0333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2D39-C380-43BA-AAE5-93E44802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404E-2059-470B-8321-B0E57B5D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57A9-4DA1-4985-B951-83B83FDB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849A-90E5-40D1-B43E-F6EE63C3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EF50-99B8-454D-942C-B87D7576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97C0-BC59-465C-8194-47BFB5A3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E934-D2E5-41E5-A6AC-F4B74807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A740-CA2F-4667-B4C6-95277D2A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5EFE-BFBA-41E7-AB10-4814AD96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194A-10AD-4DE7-8472-842F3916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4664-C5F3-49A1-809F-E8A4E409E3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A8DC-2650-4B75-9116-ECCA49FD6F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5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Я – за здоровый образ жизни.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23880" y="46483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: ученица 4 класса А МБОУ многопрофиль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цея №20 г. Ульянов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рева Ю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sport010"/>
          <p:cNvPicPr/>
          <p:nvPr/>
        </p:nvPicPr>
        <p:blipFill>
          <a:blip r:embed="rId1"/>
          <a:stretch/>
        </p:blipFill>
        <p:spPr>
          <a:xfrm>
            <a:off x="2590920" y="1752480"/>
            <a:ext cx="3695760" cy="27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-360" y="1676520"/>
            <a:ext cx="48769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нце, воздух и во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и лучшие друзь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 это знакомо с детств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гадались что за день сейчас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ь здоровья вот у нас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сегодня всех поздравим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роенье вам подарим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здоровье будет крепким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пкими чтобы были нерв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bigChildren_Day_vector_wallpaper_0168013a"/>
          <p:cNvPicPr/>
          <p:nvPr/>
        </p:nvPicPr>
        <p:blipFill>
          <a:blip r:embed="rId1"/>
          <a:stretch/>
        </p:blipFill>
        <p:spPr>
          <a:xfrm>
            <a:off x="4952880" y="1752480"/>
            <a:ext cx="3829320" cy="31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449568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ь спортивным и здоровым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ртивным быть теперь вновь модно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  спортом много ты поймёшь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рт – и здоровье без таблето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рт – и веселье без забо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друзьями спортом заниматьс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ь, реально круглый год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оз – коньки ты одеваеш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ем  на лыжи уж встаёшь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робуй делать каждый д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ядку утром! Будет л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ачале, но привыкнешь скоро…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оровым станешь – это клёв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sport015"/>
          <p:cNvPicPr/>
          <p:nvPr/>
        </p:nvPicPr>
        <p:blipFill>
          <a:blip r:embed="rId1"/>
          <a:stretch/>
        </p:blipFill>
        <p:spPr>
          <a:xfrm>
            <a:off x="4648320" y="1905120"/>
            <a:ext cx="4114800" cy="36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sport013"/>
          <p:cNvPicPr/>
          <p:nvPr/>
        </p:nvPicPr>
        <p:blipFill>
          <a:blip r:embed="rId1"/>
          <a:stretch/>
        </p:blipFill>
        <p:spPr>
          <a:xfrm>
            <a:off x="5029200" y="1676520"/>
            <a:ext cx="3933720" cy="3467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687960" y="1981800"/>
            <a:ext cx="3257640" cy="30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дион плюс все фанат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ажают вс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утбо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ег идет, а люди прутс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 конечно на футбол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команда ваша сильн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глупы и игрок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 лишь тактика бессиль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бивать сейчас гол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futbol_001"/>
          <p:cNvPicPr/>
          <p:nvPr/>
        </p:nvPicPr>
        <p:blipFill>
          <a:blip r:embed="rId2"/>
          <a:stretch/>
        </p:blipFill>
        <p:spPr>
          <a:xfrm>
            <a:off x="3200400" y="4419720"/>
            <a:ext cx="523800" cy="52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1449000"/>
            <a:ext cx="4230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с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й гимн бассейну и вод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й удивительной сред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лещет, бьётся под рукам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дит кожу, точит камен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 тело делает стройне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же, легче, вес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любит плавать, тем не новость —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ыжок, восторг и невесомост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чок ногами и скольжень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 облегчается движень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 годы прочь, и с плеч доло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ходят, смытые в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19062012153"/>
          <p:cNvPicPr/>
          <p:nvPr/>
        </p:nvPicPr>
        <p:blipFill>
          <a:blip r:embed="rId1"/>
          <a:stretch/>
        </p:blipFill>
        <p:spPr>
          <a:xfrm>
            <a:off x="4114800" y="1523880"/>
            <a:ext cx="480060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-457200" y="1448640"/>
            <a:ext cx="4419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таясь на коньк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льду скользила ф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нежинки, тихо ре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ждались в обла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лись – и скор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юда, скорей, ско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мира снежных ф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земной скользящей ф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DSC01678"/>
          <p:cNvPicPr/>
          <p:nvPr/>
        </p:nvPicPr>
        <p:blipFill>
          <a:blip r:embed="rId1"/>
          <a:stretch/>
        </p:blipFill>
        <p:spPr>
          <a:xfrm>
            <a:off x="4191120" y="1600200"/>
            <a:ext cx="4495680" cy="32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P1010233"/>
          <p:cNvPicPr/>
          <p:nvPr/>
        </p:nvPicPr>
        <p:blipFill>
          <a:blip r:embed="rId1"/>
          <a:stretch/>
        </p:blipFill>
        <p:spPr>
          <a:xfrm>
            <a:off x="4267080" y="167652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360" y="1829520"/>
            <a:ext cx="4048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ле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пошли по ягоды в дальний лес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имо-невидимо там чудес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видали рыжего муравь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стречали белочку у ручь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ыскали беленький мы грибо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ли бережно в кузово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, а спелой ягоды и не счесть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домой воротимся, станем ес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в лесу гуляли бы до утр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уж вечер близится – спать п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доровый образ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оровый образ жизн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оровый образ жизни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езен он для все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оровый образ жизни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ача и успе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оровый образ жизни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 мной ты навсег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оровый образ жизни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я это судьб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оровый образ жизн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ь у всех в крови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оровый образ жизни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ром поднялся и бег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оровый образ жизни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жий воздух вдох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оровый образ жизни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астливым будешь т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sport014"/>
          <p:cNvPicPr/>
          <p:nvPr/>
        </p:nvPicPr>
        <p:blipFill>
          <a:blip r:embed="rId1"/>
          <a:stretch/>
        </p:blipFill>
        <p:spPr>
          <a:xfrm>
            <a:off x="3962520" y="2057400"/>
            <a:ext cx="4400280" cy="335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2-12-21T05:54:5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