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E08-18DD-4819-B671-6FFFF74F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04D-6DCB-4CCC-9775-1E750F9E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B81-CD44-4B39-9845-422A4165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A8A-39B4-4193-80E2-253967F4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93BC-EB2E-40C1-BF91-ECEEACFB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43E4-CD0F-488C-AFD0-6C8B0E26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5B4E-D2D8-4D68-BD74-B4375888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33F5-9AB8-45FC-BE09-8388D542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2722-05D2-4D66-AF01-FBB31AE4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304A-8450-4086-8E9D-B004DD01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4A4F-7259-4B78-A1AC-969F723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066-07D6-4A0E-A0BE-7C5EE572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2091-D0E6-4B93-BC40-5A34377E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9DFB-AEF9-44A8-9918-D9DE337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F007-19C7-4C7C-A7F8-3418B87B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27CF-CDD1-4857-9AC5-8F09E104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E081-CF0B-44D9-A64C-9D1701EA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4B3-17CE-4B7E-9102-DBE5250F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2D3-10B0-4B31-9A5D-9202B848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804-313F-4A82-BB28-617C603E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BD6-C4EB-4C1C-B5BA-4511B88B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538-2A23-4BCD-810B-BA18B9C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771-B0D1-4D10-8119-803C9072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75D-91D2-4054-99F9-E1AA0DE5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A86-60C5-4946-B1B4-E55F688642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7264-A3D1-40F5-9363-1A3C83DFC4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Я – за здоровый образ жизни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4648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ученица 4 класса А МБОУ многопрофи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я №20 г. Ульянов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е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sport010"/>
          <p:cNvPicPr/>
          <p:nvPr/>
        </p:nvPicPr>
        <p:blipFill>
          <a:blip r:embed="rId1"/>
          <a:stretch/>
        </p:blipFill>
        <p:spPr>
          <a:xfrm>
            <a:off x="2590920" y="1752480"/>
            <a:ext cx="369576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1676520"/>
            <a:ext cx="48769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, воздух и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и лучшие друзь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это знакомо с дет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ались что за день сейчас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 здоровья вот у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егодня всех поздрави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енье вам подарим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здоровье будет крепки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кими чтобы были нер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bigChildren_Day_vector_wallpaper_0168013a"/>
          <p:cNvPicPr/>
          <p:nvPr/>
        </p:nvPicPr>
        <p:blipFill>
          <a:blip r:embed="rId1"/>
          <a:stretch/>
        </p:blipFill>
        <p:spPr>
          <a:xfrm>
            <a:off x="4952880" y="1752480"/>
            <a:ext cx="3829320" cy="31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44956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 спортивным и здоровы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ивным быть теперь вновь модно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  спортом много ты поймёш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 – и здоровье без таблето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 – и веселье без забо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рузьями спортом занимать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ь, реально круглый год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оз – коньки ты одева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  на лыжи уж встаёш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робуй делать каждый д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дку утром! Будет л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, но привыкнешь скоро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м станешь – это клёв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port015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sport013"/>
          <p:cNvPicPr/>
          <p:nvPr/>
        </p:nvPicPr>
        <p:blipFill>
          <a:blip r:embed="rId1"/>
          <a:stretch/>
        </p:blipFill>
        <p:spPr>
          <a:xfrm>
            <a:off x="5029200" y="1676520"/>
            <a:ext cx="3933720" cy="3467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687960" y="1981800"/>
            <a:ext cx="32576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дион плюс все фанат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ажают вс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 идет, а люди прут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конечно на футбол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команда ваша силь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лупы и игро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лишь тактика бессиль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ивать сейчас г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utbol_001"/>
          <p:cNvPicPr/>
          <p:nvPr/>
        </p:nvPicPr>
        <p:blipFill>
          <a:blip r:embed="rId2"/>
          <a:stretch/>
        </p:blipFill>
        <p:spPr>
          <a:xfrm>
            <a:off x="3200400" y="4419720"/>
            <a:ext cx="52380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1449000"/>
            <a:ext cx="423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й гимн бассейну и вод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й удивительной сред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лещет, бьётся под рук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дит кожу, точит каме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 тело делает стройн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же, легче, вес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любит плавать, тем не новость —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жок, восторг и невесомос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чок ногами и скольжень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облегчается движен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годы прочь, и с плеч дол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одят, смытые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19062012153"/>
          <p:cNvPicPr/>
          <p:nvPr/>
        </p:nvPicPr>
        <p:blipFill>
          <a:blip r:embed="rId1"/>
          <a:stretch/>
        </p:blipFill>
        <p:spPr>
          <a:xfrm>
            <a:off x="4114800" y="1523880"/>
            <a:ext cx="480060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-457200" y="1448640"/>
            <a:ext cx="441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аясь на коньк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льду скользила ф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ежинки, тихо ре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ались в обл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ись – и скор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юда, скорей,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мира снежных 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земной скользящей ф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DSC01678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2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P1010233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60" y="1829520"/>
            <a:ext cx="4048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ошли по ягоды в дальний ле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мо-невидимо там чудес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идали рыжего муравь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стречали белочку у руч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ыскали беленький мы грибо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ли бережно в кузов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, а спелой ягоды и не счес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домой воротимся, станем е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 лесу гуляли бы до утр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уж вечер близится – спать п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ен он для все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ча и успе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мной ты навсе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это судьб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 у всех в кров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ром поднялся и бег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жий воздух вдох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ый образ жизни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астливым будешь т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sport014"/>
          <p:cNvPicPr/>
          <p:nvPr/>
        </p:nvPicPr>
        <p:blipFill>
          <a:blip r:embed="rId1"/>
          <a:stretch/>
        </p:blipFill>
        <p:spPr>
          <a:xfrm>
            <a:off x="3962520" y="2057400"/>
            <a:ext cx="44002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2-12-21T05:54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